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7750-F3D8-4E05-BE34-2ECADAC267D7}"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29T02:27:33Z</dcterms:modified>
  <cp:revision>13</cp:revision>
  <dc:subject/>
  <dc:title>スライド 1</dc:title>
</cp:coreProperties>
</file>