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2F3E57-7851-4657-8132-88411156D4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2ED6E2-CE3E-4E5F-A42E-C2D4CD3ED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EE6B-B88C-4691-86DD-AB5663615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A5D8F-CB3E-47FE-8AE8-27A4706F29C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969140-3F1A-4408-99F9-9EC88A2B58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59E5B-CE56-406C-861B-8445B916FB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EB903-CE9F-4501-A98B-B0ADDA1A32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29153-4199-46F4-924C-4CCB0B8350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180720"/>
            <a:ext cx="8686800" cy="10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37BE09-6DD0-4FC7-921C-6376800D8A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93773B-8D96-45C5-8969-D230C15771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1209B5-81D2-401B-A6BE-9A2CE8073F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142560"/>
            <a:ext cx="8686800" cy="304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049EC-4B6F-437F-A823-AB74ECD376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95363-73FC-4E7B-9D8C-27FE576032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152280" y="457200"/>
            <a:ext cx="8839440" cy="624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52280" y="152280"/>
            <a:ext cx="883944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33000" y="1266840"/>
            <a:ext cx="545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Ap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1360" y="1889280"/>
            <a:ext cx="135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NowLoad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2800" y="2575080"/>
            <a:ext cx="112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StagePlayD/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03480" y="3322800"/>
            <a:ext cx="57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g_DT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93880" y="14335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893880" y="2119320"/>
            <a:ext cx="7921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93880" y="280512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93880" y="349560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66680" y="1357200"/>
            <a:ext cx="76201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709640" y="13572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709640" y="20430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"/>
          <p:cNvCxnSpPr>
            <a:stCxn id="51" idx="1"/>
            <a:endCxn id="52" idx="1"/>
          </p:cNvCxnSpPr>
          <p:nvPr/>
        </p:nvCxnSpPr>
        <p:spPr>
          <a:xfrm>
            <a:off x="170964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4" name=""/>
          <p:cNvCxnSpPr>
            <a:stCxn id="51" idx="3"/>
            <a:endCxn id="52" idx="3"/>
          </p:cNvCxnSpPr>
          <p:nvPr/>
        </p:nvCxnSpPr>
        <p:spPr>
          <a:xfrm>
            <a:off x="228600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5" name=""/>
          <p:cNvSpPr/>
          <p:nvPr/>
        </p:nvSpPr>
        <p:spPr>
          <a:xfrm>
            <a:off x="1678680" y="18144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2043000"/>
            <a:ext cx="22860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362320" y="1357200"/>
            <a:ext cx="22860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" name=""/>
          <p:cNvCxnSpPr>
            <a:stCxn id="57" idx="1"/>
            <a:endCxn id="56" idx="1"/>
          </p:cNvCxnSpPr>
          <p:nvPr/>
        </p:nvCxnSpPr>
        <p:spPr>
          <a:xfrm>
            <a:off x="2362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9" name=""/>
          <p:cNvCxnSpPr>
            <a:stCxn id="57" idx="3"/>
            <a:endCxn id="56" idx="3"/>
          </p:cNvCxnSpPr>
          <p:nvPr/>
        </p:nvCxnSpPr>
        <p:spPr>
          <a:xfrm>
            <a:off x="464832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0" name=""/>
          <p:cNvSpPr/>
          <p:nvPr/>
        </p:nvSpPr>
        <p:spPr>
          <a:xfrm>
            <a:off x="2321280" y="18144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362320" y="23036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14800" y="22860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043000"/>
            <a:ext cx="5331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3414600"/>
            <a:ext cx="5331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63" idx="1"/>
            <a:endCxn id="64" idx="1"/>
          </p:cNvCxnSpPr>
          <p:nvPr/>
        </p:nvCxnSpPr>
        <p:spPr>
          <a:xfrm>
            <a:off x="259092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66" name=""/>
          <p:cNvCxnSpPr>
            <a:stCxn id="63" idx="3"/>
            <a:endCxn id="64" idx="3"/>
          </p:cNvCxnSpPr>
          <p:nvPr/>
        </p:nvCxnSpPr>
        <p:spPr>
          <a:xfrm>
            <a:off x="312408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67" name=""/>
          <p:cNvSpPr/>
          <p:nvPr/>
        </p:nvSpPr>
        <p:spPr>
          <a:xfrm>
            <a:off x="2590920" y="3032280"/>
            <a:ext cx="607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oad, </a:t>
            </a:r>
            <a:r>
              <a:rPr b="0" lang="zh-CN" sz="1000" spc="-1" strike="noStrike">
                <a:solidFill>
                  <a:srgbClr val="000000"/>
                </a:solidFill>
                <a:latin typeface="Arial Narrow"/>
              </a:rPr>
              <a:t>他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57560" y="2728800"/>
            <a:ext cx="576360" cy="1526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26240" y="2500200"/>
            <a:ext cx="549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5756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"/>
          <p:cNvCxnSpPr>
            <a:stCxn id="70" idx="1"/>
            <a:endCxn id="68" idx="1"/>
          </p:cNvCxnSpPr>
          <p:nvPr/>
        </p:nvCxnSpPr>
        <p:spPr>
          <a:xfrm>
            <a:off x="315756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2" name=""/>
          <p:cNvCxnSpPr>
            <a:stCxn id="70" idx="3"/>
            <a:endCxn id="68" idx="3"/>
          </p:cNvCxnSpPr>
          <p:nvPr/>
        </p:nvCxnSpPr>
        <p:spPr>
          <a:xfrm>
            <a:off x="3733920" y="21193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3" name=""/>
          <p:cNvSpPr/>
          <p:nvPr/>
        </p:nvSpPr>
        <p:spPr>
          <a:xfrm>
            <a:off x="3767040" y="3414600"/>
            <a:ext cx="57636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35360" y="3032280"/>
            <a:ext cx="66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BMP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Load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67040" y="2043000"/>
            <a:ext cx="57636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6" name=""/>
          <p:cNvCxnSpPr>
            <a:stCxn id="75" idx="1"/>
            <a:endCxn id="73" idx="1"/>
          </p:cNvCxnSpPr>
          <p:nvPr/>
        </p:nvCxnSpPr>
        <p:spPr>
          <a:xfrm>
            <a:off x="376704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77" name=""/>
          <p:cNvCxnSpPr>
            <a:stCxn id="75" idx="3"/>
            <a:endCxn id="73" idx="3"/>
          </p:cNvCxnSpPr>
          <p:nvPr/>
        </p:nvCxnSpPr>
        <p:spPr>
          <a:xfrm>
            <a:off x="4343400" y="21193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78" name=""/>
          <p:cNvSpPr/>
          <p:nvPr/>
        </p:nvSpPr>
        <p:spPr>
          <a:xfrm>
            <a:off x="4397400" y="22892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349160" y="22716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75776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757760" y="20430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2" name=""/>
          <p:cNvCxnSpPr>
            <a:stCxn id="80" idx="1"/>
            <a:endCxn id="81" idx="1"/>
          </p:cNvCxnSpPr>
          <p:nvPr/>
        </p:nvCxnSpPr>
        <p:spPr>
          <a:xfrm>
            <a:off x="475776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3" name=""/>
          <p:cNvCxnSpPr>
            <a:stCxn id="80" idx="3"/>
            <a:endCxn id="81" idx="3"/>
          </p:cNvCxnSpPr>
          <p:nvPr/>
        </p:nvCxnSpPr>
        <p:spPr>
          <a:xfrm>
            <a:off x="5410080" y="1433520"/>
            <a:ext cx="360" cy="686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4" name=""/>
          <p:cNvSpPr/>
          <p:nvPr/>
        </p:nvSpPr>
        <p:spPr>
          <a:xfrm>
            <a:off x="4726080" y="18144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72160" y="1357200"/>
            <a:ext cx="72864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672160" y="2728800"/>
            <a:ext cx="72864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"/>
          <p:cNvCxnSpPr>
            <a:stCxn id="85" idx="1"/>
            <a:endCxn id="86" idx="1"/>
          </p:cNvCxnSpPr>
          <p:nvPr/>
        </p:nvCxnSpPr>
        <p:spPr>
          <a:xfrm>
            <a:off x="567216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88" name=""/>
          <p:cNvCxnSpPr>
            <a:stCxn id="85" idx="3"/>
            <a:endCxn id="86" idx="3"/>
          </p:cNvCxnSpPr>
          <p:nvPr/>
        </p:nvCxnSpPr>
        <p:spPr>
          <a:xfrm>
            <a:off x="640080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9" name=""/>
          <p:cNvSpPr/>
          <p:nvPr/>
        </p:nvSpPr>
        <p:spPr>
          <a:xfrm>
            <a:off x="5640480" y="2500200"/>
            <a:ext cx="64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Main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4988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101640" y="2957400"/>
            <a:ext cx="298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688000" y="2975040"/>
            <a:ext cx="22860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40480" y="2957400"/>
            <a:ext cx="255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en-US" sz="800" spc="-1" strike="noStrike">
                <a:solidFill>
                  <a:srgbClr val="ff0000"/>
                </a:solidFill>
                <a:latin typeface="Arial Narrow"/>
              </a:rPr>
              <a:t>F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1357200"/>
            <a:ext cx="65232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477120" y="2728800"/>
            <a:ext cx="65232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6" name=""/>
          <p:cNvCxnSpPr>
            <a:stCxn id="94" idx="1"/>
            <a:endCxn id="95" idx="1"/>
          </p:cNvCxnSpPr>
          <p:nvPr/>
        </p:nvCxnSpPr>
        <p:spPr>
          <a:xfrm>
            <a:off x="647712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97" name=""/>
          <p:cNvCxnSpPr>
            <a:stCxn id="94" idx="3"/>
            <a:endCxn id="95" idx="3"/>
          </p:cNvCxnSpPr>
          <p:nvPr/>
        </p:nvCxnSpPr>
        <p:spPr>
          <a:xfrm>
            <a:off x="7129440" y="1433520"/>
            <a:ext cx="360" cy="13719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98" name=""/>
          <p:cNvSpPr/>
          <p:nvPr/>
        </p:nvSpPr>
        <p:spPr>
          <a:xfrm>
            <a:off x="6445440" y="2500200"/>
            <a:ext cx="68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UnActiv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238880" y="1281240"/>
            <a:ext cx="457200" cy="2438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05880" y="1357200"/>
            <a:ext cx="804600" cy="152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805880" y="3414600"/>
            <a:ext cx="804600" cy="152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1"/>
            <a:endCxn id="101" idx="1"/>
          </p:cNvCxnSpPr>
          <p:nvPr/>
        </p:nvCxnSpPr>
        <p:spPr>
          <a:xfrm>
            <a:off x="78058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03" name=""/>
          <p:cNvCxnSpPr>
            <a:stCxn id="100" idx="3"/>
            <a:endCxn id="101" idx="3"/>
          </p:cNvCxnSpPr>
          <p:nvPr/>
        </p:nvCxnSpPr>
        <p:spPr>
          <a:xfrm>
            <a:off x="8610480" y="1433520"/>
            <a:ext cx="360" cy="20577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7781760" y="3033720"/>
            <a:ext cx="825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StopAllWav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 Narrow"/>
              </a:rPr>
              <a:t>/ Cl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458200" y="1204920"/>
            <a:ext cx="34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60240" y="960480"/>
            <a:ext cx="1001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へ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6400" y="2043000"/>
            <a:ext cx="127080" cy="152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886200" y="2233440"/>
            <a:ext cx="1657440" cy="495360"/>
          </a:xfrm>
          <a:custGeom>
            <a:avLst/>
            <a:gdLst/>
            <a:ahLst/>
            <a:rect l="l" t="t" r="r" b="b"/>
            <a:pathLst>
              <a:path w="1044" h="312">
                <a:moveTo>
                  <a:pt x="1044" y="0"/>
                </a:moveTo>
                <a:cubicBezTo>
                  <a:pt x="1033" y="17"/>
                  <a:pt x="1040" y="66"/>
                  <a:pt x="978" y="102"/>
                </a:cubicBezTo>
                <a:cubicBezTo>
                  <a:pt x="916" y="138"/>
                  <a:pt x="835" y="181"/>
                  <a:pt x="672" y="216"/>
                </a:cubicBezTo>
                <a:cubicBezTo>
                  <a:pt x="509" y="251"/>
                  <a:pt x="248" y="288"/>
                  <a:pt x="0" y="312"/>
                </a:cubicBezTo>
              </a:path>
            </a:pathLst>
          </a:custGeom>
          <a:noFill/>
          <a:ln w="93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33920" y="3870360"/>
            <a:ext cx="914400" cy="0"/>
          </a:xfrm>
          <a:prstGeom prst="line">
            <a:avLst/>
          </a:prstGeom>
          <a:ln w="9360">
            <a:solidFill>
              <a:srgbClr val="0000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"/>
          <p:cNvCxnSpPr>
            <a:stCxn id="68" idx="3"/>
            <a:endCxn id="109" idx="0"/>
          </p:cNvCxnSpPr>
          <p:nvPr/>
        </p:nvCxnSpPr>
        <p:spPr>
          <a:xfrm>
            <a:off x="3733920" y="2805120"/>
            <a:ext cx="360" cy="10656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cxnSp>
        <p:nvCxnSpPr>
          <p:cNvPr id="111" name=""/>
          <p:cNvCxnSpPr>
            <a:stCxn id="56" idx="3"/>
            <a:endCxn id="109" idx="1"/>
          </p:cNvCxnSpPr>
          <p:nvPr/>
        </p:nvCxnSpPr>
        <p:spPr>
          <a:xfrm flipH="1">
            <a:off x="4647600" y="2119320"/>
            <a:ext cx="1080" cy="1751400"/>
          </a:xfrm>
          <a:prstGeom prst="straightConnector1">
            <a:avLst/>
          </a:prstGeom>
          <a:ln w="9360">
            <a:solidFill>
              <a:srgbClr val="0000ff"/>
            </a:solidFill>
            <a:prstDash val="dash"/>
            <a:miter/>
          </a:ln>
        </p:spPr>
      </p:cxnSp>
      <p:sp>
        <p:nvSpPr>
          <p:cNvPr id="112" name=""/>
          <p:cNvSpPr/>
          <p:nvPr/>
        </p:nvSpPr>
        <p:spPr>
          <a:xfrm>
            <a:off x="4939920" y="3946680"/>
            <a:ext cx="34628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、２つ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同時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ctiv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になってい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間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が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た場合（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Alt+Enter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ど）は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も忘れず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すること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この区間で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::stageID == STAGE_NOWLOADING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であ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※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DTX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は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g_App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Child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なので、自動的に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Invalidate / Restore </a:t>
            </a:r>
            <a:r>
              <a:rPr b="0" lang="ja-JP" sz="1000" spc="-1" strike="noStrike">
                <a:solidFill>
                  <a:srgbClr val="0000ff"/>
                </a:solidFill>
                <a:latin typeface="Arial"/>
              </a:rPr>
              <a:t>され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990720" y="1204920"/>
            <a:ext cx="34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5360" y="960480"/>
            <a:ext cx="1077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585144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Select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180720"/>
            <a:ext cx="8686800" cy="228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先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228600"/>
            <a:ext cx="2209680" cy="459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最終更新： 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2006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31</a:t>
            </a: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Arial"/>
              </a:rPr>
              <a:t>適用： </a:t>
            </a:r>
            <a:r>
              <a:rPr b="1" lang="ja-JP" sz="1200" spc="-1" strike="noStrike">
                <a:solidFill>
                  <a:srgbClr val="ff0000"/>
                </a:solidFill>
                <a:latin typeface="Arial"/>
              </a:rPr>
              <a:t>064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005440" y="2498760"/>
            <a:ext cx="333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Arial"/>
              </a:rPr>
              <a:t>先行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3986280" y="394668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1751400" y="5241960"/>
            <a:ext cx="3631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で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が呼ばれる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　→　先行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した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も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されてしまう！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81720" y="5638680"/>
            <a:ext cx="5135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CStageNowLoading::UnActivate()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するまえに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g_App::stageID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STAGE_PLAY </a:t>
            </a:r>
            <a:r>
              <a:rPr b="0" lang="ja-JP" sz="1000" spc="-1" strike="noStrike">
                <a:solidFill>
                  <a:srgbClr val="ff0000"/>
                </a:solidFill>
                <a:latin typeface="Arial"/>
              </a:rPr>
              <a:t>に変えてしまう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ことで区別する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_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ときだけ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を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Invalid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する。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219320" y="5257800"/>
            <a:ext cx="447480" cy="4428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 flipH="1">
            <a:off x="3123720" y="4495680"/>
            <a:ext cx="83844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2971440" y="2133720"/>
            <a:ext cx="2057400" cy="297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5638680"/>
            <a:ext cx="380880" cy="228600"/>
          </a:xfrm>
          <a:prstGeom prst="rightArrow">
            <a:avLst>
              <a:gd name="adj1" fmla="val 50000"/>
              <a:gd name="adj2" fmla="val 4165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076040" y="592200"/>
            <a:ext cx="330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■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StagePlayD/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の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ctivate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には（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WAV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などで）時間がかかるので、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NowLoading </a:t>
            </a: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中に行う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80880" y="45720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MyApplic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352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3520" y="16765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DirectInput (D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31240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 (SM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33520" y="2133720"/>
            <a:ext cx="122076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Input (M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520" y="2590920"/>
            <a:ext cx="12207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MIDIOutput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33520" y="3581280"/>
            <a:ext cx="1220760" cy="381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imerE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ystemSoun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3520" y="4572000"/>
            <a:ext cx="2209680" cy="19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86000" y="12193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onso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167652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IsP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886200" y="457200"/>
            <a:ext cx="1220760" cy="1371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884760" y="22860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11560" y="27432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113360" y="32004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884760" y="38098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13360" y="4267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884760" y="48006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4760" y="5257800"/>
            <a:ext cx="1220760" cy="3808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886200" y="5791320"/>
            <a:ext cx="1220760" cy="6094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4800600"/>
            <a:ext cx="10670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ound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11280" y="50292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Textur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257800"/>
            <a:ext cx="106524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SurfaceManag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28" idx="3"/>
            <a:endCxn id="136" idx="1"/>
          </p:cNvCxnSpPr>
          <p:nvPr/>
        </p:nvCxnSpPr>
        <p:spPr>
          <a:xfrm>
            <a:off x="1753920" y="186660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50" name=""/>
          <p:cNvCxnSpPr>
            <a:stCxn id="130" idx="3"/>
            <a:endCxn id="136" idx="1"/>
          </p:cNvCxnSpPr>
          <p:nvPr/>
        </p:nvCxnSpPr>
        <p:spPr>
          <a:xfrm flipV="1">
            <a:off x="1753920" y="1866600"/>
            <a:ext cx="532440" cy="457920"/>
          </a:xfrm>
          <a:prstGeom prst="bentConnector3">
            <a:avLst>
              <a:gd name="adj1" fmla="val 49797"/>
            </a:avLst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457200" y="762120"/>
            <a:ext cx="106668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D3DDispla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Chi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324480" y="3124080"/>
            <a:ext cx="122076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Result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62520" y="1523880"/>
            <a:ext cx="106812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62520" y="7621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et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62520" y="9907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BoxDe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962520" y="6095880"/>
            <a:ext cx="106524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In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962520" y="1219320"/>
            <a:ext cx="1065240" cy="2286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808080"/>
                </a:solidFill>
                <a:latin typeface="ＭＳ ゴシック"/>
              </a:rPr>
              <a:t>SongsD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190512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c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2920" y="4191120"/>
            <a:ext cx="23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別モノ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1676520" y="3428640"/>
            <a:ext cx="380880" cy="7621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676520" y="4419720"/>
            <a:ext cx="380880" cy="45720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094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ヘッダ情報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PM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WAV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295280" y="55627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57913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MPTEX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295280" y="60199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95280" y="6248520"/>
            <a:ext cx="685800" cy="228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BGAPAN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562720"/>
            <a:ext cx="68580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#AVI</a:t>
            </a: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リスト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7913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Av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2" name=""/>
          <p:cNvCxnSpPr>
            <a:stCxn id="129" idx="3"/>
            <a:endCxn id="133" idx="1"/>
          </p:cNvCxnSpPr>
          <p:nvPr/>
        </p:nvCxnSpPr>
        <p:spPr>
          <a:xfrm>
            <a:off x="1753920" y="3314520"/>
            <a:ext cx="53244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838080" y="2819520"/>
            <a:ext cx="533520" cy="152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HMIDI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334120" y="1523880"/>
            <a:ext cx="912600" cy="228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ＭＳ ゴシック"/>
              </a:rPr>
              <a:t>So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3"/>
            <a:endCxn id="174" idx="1"/>
          </p:cNvCxnSpPr>
          <p:nvPr/>
        </p:nvCxnSpPr>
        <p:spPr>
          <a:xfrm>
            <a:off x="5030280" y="1638000"/>
            <a:ext cx="3042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cxnSp>
        <p:nvCxnSpPr>
          <p:cNvPr id="176" name=""/>
          <p:cNvCxnSpPr>
            <a:stCxn id="174" idx="2"/>
            <a:endCxn id="159" idx="0"/>
          </p:cNvCxnSpPr>
          <p:nvPr/>
        </p:nvCxnSpPr>
        <p:spPr>
          <a:xfrm flipV="1" rot="10800000">
            <a:off x="5790600" y="1752120"/>
            <a:ext cx="1080" cy="1533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sm" type="oval" w="sm"/>
          </a:ln>
        </p:spPr>
      </p:cxnSp>
      <p:sp>
        <p:nvSpPr>
          <p:cNvPr id="177" name=""/>
          <p:cNvSpPr/>
          <p:nvPr/>
        </p:nvSpPr>
        <p:spPr>
          <a:xfrm>
            <a:off x="5871240" y="838080"/>
            <a:ext cx="12438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リスト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が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持ってい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4952880" y="1066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10200" y="5410080"/>
            <a:ext cx="10242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～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は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管理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4952880" y="5638680"/>
            <a:ext cx="914400" cy="533520"/>
          </a:xfrm>
          <a:prstGeom prst="line">
            <a:avLst/>
          </a:prstGeom>
          <a:ln w="9360">
            <a:solidFill>
              <a:srgbClr val="00ccff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341400" y="418320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62120" y="76212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EnumScor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作成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6212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Tit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2" idx="2"/>
            <a:endCxn id="183" idx="0"/>
          </p:cNvCxnSpPr>
          <p:nvPr/>
        </p:nvCxnSpPr>
        <p:spPr>
          <a:xfrm flipV="1" rot="10800000">
            <a:off x="1523160" y="1218960"/>
            <a:ext cx="1080" cy="305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2743200" y="15238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Op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74320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Configur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Config.ini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"/>
          <p:cNvCxnSpPr>
            <a:stCxn id="183" idx="3"/>
            <a:endCxn id="185" idx="1"/>
          </p:cNvCxnSpPr>
          <p:nvPr/>
        </p:nvCxnSpPr>
        <p:spPr>
          <a:xfrm>
            <a:off x="2286000" y="175212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88" name=""/>
          <p:cNvCxnSpPr>
            <a:stCxn id="183" idx="3"/>
            <a:endCxn id="186" idx="1"/>
          </p:cNvCxnSpPr>
          <p:nvPr/>
        </p:nvCxnSpPr>
        <p:spPr>
          <a:xfrm>
            <a:off x="2286000" y="175212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9" name=""/>
          <p:cNvSpPr/>
          <p:nvPr/>
        </p:nvSpPr>
        <p:spPr>
          <a:xfrm>
            <a:off x="2743200" y="28954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Selec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tageEnumScores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の持つ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リストを参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0" name=""/>
          <p:cNvCxnSpPr>
            <a:stCxn id="183" idx="3"/>
            <a:endCxn id="189" idx="1"/>
          </p:cNvCxnSpPr>
          <p:nvPr/>
        </p:nvCxnSpPr>
        <p:spPr>
          <a:xfrm>
            <a:off x="2286000" y="1752480"/>
            <a:ext cx="457920" cy="13723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91" name=""/>
          <p:cNvSpPr/>
          <p:nvPr/>
        </p:nvSpPr>
        <p:spPr>
          <a:xfrm>
            <a:off x="274320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Loa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曲を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g_DTX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に読み込む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24280" y="43434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05720" y="365760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Resul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～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.score.ini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・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results.db </a:t>
            </a:r>
            <a:r>
              <a:rPr b="0" lang="ja-JP" sz="800" spc="-1" strike="noStrike">
                <a:solidFill>
                  <a:srgbClr val="ff0000"/>
                </a:solidFill>
                <a:latin typeface="ＭＳ ゴシック"/>
              </a:rPr>
              <a:t>を更新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89" idx="2"/>
            <a:endCxn id="191" idx="0"/>
          </p:cNvCxnSpPr>
          <p:nvPr/>
        </p:nvCxnSpPr>
        <p:spPr>
          <a:xfrm flipV="1" rot="10800000">
            <a:off x="3504600" y="3352320"/>
            <a:ext cx="108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"/>
          <p:cNvCxnSpPr>
            <a:stCxn id="191" idx="3"/>
            <a:endCxn id="196" idx="1"/>
          </p:cNvCxnSpPr>
          <p:nvPr/>
        </p:nvCxnSpPr>
        <p:spPr>
          <a:xfrm>
            <a:off x="426708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"/>
          <p:cNvCxnSpPr>
            <a:stCxn id="191" idx="3"/>
            <a:endCxn id="192" idx="1"/>
          </p:cNvCxnSpPr>
          <p:nvPr/>
        </p:nvCxnSpPr>
        <p:spPr>
          <a:xfrm>
            <a:off x="4267080" y="388584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"/>
          <p:cNvCxnSpPr>
            <a:stCxn id="196" idx="3"/>
            <a:endCxn id="193" idx="1"/>
          </p:cNvCxnSpPr>
          <p:nvPr/>
        </p:nvCxnSpPr>
        <p:spPr>
          <a:xfrm>
            <a:off x="6248520" y="3885840"/>
            <a:ext cx="4579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9" name=""/>
          <p:cNvCxnSpPr>
            <a:stCxn id="192" idx="3"/>
            <a:endCxn id="193" idx="1"/>
          </p:cNvCxnSpPr>
          <p:nvPr/>
        </p:nvCxnSpPr>
        <p:spPr>
          <a:xfrm flipV="1">
            <a:off x="6248520" y="3885480"/>
            <a:ext cx="457920" cy="686520"/>
          </a:xfrm>
          <a:prstGeom prst="bentConnector3">
            <a:avLst>
              <a:gd name="adj1" fmla="val 499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0" name=""/>
          <p:cNvCxnSpPr>
            <a:stCxn id="192" idx="0"/>
          </p:cNvCxnSpPr>
          <p:nvPr/>
        </p:nvCxnSpPr>
        <p:spPr>
          <a:xfrm flipV="1" rot="16200000">
            <a:off x="4357800" y="3214800"/>
            <a:ext cx="1045440" cy="121212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4724280" y="3657600"/>
            <a:ext cx="152424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Play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567760" y="3276720"/>
            <a:ext cx="427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ＭＳ ゴシック"/>
              </a:rPr>
              <a:t>演奏中断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3" idx="0"/>
            <a:endCxn id="189" idx="3"/>
          </p:cNvCxnSpPr>
          <p:nvPr/>
        </p:nvCxnSpPr>
        <p:spPr>
          <a:xfrm flipV="1" rot="16200000">
            <a:off x="5600160" y="1789920"/>
            <a:ext cx="534240" cy="3201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3" name=""/>
          <p:cNvSpPr/>
          <p:nvPr/>
        </p:nvSpPr>
        <p:spPr>
          <a:xfrm>
            <a:off x="762120" y="2209680"/>
            <a:ext cx="15238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tageGameE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4" name=""/>
          <p:cNvCxnSpPr>
            <a:stCxn id="183" idx="2"/>
            <a:endCxn id="203" idx="0"/>
          </p:cNvCxnSpPr>
          <p:nvPr/>
        </p:nvCxnSpPr>
        <p:spPr>
          <a:xfrm flipV="1" rot="10800000">
            <a:off x="1523160" y="1980720"/>
            <a:ext cx="1080" cy="229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010280" y="4495680"/>
            <a:ext cx="685800" cy="304920"/>
          </a:xfrm>
          <a:prstGeom prst="wedgeRectCallout">
            <a:avLst>
              <a:gd name="adj1" fmla="val 14583"/>
              <a:gd name="adj2" fmla="val -190106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ＭＳ ゴシック"/>
              </a:rPr>
              <a:t>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600200" y="4800600"/>
            <a:ext cx="2209680" cy="739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745" y="3337"/>
                </a:moveTo>
                <a:lnTo>
                  <a:pt x="-2622" y="3337"/>
                </a:lnTo>
                <a:lnTo>
                  <a:pt x="-2622" y="-30592"/>
                </a:lnTo>
                <a:lnTo>
                  <a:pt x="18450" y="-3824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選曲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StageSelect::GetPlayScore()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で、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と難易度レベルを取得する。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どのみち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on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も使うので、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Score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をナマで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渡したりはしない。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800600" y="2362320"/>
            <a:ext cx="1600200" cy="473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029" y="5219"/>
                </a:moveTo>
                <a:lnTo>
                  <a:pt x="-5293" y="5219"/>
                </a:lnTo>
                <a:lnTo>
                  <a:pt x="-5293" y="56972"/>
                </a:lnTo>
                <a:lnTo>
                  <a:pt x="-4971" y="69149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読み込み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 ←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演奏するデータ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5029200" y="5410080"/>
            <a:ext cx="2895480" cy="6858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2168" y="3600"/>
                </a:moveTo>
                <a:lnTo>
                  <a:pt x="25733" y="3600"/>
                </a:lnTo>
                <a:lnTo>
                  <a:pt x="25733" y="-29200"/>
                </a:lnTo>
                <a:lnTo>
                  <a:pt x="11309" y="-37700"/>
                </a:lnTo>
              </a:path>
            </a:pathLst>
          </a:custGeom>
          <a:solidFill>
            <a:srgbClr val="ffff99"/>
          </a:solidFill>
          <a:ln w="9360">
            <a:solidFill>
              <a:srgbClr val="3366ff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800" spc="-1" strike="noStrike">
                <a:solidFill>
                  <a:srgbClr val="000000"/>
                </a:solidFill>
                <a:latin typeface="ＭＳ ゴシック"/>
              </a:rPr>
              <a:t>演奏画面からの出力：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DTX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Result.m_ScoreIni (StagePlayD/G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から設定済み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g_StagePlayD.m_ActChips </a:t>
            </a:r>
            <a:r>
              <a:rPr b="0" lang="ja-JP" sz="800" spc="-1" strike="noStrike">
                <a:solidFill>
                  <a:srgbClr val="000000"/>
                </a:solidFill>
                <a:latin typeface="ＭＳ ゴシック"/>
              </a:rPr>
              <a:t>（空うち用特例参照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433560" y="762120"/>
            <a:ext cx="17438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ＭＳ ゴシック"/>
              </a:rPr>
              <a:t>063b</a:t>
            </a:r>
            <a:r>
              <a:rPr b="0" lang="zh-CN" sz="3200" spc="-1" strike="noStrike">
                <a:solidFill>
                  <a:srgbClr val="ff0000"/>
                </a:solidFill>
                <a:latin typeface="ＭＳ ゴシック"/>
              </a:rPr>
              <a:t>以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enji</cp:lastModifiedBy>
  <dcterms:modified xsi:type="dcterms:W3CDTF">2006-12-31T05:52:00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