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7EEC4-828E-4FA7-832A-FC2B08420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B79E-431F-4076-A16A-2DAB17B2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3B415-25F7-4FC4-BB7C-280A17A14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282-BA3E-4D21-80FB-B604C84C7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B7211-6DF6-459A-8AE3-0B47F86A2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94AF-89F2-4E83-BD31-DAFBBC968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1AEAD-B21F-43CA-9CF0-2820C6C6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4CB6A-6108-498D-B285-05C14990A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B78F-B3B1-4BB7-9DC3-205810BD2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624A7-7B16-41E9-B34E-5334AD54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DB95-A4B0-4CA1-848C-C42DA770B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338F-DD53-45E9-80CF-02936B911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FC68-CA24-4562-916A-CA341E804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959440" y="5229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191640" y="252360"/>
            <a:ext cx="729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481880" y="5229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43" idx="3"/>
            <a:endCxn id="53" idx="1"/>
          </p:cNvCxnSpPr>
          <p:nvPr/>
        </p:nvCxnSpPr>
        <p:spPr>
          <a:xfrm>
            <a:off x="7242120" y="1559520"/>
            <a:ext cx="24012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4" idx="3"/>
            <a:endCxn id="54" idx="1"/>
          </p:cNvCxnSpPr>
          <p:nvPr/>
        </p:nvCxnSpPr>
        <p:spPr>
          <a:xfrm>
            <a:off x="7234200" y="275040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3"/>
            <a:endCxn id="57" idx="1"/>
          </p:cNvCxnSpPr>
          <p:nvPr/>
        </p:nvCxnSpPr>
        <p:spPr>
          <a:xfrm flipV="1">
            <a:off x="7234200" y="3470400"/>
            <a:ext cx="248040" cy="6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" name=""/>
          <p:cNvCxnSpPr>
            <a:stCxn id="49" idx="3"/>
            <a:endCxn id="63" idx="1"/>
          </p:cNvCxnSpPr>
          <p:nvPr/>
        </p:nvCxnSpPr>
        <p:spPr>
          <a:xfrm>
            <a:off x="7234200" y="878400"/>
            <a:ext cx="238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50" idx="3"/>
            <a:endCxn id="67" idx="1"/>
          </p:cNvCxnSpPr>
          <p:nvPr/>
        </p:nvCxnSpPr>
        <p:spPr>
          <a:xfrm>
            <a:off x="7234200" y="2174040"/>
            <a:ext cx="23868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084720" y="5445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45" idx="3"/>
            <a:endCxn id="55" idx="1"/>
          </p:cNvCxnSpPr>
          <p:nvPr/>
        </p:nvCxnSpPr>
        <p:spPr>
          <a:xfrm>
            <a:off x="7234200" y="469476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/>
          </a:solidFill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51" idx="3"/>
            <a:endCxn id="76" idx="1"/>
          </p:cNvCxnSpPr>
          <p:nvPr/>
        </p:nvCxnSpPr>
        <p:spPr>
          <a:xfrm flipV="1">
            <a:off x="7218360" y="4047120"/>
            <a:ext cx="25452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"/>
          <p:cNvCxnSpPr>
            <a:stCxn id="46" idx="3"/>
            <a:endCxn id="56" idx="1"/>
          </p:cNvCxnSpPr>
          <p:nvPr/>
        </p:nvCxnSpPr>
        <p:spPr>
          <a:xfrm>
            <a:off x="7236000" y="5342760"/>
            <a:ext cx="2462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1" name=""/>
          <p:cNvCxnSpPr>
            <a:stCxn id="52" idx="3"/>
            <a:endCxn id="80" idx="1"/>
          </p:cNvCxnSpPr>
          <p:nvPr/>
        </p:nvCxnSpPr>
        <p:spPr>
          <a:xfrm>
            <a:off x="7234200" y="5980680"/>
            <a:ext cx="248040" cy="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627280" y="206064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>
            <a:stCxn id="87" idx="3"/>
            <a:endCxn id="50" idx="1"/>
          </p:cNvCxnSpPr>
          <p:nvPr/>
        </p:nvCxnSpPr>
        <p:spPr>
          <a:xfrm>
            <a:off x="3622680" y="2174040"/>
            <a:ext cx="233568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2627280" y="393372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非活性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3"/>
            <a:endCxn id="51" idx="1"/>
          </p:cNvCxnSpPr>
          <p:nvPr/>
        </p:nvCxnSpPr>
        <p:spPr>
          <a:xfrm>
            <a:off x="3622680" y="4047480"/>
            <a:ext cx="2319840" cy="5040"/>
          </a:xfrm>
          <a:prstGeom prst="bentConnector3">
            <a:avLst>
              <a:gd name="adj1" fmla="val 502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1" name=""/>
          <p:cNvSpPr/>
          <p:nvPr/>
        </p:nvSpPr>
        <p:spPr>
          <a:xfrm>
            <a:off x="395280" y="2421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Activity</a:t>
            </a: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を使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stCxn id="93" idx="3"/>
            <a:endCxn id="47" idx="1"/>
          </p:cNvCxnSpPr>
          <p:nvPr/>
        </p:nvCxnSpPr>
        <p:spPr>
          <a:xfrm>
            <a:off x="3622680" y="3471120"/>
            <a:ext cx="2335680" cy="576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2627280" y="335772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中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627280" y="765000"/>
            <a:ext cx="995400" cy="22716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3"/>
            <a:endCxn id="49" idx="1"/>
          </p:cNvCxnSpPr>
          <p:nvPr/>
        </p:nvCxnSpPr>
        <p:spPr>
          <a:xfrm flipV="1">
            <a:off x="3622680" y="878400"/>
            <a:ext cx="2335680" cy="72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3"/>
            <a:endCxn id="43" idx="1"/>
          </p:cNvCxnSpPr>
          <p:nvPr/>
        </p:nvCxnSpPr>
        <p:spPr>
          <a:xfrm>
            <a:off x="3622680" y="878760"/>
            <a:ext cx="2343600" cy="681120"/>
          </a:xfrm>
          <a:prstGeom prst="bentConnector3">
            <a:avLst>
              <a:gd name="adj1" fmla="val 502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479556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795560" y="12682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5229360"/>
            <a:ext cx="995400" cy="226800"/>
          </a:xfrm>
          <a:prstGeom prst="flowChartAlternate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利用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99" idx="3"/>
            <a:endCxn id="46" idx="1"/>
          </p:cNvCxnSpPr>
          <p:nvPr/>
        </p:nvCxnSpPr>
        <p:spPr>
          <a:xfrm>
            <a:off x="3622680" y="5342760"/>
            <a:ext cx="233712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99" idx="3"/>
            <a:endCxn id="52" idx="1"/>
          </p:cNvCxnSpPr>
          <p:nvPr/>
        </p:nvCxnSpPr>
        <p:spPr>
          <a:xfrm>
            <a:off x="3622680" y="5342760"/>
            <a:ext cx="2335680" cy="638280"/>
          </a:xfrm>
          <a:prstGeom prst="bentConnector3">
            <a:avLst>
              <a:gd name="adj1" fmla="val 5026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4795560" y="50864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795560" y="57340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76032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re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8" idx="2"/>
            <a:endCxn id="109" idx="1"/>
          </p:cNvCxnSpPr>
          <p:nvPr/>
        </p:nvCxnSpPr>
        <p:spPr>
          <a:xfrm flipH="1" rot="16200000">
            <a:off x="453600" y="502200"/>
            <a:ext cx="45972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1" name=""/>
          <p:cNvSpPr/>
          <p:nvPr/>
        </p:nvSpPr>
        <p:spPr>
          <a:xfrm>
            <a:off x="1692360" y="1413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109" idx="3"/>
            <a:endCxn id="112" idx="1"/>
          </p:cNvCxnSpPr>
          <p:nvPr/>
        </p:nvCxnSpPr>
        <p:spPr>
          <a:xfrm>
            <a:off x="1463760" y="874440"/>
            <a:ext cx="2892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4" name=""/>
          <p:cNvCxnSpPr>
            <a:stCxn id="109" idx="3"/>
            <a:endCxn id="111" idx="0"/>
          </p:cNvCxnSpPr>
          <p:nvPr/>
        </p:nvCxnSpPr>
        <p:spPr>
          <a:xfrm>
            <a:off x="1463760" y="874440"/>
            <a:ext cx="883440" cy="538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>
            <a:stCxn id="109" idx="3"/>
            <a:endCxn id="115" idx="1"/>
          </p:cNvCxnSpPr>
          <p:nvPr/>
        </p:nvCxnSpPr>
        <p:spPr>
          <a:xfrm>
            <a:off x="1463760" y="874800"/>
            <a:ext cx="2892960" cy="697680"/>
          </a:xfrm>
          <a:prstGeom prst="bentConnector3">
            <a:avLst>
              <a:gd name="adj1" fmla="val 7507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" name=""/>
          <p:cNvCxnSpPr>
            <a:stCxn id="109" idx="3"/>
            <a:endCxn id="116" idx="1"/>
          </p:cNvCxnSpPr>
          <p:nvPr/>
        </p:nvCxnSpPr>
        <p:spPr>
          <a:xfrm>
            <a:off x="1463760" y="874800"/>
            <a:ext cx="2892960" cy="1877040"/>
          </a:xfrm>
          <a:prstGeom prst="bentConnector3">
            <a:avLst>
              <a:gd name="adj1" fmla="val 6261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3635280" y="1341360"/>
            <a:ext cx="298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3480" y="2479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642840" y="620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336400" y="9558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98200" y="1254240"/>
            <a:ext cx="124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初期化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実体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0" name=""/>
          <p:cNvCxnSpPr>
            <a:stCxn id="112" idx="3"/>
            <a:endCxn id="140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15" idx="3"/>
            <a:endCxn id="134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16" idx="3"/>
            <a:endCxn id="135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34" idx="3"/>
            <a:endCxn id="144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35" idx="3"/>
            <a:endCxn id="145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38" idx="3"/>
            <a:endCxn id="148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23" idx="3"/>
            <a:endCxn id="138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40" idx="3"/>
            <a:endCxn id="158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41" idx="3"/>
            <a:endCxn id="162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64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0" name=""/>
          <p:cNvCxnSpPr>
            <a:stCxn id="124" idx="3"/>
            <a:endCxn id="136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36" idx="3"/>
            <a:endCxn id="146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2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>
            <a:stCxn id="125" idx="3"/>
            <a:endCxn id="137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42" idx="3"/>
            <a:endCxn id="172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37" idx="3"/>
            <a:endCxn id="147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>
            <a:stCxn id="143" idx="3"/>
            <a:endCxn id="177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26" idx="3"/>
            <a:endCxn id="143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64500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起動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09" idx="3"/>
            <a:endCxn id="141" idx="1"/>
          </p:cNvCxnSpPr>
          <p:nvPr/>
        </p:nvCxnSpPr>
        <p:spPr>
          <a:xfrm>
            <a:off x="1463760" y="874440"/>
            <a:ext cx="4494960" cy="1300680"/>
          </a:xfrm>
          <a:prstGeom prst="bentConnector3">
            <a:avLst>
              <a:gd name="adj1" fmla="val 44365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0" name=""/>
          <p:cNvSpPr/>
          <p:nvPr/>
        </p:nvSpPr>
        <p:spPr>
          <a:xfrm>
            <a:off x="3586320" y="1844640"/>
            <a:ext cx="4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必要あれば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と④の間に…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56680" y="2924280"/>
            <a:ext cx="2104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てない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④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reat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の時点では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されない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203640" y="2781360"/>
            <a:ext cx="36036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600" y="1916280"/>
            <a:ext cx="3448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が先なので、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OneTimeSceneInit()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で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irect3D / DirectDraw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を使っ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初期化が行える。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1763640" y="1700280"/>
            <a:ext cx="287280" cy="2160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3203640" y="2204640"/>
            <a:ext cx="360360" cy="79236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200" idx="2"/>
            <a:endCxn id="201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1692360" y="335772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"/>
          <p:cNvCxnSpPr>
            <a:stCxn id="201" idx="3"/>
            <a:endCxn id="203" idx="0"/>
          </p:cNvCxnSpPr>
          <p:nvPr/>
        </p:nvCxnSpPr>
        <p:spPr>
          <a:xfrm>
            <a:off x="1463760" y="1522440"/>
            <a:ext cx="883440" cy="1836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6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nder, Prese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356000" y="4626000"/>
            <a:ext cx="127656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35600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13320" y="2422440"/>
            <a:ext cx="1058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489560" y="444168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実体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25200" y="511956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95800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959440" y="5291280"/>
            <a:ext cx="127656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81880" y="4626000"/>
            <a:ext cx="1276200" cy="22716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7481880" y="5291280"/>
            <a:ext cx="1276200" cy="22680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raw 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Main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04" idx="3"/>
            <a:endCxn id="225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06" idx="3"/>
            <a:endCxn id="219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07" idx="3"/>
            <a:endCxn id="220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38" name=""/>
          <p:cNvCxnSpPr>
            <a:stCxn id="219" idx="3"/>
            <a:endCxn id="229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20" idx="3"/>
            <a:endCxn id="230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240" name=""/>
          <p:cNvCxnSpPr>
            <a:stCxn id="223" idx="3"/>
            <a:endCxn id="233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08" idx="3"/>
            <a:endCxn id="223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25" idx="3"/>
            <a:endCxn id="243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8" name=""/>
          <p:cNvCxnSpPr>
            <a:stCxn id="226" idx="3"/>
            <a:endCxn id="247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49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6084720" y="485928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84720" y="5506920"/>
            <a:ext cx="1151280" cy="154080"/>
          </a:xfrm>
          <a:prstGeom prst="rect">
            <a:avLst/>
          </a:prstGeom>
          <a:solidFill>
            <a:srgbClr val="ffff99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5" name=""/>
          <p:cNvCxnSpPr>
            <a:stCxn id="209" idx="3"/>
            <a:endCxn id="221" idx="1"/>
          </p:cNvCxnSpPr>
          <p:nvPr/>
        </p:nvCxnSpPr>
        <p:spPr>
          <a:xfrm>
            <a:off x="5632560" y="4739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21" idx="3"/>
            <a:endCxn id="231" idx="1"/>
          </p:cNvCxnSpPr>
          <p:nvPr/>
        </p:nvCxnSpPr>
        <p:spPr>
          <a:xfrm>
            <a:off x="7234200" y="4739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57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ff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10" idx="3"/>
            <a:endCxn id="222" idx="1"/>
          </p:cNvCxnSpPr>
          <p:nvPr/>
        </p:nvCxnSpPr>
        <p:spPr>
          <a:xfrm>
            <a:off x="5632560" y="540504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stCxn id="227" idx="3"/>
            <a:endCxn id="257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1" name=""/>
          <p:cNvCxnSpPr>
            <a:stCxn id="222" idx="3"/>
            <a:endCxn id="232" idx="1"/>
          </p:cNvCxnSpPr>
          <p:nvPr/>
        </p:nvCxnSpPr>
        <p:spPr>
          <a:xfrm>
            <a:off x="7235640" y="540504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9999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28" idx="3"/>
            <a:endCxn id="262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cxnSp>
        <p:nvCxnSpPr>
          <p:cNvPr id="264" name=""/>
          <p:cNvCxnSpPr>
            <a:stCxn id="211" idx="3"/>
            <a:endCxn id="228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</p:cxnSp>
      <p:sp>
        <p:nvSpPr>
          <p:cNvPr id="265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59640" y="4292640"/>
            <a:ext cx="0" cy="360360"/>
          </a:xfrm>
          <a:prstGeom prst="line">
            <a:avLst/>
          </a:prstGeom>
          <a:ln w="9360">
            <a:solidFill>
              <a:srgbClr val="000000">
                <a:alpha val="3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30000"/>
            </a:srgbClr>
          </a:solidFill>
          <a:ln w="9360">
            <a:solidFill>
              <a:srgbClr val="000000">
                <a:alpha val="3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9999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826920" y="2049480"/>
            <a:ext cx="636840" cy="227160"/>
          </a:xfrm>
          <a:prstGeom prst="flowChartPredefinedProcess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2" name=""/>
          <p:cNvCxnSpPr>
            <a:stCxn id="201" idx="2"/>
            <a:endCxn id="271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3" name=""/>
          <p:cNvCxnSpPr>
            <a:stCxn id="203" idx="3"/>
            <a:endCxn id="208" idx="1"/>
          </p:cNvCxnSpPr>
          <p:nvPr/>
        </p:nvCxnSpPr>
        <p:spPr>
          <a:xfrm>
            <a:off x="2998800" y="3471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692360" y="407664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変更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5" name=""/>
          <p:cNvCxnSpPr>
            <a:stCxn id="203" idx="2"/>
            <a:endCxn id="274" idx="0"/>
          </p:cNvCxnSpPr>
          <p:nvPr/>
        </p:nvCxnSpPr>
        <p:spPr>
          <a:xfrm>
            <a:off x="2346120" y="3584160"/>
            <a:ext cx="1080" cy="492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6" name=""/>
          <p:cNvSpPr/>
          <p:nvPr/>
        </p:nvSpPr>
        <p:spPr>
          <a:xfrm>
            <a:off x="1258920" y="508464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通常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03" idx="3"/>
            <a:endCxn id="207" idx="1"/>
          </p:cNvCxnSpPr>
          <p:nvPr/>
        </p:nvCxnSpPr>
        <p:spPr>
          <a:xfrm flipV="1">
            <a:off x="2998800" y="2750760"/>
            <a:ext cx="1357920" cy="721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278" name=""/>
          <p:cNvSpPr/>
          <p:nvPr/>
        </p:nvSpPr>
        <p:spPr>
          <a:xfrm>
            <a:off x="2892240" y="2492280"/>
            <a:ext cx="13467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SURFACELOS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75040" y="3716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DDERR_WRONGMO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995080" y="357336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06360" y="3645000"/>
            <a:ext cx="120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事前に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ate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しておくこと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208160" y="167328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ある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497240" y="1125360"/>
            <a:ext cx="103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dows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イベントが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ない場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692360" y="458136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破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92" name=""/>
          <p:cNvCxnSpPr>
            <a:stCxn id="293" idx="3"/>
            <a:endCxn id="290" idx="0"/>
          </p:cNvCxnSpPr>
          <p:nvPr/>
        </p:nvCxnSpPr>
        <p:spPr>
          <a:xfrm>
            <a:off x="1463760" y="2163600"/>
            <a:ext cx="883440" cy="2418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525200" y="5084640"/>
            <a:ext cx="10555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ff0000"/>
                </a:solidFill>
                <a:latin typeface="ＭＳ ゴシック"/>
              </a:rPr>
              <a:t>管理変数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3" name=""/>
          <p:cNvCxnSpPr>
            <a:stCxn id="291" idx="3"/>
            <a:endCxn id="313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4" name=""/>
          <p:cNvCxnSpPr>
            <a:stCxn id="294" idx="3"/>
            <a:endCxn id="307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5" name=""/>
          <p:cNvCxnSpPr>
            <a:stCxn id="295" idx="3"/>
            <a:endCxn id="308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6" name=""/>
          <p:cNvCxnSpPr>
            <a:stCxn id="307" idx="3"/>
            <a:endCxn id="317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08" idx="3"/>
            <a:endCxn id="318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stCxn id="311" idx="3"/>
            <a:endCxn id="321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29" name=""/>
          <p:cNvCxnSpPr>
            <a:stCxn id="296" idx="3"/>
            <a:endCxn id="311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0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2" name=""/>
          <p:cNvCxnSpPr>
            <a:stCxn id="313" idx="3"/>
            <a:endCxn id="331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3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36" name=""/>
          <p:cNvCxnSpPr>
            <a:stCxn id="314" idx="3"/>
            <a:endCxn id="335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3" name=""/>
          <p:cNvCxnSpPr>
            <a:stCxn id="297" idx="3"/>
            <a:endCxn id="309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4" name=""/>
          <p:cNvCxnSpPr>
            <a:stCxn id="309" idx="3"/>
            <a:endCxn id="319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45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"/>
          <p:cNvCxnSpPr>
            <a:stCxn id="298" idx="3"/>
            <a:endCxn id="310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15" idx="3"/>
            <a:endCxn id="345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10" idx="3"/>
            <a:endCxn id="320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16" idx="3"/>
            <a:endCxn id="350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299" idx="3"/>
            <a:endCxn id="316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26920" y="204948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ndProc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9" name=""/>
          <p:cNvCxnSpPr>
            <a:stCxn id="290" idx="3"/>
            <a:endCxn id="297" idx="1"/>
          </p:cNvCxnSpPr>
          <p:nvPr/>
        </p:nvCxnSpPr>
        <p:spPr>
          <a:xfrm>
            <a:off x="2998800" y="469548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0" name=""/>
          <p:cNvSpPr/>
          <p:nvPr/>
        </p:nvSpPr>
        <p:spPr>
          <a:xfrm>
            <a:off x="1082160" y="162864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1" name=""/>
          <p:cNvCxnSpPr>
            <a:stCxn id="290" idx="3"/>
            <a:endCxn id="298" idx="1"/>
          </p:cNvCxnSpPr>
          <p:nvPr/>
        </p:nvCxnSpPr>
        <p:spPr>
          <a:xfrm>
            <a:off x="2998800" y="4695840"/>
            <a:ext cx="1357920" cy="67536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"/>
          <p:cNvCxnSpPr>
            <a:stCxn id="290" idx="3"/>
            <a:endCxn id="299" idx="1"/>
          </p:cNvCxnSpPr>
          <p:nvPr/>
        </p:nvCxnSpPr>
        <p:spPr>
          <a:xfrm>
            <a:off x="2998800" y="4695840"/>
            <a:ext cx="1357920" cy="12866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"/>
          <p:cNvSpPr/>
          <p:nvPr/>
        </p:nvSpPr>
        <p:spPr>
          <a:xfrm>
            <a:off x="3715920" y="450864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715920" y="51102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04760" y="57214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2120" y="189000"/>
            <a:ext cx="6368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WinMa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1407960"/>
            <a:ext cx="6368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Ru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68" name=""/>
          <p:cNvCxnSpPr>
            <a:stCxn id="366" idx="2"/>
            <a:endCxn id="367" idx="1"/>
          </p:cNvCxnSpPr>
          <p:nvPr/>
        </p:nvCxnSpPr>
        <p:spPr>
          <a:xfrm flipH="1" rot="16200000">
            <a:off x="129960" y="826200"/>
            <a:ext cx="1107360" cy="286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9" name=""/>
          <p:cNvCxnSpPr>
            <a:stCxn id="367" idx="2"/>
            <a:endCxn id="293" idx="0"/>
          </p:cNvCxnSpPr>
          <p:nvPr/>
        </p:nvCxnSpPr>
        <p:spPr>
          <a:xfrm flipV="1" rot="10800000">
            <a:off x="1145520" y="1634760"/>
            <a:ext cx="1080" cy="415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0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終了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442520" y="2205000"/>
            <a:ext cx="6073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WM_CLOS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190440" y="549360"/>
            <a:ext cx="5605560" cy="5844960"/>
          </a:xfrm>
          <a:custGeom>
            <a:avLst/>
            <a:gdLst>
              <a:gd name="textAreaLeft" fmla="*/ 34200 w 5605560"/>
              <a:gd name="textAreaRight" fmla="*/ 5571360 w 5605560"/>
              <a:gd name="textAreaTop" fmla="*/ 34200 h 5844960"/>
              <a:gd name="textAreaBottom" fmla="*/ 5810760 h 5844960"/>
            </a:gdLst>
            <a:ahLst/>
            <a:rect l="textAreaLeft" t="textAreaTop" r="textAreaRight" b="textAreaBottom"/>
            <a:pathLst>
              <a:path w="21600" h="22522">
                <a:moveTo>
                  <a:pt x="453" y="0"/>
                </a:moveTo>
                <a:arcTo wR="453" hR="453" stAng="16200000" swAng="-5400000"/>
                <a:lnTo>
                  <a:pt x="0" y="22069"/>
                </a:lnTo>
                <a:arcTo wR="453" hR="453" stAng="10800000" swAng="-5400000"/>
                <a:lnTo>
                  <a:pt x="21147" y="22522"/>
                </a:lnTo>
                <a:arcTo wR="453" hR="453" stAng="5400000" swAng="-5400000"/>
                <a:lnTo>
                  <a:pt x="21600" y="453"/>
                </a:lnTo>
                <a:arcTo wR="453" hR="453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222800" y="600120"/>
            <a:ext cx="1501560" cy="5708520"/>
          </a:xfrm>
          <a:custGeom>
            <a:avLst/>
            <a:gdLst>
              <a:gd name="textAreaLeft" fmla="*/ 30600 w 1501560"/>
              <a:gd name="textAreaRight" fmla="*/ 1470960 w 1501560"/>
              <a:gd name="textAreaTop" fmla="*/ 30600 h 5708520"/>
              <a:gd name="textAreaBottom" fmla="*/ 5677920 h 5708520"/>
            </a:gdLst>
            <a:ahLst/>
            <a:rect l="textAreaLeft" t="textAreaTop" r="textAreaRight" b="textAreaBottom"/>
            <a:pathLst>
              <a:path w="21600" h="82103">
                <a:moveTo>
                  <a:pt x="1505" y="0"/>
                </a:moveTo>
                <a:arcTo wR="1505" hR="1505" stAng="16200000" swAng="-5400000"/>
                <a:lnTo>
                  <a:pt x="0" y="80598"/>
                </a:lnTo>
                <a:arcTo wR="1505" hR="1505" stAng="10800000" swAng="-5400000"/>
                <a:lnTo>
                  <a:pt x="20095" y="82103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867280" y="536400"/>
            <a:ext cx="1447920" cy="5845320"/>
          </a:xfrm>
          <a:custGeom>
            <a:avLst/>
            <a:gdLst>
              <a:gd name="textAreaLeft" fmla="*/ 29520 w 1447920"/>
              <a:gd name="textAreaRight" fmla="*/ 1418400 w 144792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184">
                <a:moveTo>
                  <a:pt x="1505" y="0"/>
                </a:moveTo>
                <a:arcTo wR="1505" hR="1505" stAng="16200000" swAng="-5400000"/>
                <a:lnTo>
                  <a:pt x="0" y="85679"/>
                </a:lnTo>
                <a:arcTo wR="1505" hR="1505" stAng="10800000" swAng="-5400000"/>
                <a:lnTo>
                  <a:pt x="20095" y="87184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391520" y="536400"/>
            <a:ext cx="1447560" cy="5845320"/>
          </a:xfrm>
          <a:custGeom>
            <a:avLst/>
            <a:gdLst>
              <a:gd name="textAreaLeft" fmla="*/ 29520 w 1447560"/>
              <a:gd name="textAreaRight" fmla="*/ 1418040 w 1447560"/>
              <a:gd name="textAreaTop" fmla="*/ 29520 h 5845320"/>
              <a:gd name="textAreaBottom" fmla="*/ 5815800 h 5845320"/>
            </a:gdLst>
            <a:ahLst/>
            <a:rect l="textAreaLeft" t="textAreaTop" r="textAreaRight" b="textAreaBottom"/>
            <a:pathLst>
              <a:path w="21600" h="87206">
                <a:moveTo>
                  <a:pt x="1505" y="0"/>
                </a:moveTo>
                <a:arcTo wR="1505" hR="1505" stAng="16200000" swAng="-5400000"/>
                <a:lnTo>
                  <a:pt x="0" y="85701"/>
                </a:lnTo>
                <a:arcTo wR="1505" hR="1505" stAng="10800000" swAng="-5400000"/>
                <a:lnTo>
                  <a:pt x="20095" y="87206"/>
                </a:lnTo>
                <a:arcTo wR="1505" hR="1505" stAng="5400000" swAng="-5400000"/>
                <a:lnTo>
                  <a:pt x="21600" y="1505"/>
                </a:lnTo>
                <a:arcTo wR="1505" hR="1505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692360" y="2637000"/>
            <a:ext cx="1306440" cy="22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再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356000" y="76032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80" name=""/>
          <p:cNvCxnSpPr>
            <a:stCxn id="381" idx="3"/>
            <a:endCxn id="378" idx="0"/>
          </p:cNvCxnSpPr>
          <p:nvPr/>
        </p:nvCxnSpPr>
        <p:spPr>
          <a:xfrm>
            <a:off x="1463760" y="2097000"/>
            <a:ext cx="883440" cy="540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56000" y="1457280"/>
            <a:ext cx="127656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356000" y="2637000"/>
            <a:ext cx="127656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356000" y="3357720"/>
            <a:ext cx="1276560" cy="2268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Render, Presen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356000" y="4581360"/>
            <a:ext cx="127656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35600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56000" y="5867280"/>
            <a:ext cx="127656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62640" y="566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466880" y="1268280"/>
            <a:ext cx="11088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初期化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489560" y="243684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実体の生成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489560" y="4383000"/>
            <a:ext cx="9486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オブジェクトの</a:t>
            </a:r>
            <a:r>
              <a:rPr b="0" lang="ja-JP" sz="700" spc="-1" strike="noStrike">
                <a:solidFill>
                  <a:srgbClr val="333399"/>
                </a:solidFill>
                <a:latin typeface="ＭＳ ゴシック"/>
              </a:rPr>
              <a:t>実体</a:t>
            </a: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25200" y="5084640"/>
            <a:ext cx="10551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3D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オブジェクトの管理変数の破棄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7760" y="5664240"/>
            <a:ext cx="714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アプリ全体の終了処理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660200" y="247680"/>
            <a:ext cx="523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派生クラス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96592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95800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595800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959440" y="5256360"/>
            <a:ext cx="127656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958000" y="3368520"/>
            <a:ext cx="1276200" cy="21600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30360" y="252360"/>
            <a:ext cx="116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トップレベル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95800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95800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942160" y="393876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95800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481880" y="1446120"/>
            <a:ext cx="1276200" cy="22716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Init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7481880" y="2637000"/>
            <a:ext cx="1276200" cy="226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tor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481880" y="4581360"/>
            <a:ext cx="1276200" cy="2271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nvalida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481880" y="5256360"/>
            <a:ext cx="1276200" cy="2268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eleteDeviceObject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481880" y="3284640"/>
            <a:ext cx="1276200" cy="371520"/>
          </a:xfrm>
          <a:prstGeom prst="rect">
            <a:avLst/>
          </a:prstGeom>
          <a:solidFill>
            <a:srgbClr val="ff99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Draw /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MainWork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7711920" y="44280"/>
            <a:ext cx="82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子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Activ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Textur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Su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1" name=""/>
          <p:cNvCxnSpPr>
            <a:stCxn id="379" idx="3"/>
            <a:endCxn id="401" idx="1"/>
          </p:cNvCxnSpPr>
          <p:nvPr/>
        </p:nvCxnSpPr>
        <p:spPr>
          <a:xfrm>
            <a:off x="5632560" y="87444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2" name=""/>
          <p:cNvCxnSpPr>
            <a:stCxn id="382" idx="3"/>
            <a:endCxn id="395" idx="1"/>
          </p:cNvCxnSpPr>
          <p:nvPr/>
        </p:nvCxnSpPr>
        <p:spPr>
          <a:xfrm flipV="1">
            <a:off x="5632560" y="1559880"/>
            <a:ext cx="334080" cy="118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3" name=""/>
          <p:cNvCxnSpPr>
            <a:stCxn id="383" idx="3"/>
            <a:endCxn id="396" idx="1"/>
          </p:cNvCxnSpPr>
          <p:nvPr/>
        </p:nvCxnSpPr>
        <p:spPr>
          <a:xfrm>
            <a:off x="5632560" y="275076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4" name=""/>
          <p:cNvCxnSpPr>
            <a:stCxn id="395" idx="3"/>
            <a:endCxn id="405" idx="1"/>
          </p:cNvCxnSpPr>
          <p:nvPr/>
        </p:nvCxnSpPr>
        <p:spPr>
          <a:xfrm>
            <a:off x="7242120" y="1560240"/>
            <a:ext cx="24048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5" name=""/>
          <p:cNvCxnSpPr>
            <a:stCxn id="396" idx="3"/>
            <a:endCxn id="406" idx="1"/>
          </p:cNvCxnSpPr>
          <p:nvPr/>
        </p:nvCxnSpPr>
        <p:spPr>
          <a:xfrm>
            <a:off x="7234200" y="275076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16" name=""/>
          <p:cNvCxnSpPr>
            <a:stCxn id="399" idx="3"/>
            <a:endCxn id="409" idx="1"/>
          </p:cNvCxnSpPr>
          <p:nvPr/>
        </p:nvCxnSpPr>
        <p:spPr>
          <a:xfrm flipV="1">
            <a:off x="7234200" y="3469680"/>
            <a:ext cx="248400" cy="684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17" name=""/>
          <p:cNvCxnSpPr>
            <a:stCxn id="384" idx="3"/>
            <a:endCxn id="399" idx="1"/>
          </p:cNvCxnSpPr>
          <p:nvPr/>
        </p:nvCxnSpPr>
        <p:spPr>
          <a:xfrm>
            <a:off x="5632560" y="3471480"/>
            <a:ext cx="32616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18" name=""/>
          <p:cNvSpPr/>
          <p:nvPr/>
        </p:nvSpPr>
        <p:spPr>
          <a:xfrm>
            <a:off x="6084720" y="98100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OneTimeSceneIn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472520" y="76500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OneTimeSceneIni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0" name=""/>
          <p:cNvCxnSpPr>
            <a:stCxn id="401" idx="3"/>
            <a:endCxn id="419" idx="1"/>
          </p:cNvCxnSpPr>
          <p:nvPr/>
        </p:nvCxnSpPr>
        <p:spPr>
          <a:xfrm>
            <a:off x="7234200" y="879120"/>
            <a:ext cx="239040" cy="1080"/>
          </a:xfrm>
          <a:prstGeom prst="bentConnector2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7831440" y="927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2276640"/>
            <a:ext cx="1151280" cy="15372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472520" y="2060640"/>
            <a:ext cx="1276200" cy="22680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4" name=""/>
          <p:cNvCxnSpPr>
            <a:stCxn id="402" idx="3"/>
            <a:endCxn id="423" idx="1"/>
          </p:cNvCxnSpPr>
          <p:nvPr/>
        </p:nvCxnSpPr>
        <p:spPr>
          <a:xfrm>
            <a:off x="7234200" y="2174400"/>
            <a:ext cx="23904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25" name=""/>
          <p:cNvSpPr/>
          <p:nvPr/>
        </p:nvSpPr>
        <p:spPr>
          <a:xfrm>
            <a:off x="7807680" y="222264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1200" y="1673280"/>
            <a:ext cx="115092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Init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6084720" y="285264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MyRestor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6084720" y="4797360"/>
            <a:ext cx="1151280" cy="154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5f5f5f"/>
                </a:solidFill>
                <a:latin typeface="ＭＳ ゴシック"/>
              </a:rPr>
              <a:t>MyInvalida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084720" y="5472000"/>
            <a:ext cx="1151280" cy="15408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DeleteDeviceObjec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84720" y="6083280"/>
            <a:ext cx="1151280" cy="15408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FinalCleanup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stCxn id="385" idx="3"/>
            <a:endCxn id="397" idx="1"/>
          </p:cNvCxnSpPr>
          <p:nvPr/>
        </p:nvCxnSpPr>
        <p:spPr>
          <a:xfrm>
            <a:off x="5632560" y="4695480"/>
            <a:ext cx="3261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397" idx="3"/>
            <a:endCxn id="407" idx="1"/>
          </p:cNvCxnSpPr>
          <p:nvPr/>
        </p:nvCxnSpPr>
        <p:spPr>
          <a:xfrm>
            <a:off x="7234200" y="4695480"/>
            <a:ext cx="2484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7472520" y="3933720"/>
            <a:ext cx="1276200" cy="22716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ff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UnActivat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7801560" y="411012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stCxn id="386" idx="3"/>
            <a:endCxn id="398" idx="1"/>
          </p:cNvCxnSpPr>
          <p:nvPr/>
        </p:nvCxnSpPr>
        <p:spPr>
          <a:xfrm>
            <a:off x="5632560" y="5370120"/>
            <a:ext cx="327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6" name=""/>
          <p:cNvCxnSpPr>
            <a:stCxn id="403" idx="3"/>
            <a:endCxn id="433" idx="1"/>
          </p:cNvCxnSpPr>
          <p:nvPr/>
        </p:nvCxnSpPr>
        <p:spPr>
          <a:xfrm flipV="1">
            <a:off x="7218360" y="4047480"/>
            <a:ext cx="254880" cy="540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37" name=""/>
          <p:cNvCxnSpPr>
            <a:stCxn id="398" idx="3"/>
            <a:endCxn id="408" idx="1"/>
          </p:cNvCxnSpPr>
          <p:nvPr/>
        </p:nvCxnSpPr>
        <p:spPr>
          <a:xfrm>
            <a:off x="7235640" y="5370120"/>
            <a:ext cx="2466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38" name=""/>
          <p:cNvSpPr/>
          <p:nvPr/>
        </p:nvSpPr>
        <p:spPr>
          <a:xfrm>
            <a:off x="7481880" y="5867280"/>
            <a:ext cx="1276200" cy="227160"/>
          </a:xfrm>
          <a:prstGeom prst="rect">
            <a:avLst/>
          </a:prstGeom>
          <a:solidFill>
            <a:srgbClr val="ccffcc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FinalCleanu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9" name=""/>
          <p:cNvCxnSpPr>
            <a:stCxn id="404" idx="3"/>
            <a:endCxn id="438" idx="1"/>
          </p:cNvCxnSpPr>
          <p:nvPr/>
        </p:nvCxnSpPr>
        <p:spPr>
          <a:xfrm>
            <a:off x="7234200" y="5981400"/>
            <a:ext cx="24840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cxnSp>
        <p:nvCxnSpPr>
          <p:cNvPr id="440" name=""/>
          <p:cNvCxnSpPr>
            <a:stCxn id="387" idx="3"/>
            <a:endCxn id="404" idx="1"/>
          </p:cNvCxnSpPr>
          <p:nvPr/>
        </p:nvCxnSpPr>
        <p:spPr>
          <a:xfrm>
            <a:off x="5632560" y="5981400"/>
            <a:ext cx="326160" cy="1080"/>
          </a:xfrm>
          <a:prstGeom prst="straightConnector1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</p:cxnSp>
      <p:sp>
        <p:nvSpPr>
          <p:cNvPr id="441" name=""/>
          <p:cNvSpPr/>
          <p:nvPr/>
        </p:nvSpPr>
        <p:spPr>
          <a:xfrm>
            <a:off x="7807680" y="6039000"/>
            <a:ext cx="9932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（子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Activity </a:t>
            </a: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のみ）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659640" y="2421000"/>
            <a:ext cx="0" cy="21600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659640" y="4292640"/>
            <a:ext cx="0" cy="288720"/>
          </a:xfrm>
          <a:prstGeom prst="line">
            <a:avLst/>
          </a:prstGeom>
          <a:ln w="9360">
            <a:solidFill>
              <a:srgbClr val="000000">
                <a:alpha val="50000"/>
              </a:srgbClr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6054840" y="4165560"/>
            <a:ext cx="1150920" cy="154080"/>
          </a:xfrm>
          <a:prstGeom prst="rect">
            <a:avLst/>
          </a:prstGeom>
          <a:solidFill>
            <a:srgbClr val="00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808080"/>
                </a:solidFill>
                <a:latin typeface="ＭＳ ゴシック"/>
              </a:rPr>
              <a:t>MyUnActiva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3480" y="6443640"/>
            <a:ext cx="2250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FDK6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	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最終更新 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2005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年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7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月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18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日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1895760" y="260280"/>
            <a:ext cx="120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CD3D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68360" y="1916280"/>
            <a:ext cx="995400" cy="3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全画面・ウィンドウ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モードを切り替える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704760" y="443700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124000" y="907920"/>
            <a:ext cx="1728720" cy="50328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0000"/>
                </a:solidFill>
                <a:latin typeface="ＭＳ ゴシック"/>
              </a:rPr>
              <a:t>画面モード切替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9" name=""/>
          <p:cNvCxnSpPr>
            <a:stCxn id="378" idx="3"/>
            <a:endCxn id="385" idx="1"/>
          </p:cNvCxnSpPr>
          <p:nvPr/>
        </p:nvCxnSpPr>
        <p:spPr>
          <a:xfrm>
            <a:off x="2998800" y="2751120"/>
            <a:ext cx="1357920" cy="1945440"/>
          </a:xfrm>
          <a:prstGeom prst="bentConnector3">
            <a:avLst>
              <a:gd name="adj1" fmla="val 4993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0" name=""/>
          <p:cNvSpPr/>
          <p:nvPr/>
        </p:nvSpPr>
        <p:spPr>
          <a:xfrm>
            <a:off x="1692360" y="3778200"/>
            <a:ext cx="1306440" cy="227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t3D</a:t>
            </a: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環境の構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378" idx="2"/>
            <a:endCxn id="450" idx="0"/>
          </p:cNvCxnSpPr>
          <p:nvPr/>
        </p:nvCxnSpPr>
        <p:spPr>
          <a:xfrm flipV="1" rot="10800000">
            <a:off x="2345760" y="2863440"/>
            <a:ext cx="1080" cy="915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2" name=""/>
          <p:cNvSpPr/>
          <p:nvPr/>
        </p:nvSpPr>
        <p:spPr>
          <a:xfrm>
            <a:off x="2347560" y="348768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3" name=""/>
          <p:cNvCxnSpPr>
            <a:stCxn id="378" idx="3"/>
            <a:endCxn id="383" idx="1"/>
          </p:cNvCxnSpPr>
          <p:nvPr/>
        </p:nvCxnSpPr>
        <p:spPr>
          <a:xfrm>
            <a:off x="2998800" y="2750760"/>
            <a:ext cx="13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3704760" y="2781360"/>
            <a:ext cx="2829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>
                <a:solidFill>
                  <a:srgbClr val="000000"/>
                </a:solidFill>
                <a:latin typeface="ＭＳ ゴシック"/>
              </a:rPr>
              <a:t>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377400" y="494172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961760" y="47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353640" y="299736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938000" y="2852640"/>
            <a:ext cx="6609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000000"/>
                </a:solidFill>
                <a:latin typeface="ＭＳ ゴシック"/>
              </a:rPr>
              <a:t>非活性ならスキップ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490320" y="333360"/>
            <a:ext cx="1497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FDK </a:t>
            </a:r>
            <a:r>
              <a:rPr b="0" lang="ja-JP" sz="1200" spc="-1" strike="noStrike" u="sng">
                <a:solidFill>
                  <a:srgbClr val="000000"/>
                </a:solidFill>
                <a:uFillTx/>
                <a:latin typeface="ＭＳ ゴシック"/>
              </a:rPr>
              <a:t>でのエラーメッセー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264960" y="968400"/>
            <a:ext cx="412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tstring FDK::General::g_strFDKErrMsg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357000" y="1400040"/>
            <a:ext cx="293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FDK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では、エラーが発生するたび、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に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+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していく形でメッセージを追加していく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ユーザアプリでは、適切なタイミングで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g_strFDKErrMsg.clear()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</a:rPr>
              <a:t>すること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4T11:02:50Z</dcterms:created>
  <dc:creator>山崎</dc:creator>
  <dc:description/>
  <dc:language>en-US</dc:language>
  <cp:lastModifiedBy>Kenji</cp:lastModifiedBy>
  <dcterms:modified xsi:type="dcterms:W3CDTF">2007-05-27T01:52:52Z</dcterms:modified>
  <cp:revision>37</cp:revision>
  <dc:subject/>
  <dc:title>PowerPoint プレゼンテーション</dc:title>
</cp:coreProperties>
</file>