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0DFE-7ED4-4977-8686-760ADEDED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AC6C-ED66-41D5-BEEF-2726A61EC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6013-D554-4E8E-ADA8-A8B417F6C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1B6B-9F6E-4A9F-89F3-B64B039A8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C77C-ED96-4AC0-B4D8-EF2CE7C37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9DCA-7B52-4E48-9E5F-841EFCEEA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B721-7AF7-454A-B0CC-51954356F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8E35-55D2-47C2-AE39-BDA7614FC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403-C8BF-41E1-AB0A-04AEB397F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2C8E-4F39-4190-8CD5-C5F3A138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81734-64C5-4042-BEE6-A063464EC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888C1-5FF3-4111-B73C-44DAD8AC4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EC6769-D93D-44D9-A6B6-921A6175AD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60948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起動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33520" y="12193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FindWindow(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がいる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" y="22096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既存の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TXV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に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COYDATASTRUCT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で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コマンドラインを送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2" idx="2"/>
            <a:endCxn id="43" idx="0"/>
          </p:cNvCxnSpPr>
          <p:nvPr/>
        </p:nvCxnSpPr>
        <p:spPr>
          <a:xfrm>
            <a:off x="1371600" y="18288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2"/>
            <a:endCxn id="42" idx="0"/>
          </p:cNvCxnSpPr>
          <p:nvPr/>
        </p:nvCxnSpPr>
        <p:spPr>
          <a:xfrm>
            <a:off x="1371600" y="8380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914400" y="3048120"/>
            <a:ext cx="914400" cy="228600"/>
          </a:xfrm>
          <a:prstGeom prst="flowChartTerminator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終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" name=""/>
          <p:cNvCxnSpPr>
            <a:stCxn id="43" idx="2"/>
            <a:endCxn id="46" idx="0"/>
          </p:cNvCxnSpPr>
          <p:nvPr/>
        </p:nvCxnSpPr>
        <p:spPr>
          <a:xfrm>
            <a:off x="1371600" y="2666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8" name=""/>
          <p:cNvSpPr/>
          <p:nvPr/>
        </p:nvSpPr>
        <p:spPr>
          <a:xfrm>
            <a:off x="993240" y="181296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43200" y="12952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初期化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（ウィンドウ、</a:t>
            </a: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DirectX</a:t>
            </a: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2" idx="3"/>
            <a:endCxn id="49" idx="1"/>
          </p:cNvCxnSpPr>
          <p:nvPr/>
        </p:nvCxnSpPr>
        <p:spPr>
          <a:xfrm flipV="1">
            <a:off x="2209680" y="1523880"/>
            <a:ext cx="533880" cy="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2176560" y="127944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90920" y="2133720"/>
            <a:ext cx="1676160" cy="609480"/>
          </a:xfrm>
          <a:prstGeom prst="flowChartDecision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</a:rPr>
              <a:t>WM_COPYDAT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受信？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9" idx="2"/>
            <a:endCxn id="52" idx="0"/>
          </p:cNvCxnSpPr>
          <p:nvPr/>
        </p:nvCxnSpPr>
        <p:spPr>
          <a:xfrm>
            <a:off x="3429000" y="17524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274320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進行・描画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52" idx="2"/>
            <a:endCxn id="54" idx="0"/>
          </p:cNvCxnSpPr>
          <p:nvPr/>
        </p:nvCxnSpPr>
        <p:spPr>
          <a:xfrm>
            <a:off x="3429000" y="274320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3125880" y="2743200"/>
            <a:ext cx="33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3124080"/>
            <a:ext cx="13716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Times New Roman"/>
              </a:rPr>
              <a:t>メッセージを処理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193640" y="2209680"/>
            <a:ext cx="377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Y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7" idx="1"/>
            <a:endCxn id="54" idx="3"/>
          </p:cNvCxnSpPr>
          <p:nvPr/>
        </p:nvCxnSpPr>
        <p:spPr>
          <a:xfrm rot="10800000">
            <a:off x="4114440" y="3352680"/>
            <a:ext cx="609840" cy="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57" idx="0"/>
          </p:cNvCxnSpPr>
          <p:nvPr/>
        </p:nvCxnSpPr>
        <p:spPr>
          <a:xfrm>
            <a:off x="4267080" y="2438640"/>
            <a:ext cx="1143360" cy="685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4" idx="2"/>
            <a:endCxn id="52" idx="1"/>
          </p:cNvCxnSpPr>
          <p:nvPr/>
        </p:nvCxnSpPr>
        <p:spPr>
          <a:xfrm flipV="1" rot="16200000">
            <a:off x="2438640" y="2590920"/>
            <a:ext cx="1143000" cy="838440"/>
          </a:xfrm>
          <a:prstGeom prst="bentConnector4">
            <a:avLst>
              <a:gd name="adj1" fmla="val -20258"/>
              <a:gd name="adj2" fmla="val 12873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219320" y="838080"/>
          <a:ext cx="6507000" cy="4880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07000" cy="488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11T10:30:47Z</dcterms:created>
  <dc:creator>山崎 顕治</dc:creator>
  <dc:description/>
  <dc:language>en-US</dc:language>
  <cp:lastModifiedBy>山崎 顕治</cp:lastModifiedBy>
  <dcterms:modified xsi:type="dcterms:W3CDTF">2004-01-11T18:15:04Z</dcterms:modified>
  <cp:revision>3</cp:revision>
  <dc:subject/>
  <dc:title>PowerPoint プレゼンテーション</dc:title>
</cp:coreProperties>
</file>