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A907-B835-487C-AFD4-925BC6A2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FCC2-BBF3-4CC1-86F4-B4CD7742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E946-0A07-4AF0-9BA8-2775EC39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5A29-27A9-407A-87A8-653A42D2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1E6C-6000-4C74-A11D-ED12BE73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E7E1-8EAB-477F-9B80-D1305736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0AC-0C1F-4565-B009-AFD9830A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F0C-2F70-4810-B007-7537BEFC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DC31-F23D-4175-881F-F9B04045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8F2-2D3C-4CAD-9752-510629EF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EB5-5C62-4DAF-92A0-BBC1BC6E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A9C9-717D-4D21-A433-63018502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1552-6DE0-4622-97D6-556F3E8F6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59440" y="5229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91640" y="252360"/>
            <a:ext cx="72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81880" y="5229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53" idx="1"/>
          </p:cNvCxnSpPr>
          <p:nvPr/>
        </p:nvCxnSpPr>
        <p:spPr>
          <a:xfrm>
            <a:off x="7242120" y="1559520"/>
            <a:ext cx="2401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4" idx="3"/>
            <a:endCxn id="54" idx="1"/>
          </p:cNvCxnSpPr>
          <p:nvPr/>
        </p:nvCxnSpPr>
        <p:spPr>
          <a:xfrm>
            <a:off x="7234200" y="275040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3"/>
            <a:endCxn id="57" idx="1"/>
          </p:cNvCxnSpPr>
          <p:nvPr/>
        </p:nvCxnSpPr>
        <p:spPr>
          <a:xfrm flipV="1">
            <a:off x="7234200" y="3470400"/>
            <a:ext cx="248040" cy="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49" idx="3"/>
            <a:endCxn id="63" idx="1"/>
          </p:cNvCxnSpPr>
          <p:nvPr/>
        </p:nvCxnSpPr>
        <p:spPr>
          <a:xfrm>
            <a:off x="7234200" y="878400"/>
            <a:ext cx="238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0" idx="3"/>
            <a:endCxn id="67" idx="1"/>
          </p:cNvCxnSpPr>
          <p:nvPr/>
        </p:nvCxnSpPr>
        <p:spPr>
          <a:xfrm>
            <a:off x="7234200" y="2174040"/>
            <a:ext cx="2386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5445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45" idx="3"/>
            <a:endCxn id="55" idx="1"/>
          </p:cNvCxnSpPr>
          <p:nvPr/>
        </p:nvCxnSpPr>
        <p:spPr>
          <a:xfrm>
            <a:off x="7234200" y="469476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51" idx="3"/>
            <a:endCxn id="76" idx="1"/>
          </p:cNvCxnSpPr>
          <p:nvPr/>
        </p:nvCxnSpPr>
        <p:spPr>
          <a:xfrm flipV="1">
            <a:off x="7218360" y="4047120"/>
            <a:ext cx="2545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46" idx="3"/>
            <a:endCxn id="56" idx="1"/>
          </p:cNvCxnSpPr>
          <p:nvPr/>
        </p:nvCxnSpPr>
        <p:spPr>
          <a:xfrm>
            <a:off x="7236000" y="5342760"/>
            <a:ext cx="246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52" idx="3"/>
            <a:endCxn id="80" idx="1"/>
          </p:cNvCxnSpPr>
          <p:nvPr/>
        </p:nvCxnSpPr>
        <p:spPr>
          <a:xfrm>
            <a:off x="7234200" y="598068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206064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50" idx="1"/>
          </p:cNvCxnSpPr>
          <p:nvPr/>
        </p:nvCxnSpPr>
        <p:spPr>
          <a:xfrm>
            <a:off x="3622680" y="2174040"/>
            <a:ext cx="2335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627280" y="393372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3"/>
            <a:endCxn id="51" idx="1"/>
          </p:cNvCxnSpPr>
          <p:nvPr/>
        </p:nvCxnSpPr>
        <p:spPr>
          <a:xfrm>
            <a:off x="3622680" y="4047480"/>
            <a:ext cx="2319840" cy="5040"/>
          </a:xfrm>
          <a:prstGeom prst="bentConnector3">
            <a:avLst>
              <a:gd name="adj1" fmla="val 502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395280" y="2421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Activity</a:t>
            </a: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を使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3"/>
            <a:endCxn id="47" idx="1"/>
          </p:cNvCxnSpPr>
          <p:nvPr/>
        </p:nvCxnSpPr>
        <p:spPr>
          <a:xfrm>
            <a:off x="3622680" y="3471120"/>
            <a:ext cx="2335680" cy="576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627280" y="335772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76500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3"/>
            <a:endCxn id="49" idx="1"/>
          </p:cNvCxnSpPr>
          <p:nvPr/>
        </p:nvCxnSpPr>
        <p:spPr>
          <a:xfrm flipV="1">
            <a:off x="3622680" y="878400"/>
            <a:ext cx="2335680" cy="72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3"/>
            <a:endCxn id="43" idx="1"/>
          </p:cNvCxnSpPr>
          <p:nvPr/>
        </p:nvCxnSpPr>
        <p:spPr>
          <a:xfrm>
            <a:off x="3622680" y="878760"/>
            <a:ext cx="2343600" cy="681120"/>
          </a:xfrm>
          <a:prstGeom prst="bentConnector3">
            <a:avLst>
              <a:gd name="adj1" fmla="val 502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79556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95560" y="12682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22936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9" idx="3"/>
            <a:endCxn id="46" idx="1"/>
          </p:cNvCxnSpPr>
          <p:nvPr/>
        </p:nvCxnSpPr>
        <p:spPr>
          <a:xfrm>
            <a:off x="3622680" y="5342760"/>
            <a:ext cx="23371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9" idx="3"/>
            <a:endCxn id="52" idx="1"/>
          </p:cNvCxnSpPr>
          <p:nvPr/>
        </p:nvCxnSpPr>
        <p:spPr>
          <a:xfrm>
            <a:off x="3622680" y="5342760"/>
            <a:ext cx="2335680" cy="63828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795560" y="50864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95560" y="57340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76032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re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2"/>
            <a:endCxn id="109" idx="1"/>
          </p:cNvCxnSpPr>
          <p:nvPr/>
        </p:nvCxnSpPr>
        <p:spPr>
          <a:xfrm flipH="1" rot="16200000">
            <a:off x="453600" y="502200"/>
            <a:ext cx="45972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1692360" y="1413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3"/>
            <a:endCxn id="112" idx="1"/>
          </p:cNvCxnSpPr>
          <p:nvPr/>
        </p:nvCxnSpPr>
        <p:spPr>
          <a:xfrm>
            <a:off x="1463760" y="874440"/>
            <a:ext cx="2892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3"/>
            <a:endCxn id="111" idx="0"/>
          </p:cNvCxnSpPr>
          <p:nvPr/>
        </p:nvCxnSpPr>
        <p:spPr>
          <a:xfrm>
            <a:off x="1463760" y="874440"/>
            <a:ext cx="88344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9" idx="3"/>
            <a:endCxn id="115" idx="1"/>
          </p:cNvCxnSpPr>
          <p:nvPr/>
        </p:nvCxnSpPr>
        <p:spPr>
          <a:xfrm>
            <a:off x="1463760" y="874800"/>
            <a:ext cx="2892960" cy="697680"/>
          </a:xfrm>
          <a:prstGeom prst="bentConnector3">
            <a:avLst>
              <a:gd name="adj1" fmla="val 750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9" idx="3"/>
            <a:endCxn id="116" idx="1"/>
          </p:cNvCxnSpPr>
          <p:nvPr/>
        </p:nvCxnSpPr>
        <p:spPr>
          <a:xfrm>
            <a:off x="1463760" y="874800"/>
            <a:ext cx="2892960" cy="1877040"/>
          </a:xfrm>
          <a:prstGeom prst="bentConnector3">
            <a:avLst>
              <a:gd name="adj1" fmla="val 626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635280" y="134136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3480" y="2479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4284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36400" y="9558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8200" y="1254240"/>
            <a:ext cx="12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初期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実体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12" idx="3"/>
            <a:endCxn id="140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15" idx="3"/>
            <a:endCxn id="134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16" idx="3"/>
            <a:endCxn id="135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4" idx="3"/>
            <a:endCxn id="144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5" idx="3"/>
            <a:endCxn id="145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3"/>
            <a:endCxn id="148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23" idx="3"/>
            <a:endCxn id="138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40" idx="3"/>
            <a:endCxn id="158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41" idx="3"/>
            <a:endCxn id="162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24" idx="3"/>
            <a:endCxn id="136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36" idx="3"/>
            <a:endCxn id="146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25" idx="3"/>
            <a:endCxn id="137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42" idx="3"/>
            <a:endCxn id="172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37" idx="3"/>
            <a:endCxn id="147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43" idx="3"/>
            <a:endCxn id="177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26" idx="3"/>
            <a:endCxn id="143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3645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起動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09" idx="3"/>
            <a:endCxn id="141" idx="1"/>
          </p:cNvCxnSpPr>
          <p:nvPr/>
        </p:nvCxnSpPr>
        <p:spPr>
          <a:xfrm>
            <a:off x="1463760" y="874440"/>
            <a:ext cx="4494960" cy="1300680"/>
          </a:xfrm>
          <a:prstGeom prst="bentConnector3">
            <a:avLst>
              <a:gd name="adj1" fmla="val 4436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586320" y="1844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必要あれ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と④の間に…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56680" y="2924280"/>
            <a:ext cx="2104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てない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re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の時点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203640" y="2781360"/>
            <a:ext cx="36036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600" y="1916280"/>
            <a:ext cx="344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が先なので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OneTimeSceneInit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irect3D / DirectDraw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を使っ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が行える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763640" y="1700280"/>
            <a:ext cx="28728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03640" y="2204640"/>
            <a:ext cx="360360" cy="79236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2"/>
            <a:endCxn id="201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1692360" y="335772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1" idx="3"/>
            <a:endCxn id="203" idx="0"/>
          </p:cNvCxnSpPr>
          <p:nvPr/>
        </p:nvCxnSpPr>
        <p:spPr>
          <a:xfrm>
            <a:off x="1463760" y="1522440"/>
            <a:ext cx="883440" cy="183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nder, Pres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04" idx="3"/>
            <a:endCxn id="225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06" idx="3"/>
            <a:endCxn id="219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07" idx="3"/>
            <a:endCxn id="220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8" name=""/>
          <p:cNvCxnSpPr>
            <a:stCxn id="219" idx="3"/>
            <a:endCxn id="229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0" idx="3"/>
            <a:endCxn id="230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0" name=""/>
          <p:cNvCxnSpPr>
            <a:stCxn id="223" idx="3"/>
            <a:endCxn id="233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08" idx="3"/>
            <a:endCxn id="223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25" idx="3"/>
            <a:endCxn id="243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26" idx="3"/>
            <a:endCxn id="247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09" idx="3"/>
            <a:endCxn id="221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21" idx="3"/>
            <a:endCxn id="231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10" idx="3"/>
            <a:endCxn id="222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27" idx="3"/>
            <a:endCxn id="257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22" idx="3"/>
            <a:endCxn id="232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28" idx="3"/>
            <a:endCxn id="262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11" idx="3"/>
            <a:endCxn id="228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2049480"/>
            <a:ext cx="636840" cy="22716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01" idx="2"/>
            <a:endCxn id="271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3" name=""/>
          <p:cNvCxnSpPr>
            <a:stCxn id="203" idx="3"/>
            <a:endCxn id="208" idx="1"/>
          </p:cNvCxnSpPr>
          <p:nvPr/>
        </p:nvCxnSpPr>
        <p:spPr>
          <a:xfrm>
            <a:off x="2998800" y="3471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692360" y="407664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変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03" idx="2"/>
            <a:endCxn id="274" idx="0"/>
          </p:cNvCxnSpPr>
          <p:nvPr/>
        </p:nvCxnSpPr>
        <p:spPr>
          <a:xfrm>
            <a:off x="2346120" y="3584160"/>
            <a:ext cx="1080" cy="49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1258920" y="508464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通常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03" idx="3"/>
            <a:endCxn id="207" idx="1"/>
          </p:cNvCxnSpPr>
          <p:nvPr/>
        </p:nvCxnSpPr>
        <p:spPr>
          <a:xfrm flipV="1">
            <a:off x="2998800" y="2750760"/>
            <a:ext cx="1357920" cy="721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2892240" y="2492280"/>
            <a:ext cx="134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SURFACEL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75040" y="3716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WRONGM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95080" y="357336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06360" y="364500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08160" y="167328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ある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97240" y="112536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ない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92360" y="458136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破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3" idx="3"/>
            <a:endCxn id="290" idx="0"/>
          </p:cNvCxnSpPr>
          <p:nvPr/>
        </p:nvCxnSpPr>
        <p:spPr>
          <a:xfrm>
            <a:off x="1463760" y="2163600"/>
            <a:ext cx="883440" cy="241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200" y="5084640"/>
            <a:ext cx="1055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91" idx="3"/>
            <a:endCxn id="313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294" idx="3"/>
            <a:endCxn id="307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295" idx="3"/>
            <a:endCxn id="308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07" idx="3"/>
            <a:endCxn id="317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08" idx="3"/>
            <a:endCxn id="318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1" idx="3"/>
            <a:endCxn id="321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296" idx="3"/>
            <a:endCxn id="311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13" idx="3"/>
            <a:endCxn id="331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14" idx="3"/>
            <a:endCxn id="335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297" idx="3"/>
            <a:endCxn id="309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09" idx="3"/>
            <a:endCxn id="319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298" idx="3"/>
            <a:endCxn id="310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15" idx="3"/>
            <a:endCxn id="345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10" idx="3"/>
            <a:endCxn id="320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16" idx="3"/>
            <a:endCxn id="350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299" idx="3"/>
            <a:endCxn id="316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204948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290" idx="3"/>
            <a:endCxn id="297" idx="1"/>
          </p:cNvCxnSpPr>
          <p:nvPr/>
        </p:nvCxnSpPr>
        <p:spPr>
          <a:xfrm>
            <a:off x="2998800" y="4695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1082160" y="162864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290" idx="3"/>
            <a:endCxn id="298" idx="1"/>
          </p:cNvCxnSpPr>
          <p:nvPr/>
        </p:nvCxnSpPr>
        <p:spPr>
          <a:xfrm>
            <a:off x="2998800" y="4695840"/>
            <a:ext cx="1357920" cy="6753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290" idx="3"/>
            <a:endCxn id="299" idx="1"/>
          </p:cNvCxnSpPr>
          <p:nvPr/>
        </p:nvCxnSpPr>
        <p:spPr>
          <a:xfrm>
            <a:off x="2998800" y="4695840"/>
            <a:ext cx="1357920" cy="12866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3715920" y="4508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15920" y="51102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04760" y="57214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6" idx="2"/>
            <a:endCxn id="367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67" idx="2"/>
            <a:endCxn id="293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終了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2520" y="220500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92360" y="2637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再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81" idx="3"/>
            <a:endCxn id="378" idx="0"/>
          </p:cNvCxnSpPr>
          <p:nvPr/>
        </p:nvCxnSpPr>
        <p:spPr>
          <a:xfrm>
            <a:off x="1463760" y="2097000"/>
            <a:ext cx="883440" cy="54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25200" y="508464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379" idx="3"/>
            <a:endCxn id="401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82" idx="3"/>
            <a:endCxn id="395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383" idx="3"/>
            <a:endCxn id="396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395" idx="3"/>
            <a:endCxn id="405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6" idx="3"/>
            <a:endCxn id="406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399" idx="3"/>
            <a:endCxn id="409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84" idx="3"/>
            <a:endCxn id="399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01" idx="3"/>
            <a:endCxn id="419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2" idx="3"/>
            <a:endCxn id="423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385" idx="3"/>
            <a:endCxn id="397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397" idx="3"/>
            <a:endCxn id="407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386" idx="3"/>
            <a:endCxn id="398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03" idx="3"/>
            <a:endCxn id="433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398" idx="3"/>
            <a:endCxn id="408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04" idx="3"/>
            <a:endCxn id="438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387" idx="3"/>
            <a:endCxn id="404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8360" y="1916280"/>
            <a:ext cx="995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全画面・ウィンド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モードを切り替え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04760" y="44370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画面モード切替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378" idx="3"/>
            <a:endCxn id="385" idx="1"/>
          </p:cNvCxnSpPr>
          <p:nvPr/>
        </p:nvCxnSpPr>
        <p:spPr>
          <a:xfrm>
            <a:off x="2998800" y="2751120"/>
            <a:ext cx="1357920" cy="1945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1692360" y="377820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378" idx="2"/>
            <a:endCxn id="450" idx="0"/>
          </p:cNvCxnSpPr>
          <p:nvPr/>
        </p:nvCxnSpPr>
        <p:spPr>
          <a:xfrm flipV="1" rot="10800000">
            <a:off x="2345760" y="2863440"/>
            <a:ext cx="108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347560" y="3487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378" idx="3"/>
            <a:endCxn id="383" idx="1"/>
          </p:cNvCxnSpPr>
          <p:nvPr/>
        </p:nvCxnSpPr>
        <p:spPr>
          <a:xfrm>
            <a:off x="2998800" y="275076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3704760" y="278136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90320" y="333360"/>
            <a:ext cx="149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FDK 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でのエラーメッセー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4960" y="96840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tstring FDK::General::g_strFDKErrMs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7000" y="1400040"/>
            <a:ext cx="29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FDK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では、エラーが発生するたび、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に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+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していく形でメッセージを追加してい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ユーザアプリでは、適切なタイミングで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.clear()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するこ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4T11:02:50Z</dcterms:created>
  <dc:creator>山崎</dc:creator>
  <dc:description/>
  <dc:language>en-US</dc:language>
  <cp:lastModifiedBy>Kenji</cp:lastModifiedBy>
  <dcterms:modified xsi:type="dcterms:W3CDTF">2007-05-27T01:52:52Z</dcterms:modified>
  <cp:revision>37</cp:revision>
  <dc:subject/>
  <dc:title>PowerPoint プレゼンテーション</dc:title>
</cp:coreProperties>
</file>