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47A3-1227-40EF-88A3-DC511F71A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EA4E-568E-47B6-8230-BC62BEB65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AD76-CFC2-4E00-9D28-4599F49A9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F670-7434-4B86-BA3C-4D9E72CE2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3EF4-E107-4878-B3EC-25690171D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4A08-D835-4C8D-A025-D2C2B0A0C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61A3-5148-46CD-844F-3EC064AA8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13D5-0C66-4EE9-A20A-EB82E687D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3020-D1F7-495E-8F41-FE1105378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AE37-B920-401E-AEA3-59A078C06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9D6F-836A-4873-BF41-51C1F9490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09CC-36B7-485A-B0E0-59CE90FAE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F96B6-576F-4AE8-97A5-F0F9E762EF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43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x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4067280" cy="44388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38080" y="4572000"/>
            <a:ext cx="3657600" cy="457200"/>
          </a:xfrm>
          <a:prstGeom prst="flowChartAlternateProcess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029200"/>
            <a:ext cx="22860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33720" y="5334120"/>
            <a:ext cx="350496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ファイル属性の確認、設定ができ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6400800" cy="13618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43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x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2590920"/>
            <a:ext cx="609840" cy="533160"/>
          </a:xfrm>
          <a:prstGeom prst="flowChartAlternateProcess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0800" y="3124080"/>
            <a:ext cx="22860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3429000"/>
            <a:ext cx="350532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ファイル属性の確認、設定ができ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x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390680" y="1909800"/>
            <a:ext cx="6362640" cy="3038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733920" y="2209680"/>
            <a:ext cx="502920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ファイル属性の確認。アーカイブ属性のみ設定されてい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2819520"/>
            <a:ext cx="502920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読み取り専用属性と隠しファイル属性を付加し、再度ファイル属性を確認したとこ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733920" y="3733920"/>
            <a:ext cx="502920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隠しファイル属性を外し、再度ファイル属性を確認したとこ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たかはしもとのぶ</cp:lastModifiedBy>
  <dcterms:modified xsi:type="dcterms:W3CDTF">2006-05-05T05:21:2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