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53F2-C9C9-435D-91D0-1AE857F07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B9B4-1D14-4D88-A505-CF76C8025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02A6-62F6-4B6F-869C-4777CF370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8523-63FF-4598-9681-E5F5CED55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FCF1-5E43-4E0D-9A18-D6454A760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CCFC-0891-4BF1-8647-7AE02B944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9F4A-BBAE-4AEE-A55C-4CAED37A8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4559-38C7-40CB-A5A1-746C6B590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E542-FC90-43DD-BF00-AE0B6B9BE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8B44-1F11-4E39-A766-6085E70FE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BDEF-1239-4660-B616-BE8FCD7D2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D5EE-016B-4740-BB4D-5178B734A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D6B2C-796A-4ED8-AA38-9BFD2701D7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による接続処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76360" y="90792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OpenTC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000" y="33336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8000" y="90792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O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58920" y="404640"/>
            <a:ext cx="0" cy="626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76360" y="33336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TS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71640" y="1125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5940360" y="549360"/>
          <a:ext cx="2664000" cy="1214280"/>
        </p:xfrm>
        <a:graphic>
          <a:graphicData uri="http://schemas.openxmlformats.org/drawingml/2006/table">
            <a:tbl>
              <a:tblPr/>
              <a:tblGrid>
                <a:gridCol w="1224000"/>
                <a:gridCol w="144000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フック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フック先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n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conn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rec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s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SAAsyncSel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WSAAsyncSel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"/>
          <p:cNvSpPr/>
          <p:nvPr/>
        </p:nvSpPr>
        <p:spPr>
          <a:xfrm>
            <a:off x="2627280" y="692280"/>
            <a:ext cx="649440" cy="576000"/>
          </a:xfrm>
          <a:prstGeom prst="wedgeRoundRectCallout">
            <a:avLst>
              <a:gd name="adj1" fmla="val -78606"/>
              <a:gd name="adj2" fmla="val 2768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ソケット関数のフッ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1700280"/>
            <a:ext cx="86328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SAAsyncSel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2492280"/>
            <a:ext cx="86328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9640" y="126828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9640" y="2133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87280" y="19162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692360" y="1700280"/>
            <a:ext cx="12952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WSAAsyncSe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03640" y="1557360"/>
            <a:ext cx="1008000" cy="503280"/>
          </a:xfrm>
          <a:prstGeom prst="wedgeRoundRectCallout">
            <a:avLst>
              <a:gd name="adj1" fmla="val -68425"/>
              <a:gd name="adj2" fmla="val 244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続前は何もしな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87280" y="27082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92360" y="249228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71640" y="2421000"/>
            <a:ext cx="2160720" cy="576360"/>
          </a:xfrm>
          <a:prstGeom prst="wedgeRoundRectCallout">
            <a:avLst>
              <a:gd name="adj1" fmla="val -55509"/>
              <a:gd name="adj2" fmla="val -344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へ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続を行う。接続成功すると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D_CONNEC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メッセージが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へ飛ぶ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8000" y="3068640"/>
            <a:ext cx="79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08000" y="321300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CommOp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3573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0920" y="393372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Star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16000" y="41497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9280" y="3933720"/>
            <a:ext cx="12952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WSAAsyncSe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403280" y="3141720"/>
            <a:ext cx="1368360" cy="574560"/>
          </a:xfrm>
          <a:prstGeom prst="wedgeRoundRectCallout">
            <a:avLst>
              <a:gd name="adj1" fmla="val -101277"/>
              <a:gd name="adj2" fmla="val 8812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D_READ | FD_OOB | FD_CLOSE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を登録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916360" y="4149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348000" y="3933720"/>
            <a:ext cx="1511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000000"/>
                </a:solidFill>
                <a:latin typeface="Arial"/>
              </a:rPr>
              <a:t>AUTH_advance_to_next_cr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59280" y="4149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292720" y="3933720"/>
            <a:ext cx="1511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tart_user_au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940360" y="3213000"/>
            <a:ext cx="1440000" cy="503280"/>
          </a:xfrm>
          <a:prstGeom prst="wedgeRoundRectCallout">
            <a:avLst>
              <a:gd name="adj1" fmla="val -56175"/>
              <a:gd name="adj2" fmla="val 954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認証ダイアログを表示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8000" y="458136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CommNotif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4000" y="4941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530064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ProcRR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4365720"/>
            <a:ext cx="72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D_REA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0920" y="602136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Recei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16000" y="6237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619280" y="602136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rec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56000" y="6165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7640" y="4581360"/>
            <a:ext cx="1872000" cy="576360"/>
          </a:xfrm>
          <a:prstGeom prst="wedgeRoundRectCallout">
            <a:avLst>
              <a:gd name="adj1" fmla="val -80023"/>
              <a:gd name="adj2" fmla="val -1143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番始めは”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tocol Version Exchang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がサーバより送られてく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987640" y="6021360"/>
            <a:ext cx="93672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KT_rec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24360" y="6165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56000" y="6021360"/>
            <a:ext cx="1584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_handle_server_I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940360" y="5300640"/>
            <a:ext cx="2592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SH-2.0-TTSSH/2.46 Win3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227640" y="5950080"/>
            <a:ext cx="2089440" cy="647640"/>
          </a:xfrm>
          <a:prstGeom prst="wedgeRoundRectCallout">
            <a:avLst>
              <a:gd name="adj1" fmla="val -61851"/>
              <a:gd name="adj2" fmla="val -1936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バージョン情報を検証後、クライアント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のバージョン情報をサーバへ送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8000" y="2997360"/>
            <a:ext cx="90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D_CONN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3-09T15:52:49Z</dcterms:modified>
  <cp:revision>222</cp:revision>
  <dc:subject/>
  <dc:title>DDEのしくみ</dc:title>
</cp:coreProperties>
</file>