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088188" cy="10209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E9DEC-BDB0-4BE2-B7D1-8C1491075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D7A27-5446-46CF-8B76-5E23D3810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2FC2A-A32D-4E0C-A8DF-595426978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EAD0C-D807-4754-9DC2-52578E8EE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0397C-CF81-4C13-BBAE-43236365C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64F41-A8DC-4C45-B79F-E8193B1FF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14377-FE1D-44FD-A1BC-0EE306700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9E63B-7D39-414D-9756-C4814DE73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6C5E2-75C5-4D74-B4DD-920D1E9D5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F2CA3-7DD7-4511-B76A-C95B679D1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62109-CA08-45D2-9CD3-FE5977E68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1F698-390D-4D5A-A161-C3886DD78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85499-49E3-4DBF-9E1B-7156145B48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773360"/>
            <a:ext cx="7632720" cy="417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26920" y="249228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6920" y="328464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26920" y="400536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26920" y="465300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26920" y="522936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340000" y="177336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71640" y="177336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084720" y="177336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700360" y="1341360"/>
            <a:ext cx="345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669120" y="72540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うそうそ帳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53720" y="281160"/>
            <a:ext cx="187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9/12/2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作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888120" y="624204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うまく出来るかしら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2T11:29:08Z</dcterms:created>
  <dc:creator>株式会社ＮＴＴデータビジネスブレインズ</dc:creator>
  <dc:description/>
  <dc:language>en-US</dc:language>
  <cp:lastModifiedBy>株式会社ＮＴＴデータビジネスブレインズ</cp:lastModifiedBy>
  <dcterms:modified xsi:type="dcterms:W3CDTF">2009-12-22T11:30:08Z</dcterms:modified>
  <cp:revision>2</cp:revision>
  <dc:subject/>
  <dc:title>スライド 1</dc:title>
</cp:coreProperties>
</file>