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8E15-AEC5-42C2-9895-0177B8E5A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D713-2589-41CC-A986-CC83BCD20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CF4064-AA90-4E9D-8E05-D0436FCEB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E9121C-9B24-41B7-B42D-056C1AA17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E9DDBD-D645-47AE-9054-FBC4B54F1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A7A669-8350-4504-A396-F282CA73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A5B034-8F19-4A61-9FC0-06FE0578D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8EC212-5400-4B30-A416-691A7D0A8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AD0F1B-4E24-4921-9BB8-6B81A1D9B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CF768D-FC25-4536-B367-66B7E7BA7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E57DDB-0013-4006-B761-AC3521652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E1E4E19-2D9D-4166-97E8-E3FED85A1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BFD7-F640-4BDE-82DA-D8F9C1B91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339BB60-B2BB-4CF3-AF90-AD32BA78F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4CE4594-DC22-43DD-B17C-39D86F255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4A2682D-C65A-4ADB-83E3-715EA9772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30F663A-6242-4E92-9FAC-2CC5C5501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55A4AD5-94CC-412C-BD44-698D7574A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6459B07-8EEE-4B28-B779-BC160BFD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5BA14EB-B2B2-4D3D-9C14-AAF4F00C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01468CE-8182-40E3-B091-4012A623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BEE6F35-A6B0-465B-8E31-227C22144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1A47E50-1574-4ECA-B289-F4957567D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5363-2A1D-48F6-AFA4-1187A1841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55D7C7C-800C-46CE-9E61-D9EC9B3AE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0B5204-68BA-4008-9852-69CE8CD72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0079D1-DC97-4F69-B8CD-00ABEE4B9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8AF1C7-9851-492D-A0DB-369E90001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DB2E98-19AE-4A9F-BB1A-56DAC58B1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981C23-B66B-4326-99DD-D82808F69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56FA24-F412-4AB7-9643-22AC153D8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AF90D1-370B-407B-9008-186631C0D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E55E78-F6FA-4EA1-852D-3AC7A20B3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2D4661-A157-4563-BC5A-29E9FF76B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4F062-38CF-4120-B2AE-4937A4513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56415E-6113-4982-8322-6E7FB7CA3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6E3EC4-6299-49F3-9F3E-FE9153D1E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9FEBC0-7D21-4254-A96E-85683CF13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C75FA0-18B1-45BF-8F55-FB127420F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24B80C-4653-4EC4-9A1E-AE0E84F19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F75352-A9E7-482D-A53B-72776CC8B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967BF7-9A37-4465-9053-D8FF567F8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3575FA-D5C4-4C55-8127-4F213F189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0B14AD-8939-4E3D-9AFE-0A93D0F85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BB2A1D-20AB-41F0-B797-3FAC0711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CAF34-E647-4A52-92E6-FCD9DA479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07B91F-CE06-4226-BCBE-3C2CB949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E3A6DF-FEE3-4AB0-AFEE-D66642821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BD03A4-E3C0-46D1-A279-3B22C9B38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92C998-241E-47BC-BB89-C5BD7A4C3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CD986F-82FA-4714-A2EC-0C6BBB3A0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F7490-1E8B-488F-93E2-75E2B5358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12142-C7CE-4DFE-A940-67A38A8CE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10CFA-9478-49E6-BA8E-3F859F739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06359-D610-4344-9F33-9A8B5ED90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53944-7C28-4677-BE18-8C535BF43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2E42-319F-4F7C-86A1-7E2C07F7A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0DDD0-61BA-4CBE-AFBC-950B2A721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C8B0F-D419-4F94-930B-11695EE5E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74442-53EE-43FA-B3EE-6F90AA2B2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8662B-2B53-42DA-8853-844E603B6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B5EFB-F4FA-4155-9E9A-E3FC56C51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CDF04-7D0E-49B5-815C-B8C672BE3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D86E9-2E00-4CA4-85AD-C49EEFF4A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5D3C8-1486-448F-9F52-66E259BF6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B4978-93ED-4CEA-9FC0-DC2454AC9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F3FCB-8664-4134-B9D5-A165C050E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0A24-C8E2-4C04-8C0F-9FFA4F444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AC317-AD60-46DF-A629-F022E318C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C5968-070D-4EC8-9D80-0DF39FAD7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60F61-6776-42D7-BA61-C1D782A12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5AFAD-B86D-4B68-B868-3A740BE7B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1DF75-73B0-4149-AB88-49762AC9D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D2B83-E8F1-487C-B331-36171A899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8519F-AFBA-448F-A648-A03198427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474FF-1817-40C5-A199-126A65EC6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14E7E-77C5-4360-8E11-51839896E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02865-2A05-4692-8BE0-DE1E12E5F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50ED-8A7C-4854-BC94-BED765E51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6D7B2-F626-4A53-BA78-B653FB36E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9052D-4463-4DF4-B9E8-03BDD6919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1A40C-0E35-4206-B5EC-7519064EE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7A6F6-D69D-4073-9B48-ACD278048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4B79E-9E1A-4C4A-87C9-71CF335D1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73B66-42F4-48CB-AC80-A720CA0F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8379E-7CF1-4A5F-88B0-BDBEA60B1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A23FB-AF5A-4C4B-AE5A-E62065E56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284F8-B000-442A-98BC-B9C5DEA79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E1DC84-C504-4C62-BDC9-BCFC538CF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D74C-48E4-4B04-82CC-F0403F2CF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16F699-02B3-4A60-882A-FB2D24342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BBD239-8E34-428A-844A-38391EE06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B12868-4096-4FD8-8E7A-92FA5A135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5A5338-E8A0-4E56-B5AA-D7BD6193F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159FB2-56A9-4D2D-AF17-A2F45F4E0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0F8430-C528-469D-9834-88530936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CD05E0-92A4-4295-A896-129EAC98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D8396E-8F12-4B93-B760-0C9B68F62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AAAEE2-CDDD-425A-8B2C-29817FA3E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187E49-A578-4673-9AE7-2795F38E9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3014-3291-49AD-9208-35424EF09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AD54DF-DD71-4E7A-B727-DFC62958A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EAC50E-B0A1-4E97-B864-F828B2FF2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6EE9A1-1155-4275-8690-8093C9FD1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BB1E33-CED4-4FB2-8DB6-576FA63EA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474BA0-7A0D-41E2-8B0A-3AE6D2776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800DC2-44DC-421E-9408-6DBE7AA3B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41A369-59D1-4CEB-BA68-7B2BB5DE6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D125E5-3079-42D1-90DE-634C41E30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43F5CA-EC4F-4079-B328-E0EBA12A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2D196A-C725-41FC-833A-68F45B598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AF58-DCF6-478F-B52B-6F61BC22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6DA53E-F99E-4D05-A295-ED8675454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8AABEA-BA66-4A53-AA4A-8BE330A4B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897022-8982-44C2-9D54-1BA5BF2BD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F5F55C-2515-430B-BB86-F29942514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D3CE95-4CC5-4A33-BADD-47D729A3F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A18826-709D-4DDC-A7A8-2FA169D15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4F17EA-FC2C-43A5-9D8C-8393677A8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B7B81E-5E73-48FA-89F4-430262AD7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A5681D-7DE8-42D9-B607-7264062D8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22F997-BEF0-481E-8D0D-E4223238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829A-FC3B-440B-8732-55B528D8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07441B-C19F-4B56-AD08-CDD2FCF43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F19437-E2CF-4253-BAAF-AFA47B4E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3558DC-4C4A-4541-A565-D18C208B5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CD537A-EC7C-4679-B621-C010E94B8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5A3F19-F5EB-48A7-B864-133DF1A63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9690DC-CB92-4C10-85AB-8253C3415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9689A5-46A0-4C2E-A032-4974DF37A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58BA6B-3541-49FF-BEC2-AE095E56E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80147F-416F-428B-9237-49B75B238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064166-35C2-4575-92E7-817E7CDB0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E8CD-D8C5-41FA-822B-F738FABC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8ED18E-FAC5-4007-8994-DC753F615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F26F92-4B7F-44FE-9D45-7EC6D774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BA1DA9-B9C5-46DB-97AE-D45F5958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A6D8AB-E9BC-49A5-A71F-ED84F0526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81C1D1-C83A-450E-83FC-50AE774B1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6BD217-BA2E-4871-8D04-87D917BE4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BF7D0F-0D7C-49A8-9349-15D6F054D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1E32D4-69FB-407D-9269-44EACFED4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717C23-6D10-4226-869A-32E2AE187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93C7CE-3DBA-4947-8B76-BFD1E515D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A8280-1622-41CB-9AAB-AD23AA2BD38B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9A2D2-CBF4-4629-A8EA-B61B007A826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79C13-CD47-4F67-80D9-9400F3DCBF5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DB74F-4AAA-4229-88DA-5413D69F6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760FC-8376-4A27-8490-B3247FB3BF96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6A3EF-F840-4907-81C4-6B87CFF58390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53366-55E6-403C-802D-EBB694EF6C49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8C519-469C-4725-B5BE-111D2EC2378A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46CC7-5DF7-4EF3-B695-E3D4ABF7D39D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F31ED-6BF7-44BF-8E6A-2CE10B1C59C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F9725-1FDF-40B1-A8BA-8EBEA583147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4368A-4AD0-4BC4-B30C-A1996B2296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F1A12-2648-4170-A290-EE7CE8BB52A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6A7F4-01DE-45F4-B801-77A6DD1ACC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647C7-65F3-4EAD-A98A-667BE77A214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9CDCC-A9D8-46B9-95F4-B594721BD988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2A59E-92C9-4AA2-9039-9674DD69C08D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7766B-E5F8-48D3-90BE-4568853F459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BAB20-6C0A-4D47-ADD4-0B5A24655E3E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263F1-8C09-4CA8-9772-E7845E41051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B2263-9AF9-4DE6-A3E1-583D591ED7CE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F0D66-83C7-4960-8DBF-9796DF9AE9F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92058-CB3E-405C-8838-F331F9336B7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17D63-6D0A-472B-BE5F-A059A90BF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E187-29F6-4910-951B-A50628B5A6A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130D02-F3CD-4DBF-ACC3-92C8A12E915E}" type="datetime1">
              <a:rPr lang="en-US"/>
              <a:t>07/29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CFB4C6-19B7-4BB9-9CA9-387C03A0478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82124A79-F221-4B10-852A-93E4ECFA9C9D}" type="datetime1">
              <a:rPr lang="en-US"/>
              <a:t>07/29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6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4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38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1477B-59F0-4849-87BC-32260607A86B}" type="slidenum">
              <a:t>3</a:t>
            </a:fld>
          </a:p>
        </p:txBody>
      </p:sp>
    </p:spTree>
  </p:cSld>
  <p:transition>
    <p:comb dir="horz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000"/>
                            </p:stCondLst>
                            <p:childTnLst>
                              <p:par>
                                <p:cTn id="1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0"/>
                            </p:stCondLst>
                            <p:childTnLst>
                              <p:par>
                                <p:cTn id="19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71E45B-689C-4429-8FE8-B6A5A66F9558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0539DBFF-7F76-4516-AB41-83EAA4AB9FCC}" type="datetime1">
              <a:rPr lang="en-US"/>
              <a:t>07/29/26</a:t>
            </a:fld>
          </a:p>
        </p:txBody>
      </p:sp>
    </p:spTree>
  </p:cSld>
  <p:transition>
    <p:wedg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1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4000"/>
                            </p:stCondLst>
                            <p:childTnLst>
                              <p:par>
                                <p:cTn id="2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6000"/>
                            </p:stCondLst>
                            <p:childTnLst>
                              <p:par>
                                <p:cTn id="2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9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55EBC3-3142-4559-AD07-71BEA7FD5C4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BE4929A6-E463-4D49-BDFF-07A2C1388869}" type="datetime1">
              <a:rPr lang="en-US"/>
              <a:t>07/29/26</a:t>
            </a:fld>
          </a:p>
        </p:txBody>
      </p:sp>
    </p:spTree>
  </p:cSld>
  <p:transition>
    <p:wipe dir="d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4000"/>
                            </p:stCondLst>
                            <p:childTnLst>
                              <p:par>
                                <p:cTn id="28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0"/>
                            </p:stCondLst>
                            <p:childTnLst>
                              <p:par>
                                <p:cTn id="2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6000"/>
                            </p:stCondLst>
                            <p:childTnLst>
                              <p:par>
                                <p:cTn id="29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7000"/>
                            </p:stCondLst>
                            <p:childTnLst>
                              <p:par>
                                <p:cTn id="30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8000"/>
                            </p:stCondLst>
                            <p:childTnLst>
                              <p:par>
                                <p:cTn id="3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9000"/>
                            </p:stCondLst>
                            <p:childTnLst>
                              <p:par>
                                <p:cTn id="3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6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8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3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8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11EB2C-606A-45B3-A61E-5ACD972DB28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CC453D1E-EDAB-49B0-BF73-9D11D80D8466}" type="datetime1">
              <a:rPr lang="en-US"/>
              <a:t>07/29/26</a:t>
            </a:fld>
          </a:p>
        </p:txBody>
      </p:sp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3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4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2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3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