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6507-59B0-4640-B76D-5EE64768731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3ADE-D919-41CA-95CE-19822B6B74C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Cayenn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の組合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松永　隆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トランザクション制御を組み合わせ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仕組みは、ほとんど意識しなくて良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が普及すれば、需要が増え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名前：松永　隆宏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a4i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生息地：大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職業：派遣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弱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aua4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seasar.satin.jp/wiki/index.php?Sandbox%2FS2Ca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マッピングツール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」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のトランザクション制御と組み合わせて使うための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と同じポジション（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現在実装している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インタフェースによる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の自動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後、実装させたい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フェースの実装クラス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yenne 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分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簡単に作成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通常は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用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書く変わりに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句の内容を表すメソッド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Te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複雑な条件などを使用したい場合は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Temple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って、直接コマンドを実行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プロジェクトに何か貢献し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に参加したら、自分のレベルが上がる気がし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某コミッタにそそのかされて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s2Cayenn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examples.cayenne.dao.EmployeeAutoDa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j2ee.requiredTx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s2cayenne.interceptor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 namespace="s2cayenn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j2e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impl.S2DataContext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dao.impl.CayenneDaoMetaData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name="interceptor" class="org.seasar.cayenne.interceptors.S2CayenneDaoIntercepto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interface EmployeeAutoDa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Class BEAN = Employee.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List getAllEmploye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insert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upda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dele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ちゃんとした「プロジェクト」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開発を手伝ってくれる方募集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詳しい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ちょっとでも「やる気」のあ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何だったら、プロジェクトを引き継いでくれる方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「音沙汰無し」はやはり寂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フィードバックが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との連携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4T03:00:56Z</dcterms:modified>
  <cp:revision>9</cp:revision>
  <dc:subject/>
  <dc:title>S2Cayenne ～Seasar2とCayenneの組合せ</dc:title>
</cp:coreProperties>
</file>