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4F4-5DCF-432E-8B95-7A6DD326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50E-8257-4EC4-B0A5-1BA80F93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78A3-1613-43BF-BC0A-7805D31A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68C-3D7F-49BE-BD6D-C7D6D98B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1A06-4A90-415E-B720-F9A8032C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593-EE81-45F0-AFAA-DE1A96DD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5A6-BA35-4741-A07F-451B3F90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EEE-FF19-4D80-A9F8-8B6BB327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7FF-E399-423E-8FB0-85EFDEBB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EE6-2E48-437D-BF5C-1802B2F8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394-5BE4-4606-B126-D4509375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F1B-A8D1-4151-A242-DF60E960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E1AD-E2B3-4EBA-8C92-ED0217E2E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起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ndWindow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がい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既存の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YDATASTRUCT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コマンドラインを送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1371600" y="18288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371600" y="8380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914400" y="304812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371600" y="2666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993240" y="18129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952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初期化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ウィンドウ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X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9" idx="1"/>
          </p:cNvCxnSpPr>
          <p:nvPr/>
        </p:nvCxnSpPr>
        <p:spPr>
          <a:xfrm flipV="1">
            <a:off x="2209680" y="1523880"/>
            <a:ext cx="533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176560" y="12794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1337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M_COPY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受信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3429000" y="17524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進行・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4" idx="0"/>
          </p:cNvCxnSpPr>
          <p:nvPr/>
        </p:nvCxnSpPr>
        <p:spPr>
          <a:xfrm>
            <a:off x="3429000" y="27432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125880" y="27432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メッセージを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2209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1"/>
            <a:endCxn id="54" idx="3"/>
          </p:cNvCxnSpPr>
          <p:nvPr/>
        </p:nvCxnSpPr>
        <p:spPr>
          <a:xfrm rot="10800000">
            <a:off x="4114440" y="3352680"/>
            <a:ext cx="6098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57" idx="0"/>
          </p:cNvCxnSpPr>
          <p:nvPr/>
        </p:nvCxnSpPr>
        <p:spPr>
          <a:xfrm>
            <a:off x="4267080" y="2438640"/>
            <a:ext cx="1143360" cy="68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2" idx="1"/>
          </p:cNvCxnSpPr>
          <p:nvPr/>
        </p:nvCxnSpPr>
        <p:spPr>
          <a:xfrm flipV="1" rot="16200000">
            <a:off x="2438640" y="2590920"/>
            <a:ext cx="1143000" cy="838440"/>
          </a:xfrm>
          <a:prstGeom prst="bentConnector4">
            <a:avLst>
              <a:gd name="adj1" fmla="val -20258"/>
              <a:gd name="adj2" fmla="val 128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650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0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0:30:47Z</dcterms:created>
  <dc:creator>山崎 顕治</dc:creator>
  <dc:description/>
  <dc:language>en-US</dc:language>
  <cp:lastModifiedBy>山崎 顕治</cp:lastModifiedBy>
  <dcterms:modified xsi:type="dcterms:W3CDTF">2004-01-11T18:15:04Z</dcterms:modified>
  <cp:revision>3</cp:revision>
  <dc:subject/>
  <dc:title>PowerPoint プレゼンテーション</dc:title>
</cp:coreProperties>
</file>