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78FA0-A4FA-4EFF-997B-64ACF852F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C11DF-DAEF-4850-AEDC-C206735ED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A539E-DB06-4BCE-82BE-68103C9C0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42184-A9A9-492C-BB4F-EDEE31FC81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2AEF3-0821-484B-B2CA-88927F3829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54A89-ED23-47F1-AA85-F7C0E1198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62132-7BD2-4F9C-A30B-2BDD84367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175F9-BDBD-43BE-A235-6A5D540FC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80720"/>
            <a:ext cx="8686800" cy="10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48430-4FCE-42E4-AA55-661468EC4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9C4FF-956A-4472-8030-596C30A979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00C76-F903-4F7E-B13B-1342FCAB2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1FAD6-5DF2-49EA-BC3A-F1CEA2AF5F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27DF-070D-4C07-8CD2-DC61F0DFA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457200"/>
            <a:ext cx="883944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152280"/>
            <a:ext cx="8839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3000" y="1266840"/>
            <a:ext cx="5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1360" y="188928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NowLo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2800" y="2575080"/>
            <a:ext cx="112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PlayD/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3480" y="332280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DT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3880" y="14335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3880" y="21193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3880" y="280512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3880" y="349560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357200"/>
            <a:ext cx="76201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09640" y="13572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09640" y="20430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1" idx="1"/>
            <a:endCxn id="52" idx="1"/>
          </p:cNvCxnSpPr>
          <p:nvPr/>
        </p:nvCxnSpPr>
        <p:spPr>
          <a:xfrm>
            <a:off x="170964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51" idx="3"/>
            <a:endCxn id="52" idx="3"/>
          </p:cNvCxnSpPr>
          <p:nvPr/>
        </p:nvCxnSpPr>
        <p:spPr>
          <a:xfrm>
            <a:off x="228600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" name=""/>
          <p:cNvSpPr/>
          <p:nvPr/>
        </p:nvSpPr>
        <p:spPr>
          <a:xfrm>
            <a:off x="1678680" y="18144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2043000"/>
            <a:ext cx="2286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1357200"/>
            <a:ext cx="22860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1"/>
            <a:endCxn id="56" idx="1"/>
          </p:cNvCxnSpPr>
          <p:nvPr/>
        </p:nvCxnSpPr>
        <p:spPr>
          <a:xfrm>
            <a:off x="2362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7" idx="3"/>
            <a:endCxn id="56" idx="3"/>
          </p:cNvCxnSpPr>
          <p:nvPr/>
        </p:nvCxnSpPr>
        <p:spPr>
          <a:xfrm>
            <a:off x="4648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2321280" y="18144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23036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14800" y="22860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043000"/>
            <a:ext cx="5331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414600"/>
            <a:ext cx="5331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3" idx="1"/>
            <a:endCxn id="64" idx="1"/>
          </p:cNvCxnSpPr>
          <p:nvPr/>
        </p:nvCxnSpPr>
        <p:spPr>
          <a:xfrm>
            <a:off x="259092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63" idx="3"/>
            <a:endCxn id="64" idx="3"/>
          </p:cNvCxnSpPr>
          <p:nvPr/>
        </p:nvCxnSpPr>
        <p:spPr>
          <a:xfrm>
            <a:off x="312408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2590920" y="3032280"/>
            <a:ext cx="60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ad, </a:t>
            </a:r>
            <a:r>
              <a:rPr b="0" lang="zh-CN" sz="1000" spc="-1" strike="noStrike">
                <a:solidFill>
                  <a:srgbClr val="000000"/>
                </a:solidFill>
                <a:latin typeface="Arial Narrow"/>
              </a:rPr>
              <a:t>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57560" y="2728800"/>
            <a:ext cx="576360" cy="152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6240" y="25002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5756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70" idx="1"/>
            <a:endCxn id="68" idx="1"/>
          </p:cNvCxnSpPr>
          <p:nvPr/>
        </p:nvCxnSpPr>
        <p:spPr>
          <a:xfrm>
            <a:off x="315756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70" idx="3"/>
            <a:endCxn id="68" idx="3"/>
          </p:cNvCxnSpPr>
          <p:nvPr/>
        </p:nvCxnSpPr>
        <p:spPr>
          <a:xfrm>
            <a:off x="373392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" name=""/>
          <p:cNvSpPr/>
          <p:nvPr/>
        </p:nvSpPr>
        <p:spPr>
          <a:xfrm>
            <a:off x="3767040" y="34146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5360" y="303228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BMP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6704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1"/>
            <a:endCxn id="73" idx="1"/>
          </p:cNvCxnSpPr>
          <p:nvPr/>
        </p:nvCxnSpPr>
        <p:spPr>
          <a:xfrm>
            <a:off x="376704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75" idx="3"/>
            <a:endCxn id="73" idx="3"/>
          </p:cNvCxnSpPr>
          <p:nvPr/>
        </p:nvCxnSpPr>
        <p:spPr>
          <a:xfrm>
            <a:off x="434340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8" name=""/>
          <p:cNvSpPr/>
          <p:nvPr/>
        </p:nvSpPr>
        <p:spPr>
          <a:xfrm>
            <a:off x="4397400" y="22892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9160" y="22716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5776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57760" y="20430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80" idx="1"/>
            <a:endCxn id="81" idx="1"/>
          </p:cNvCxnSpPr>
          <p:nvPr/>
        </p:nvCxnSpPr>
        <p:spPr>
          <a:xfrm>
            <a:off x="475776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80" idx="3"/>
            <a:endCxn id="81" idx="3"/>
          </p:cNvCxnSpPr>
          <p:nvPr/>
        </p:nvCxnSpPr>
        <p:spPr>
          <a:xfrm>
            <a:off x="541008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4726080" y="18144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72160" y="1357200"/>
            <a:ext cx="72864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72160" y="2728800"/>
            <a:ext cx="72864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5" idx="1"/>
            <a:endCxn id="86" idx="1"/>
          </p:cNvCxnSpPr>
          <p:nvPr/>
        </p:nvCxnSpPr>
        <p:spPr>
          <a:xfrm>
            <a:off x="567216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85" idx="3"/>
            <a:endCxn id="86" idx="3"/>
          </p:cNvCxnSpPr>
          <p:nvPr/>
        </p:nvCxnSpPr>
        <p:spPr>
          <a:xfrm>
            <a:off x="640080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5640480" y="25002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4988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1640" y="29574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8800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40480" y="29574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27288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4" idx="1"/>
            <a:endCxn id="95" idx="1"/>
          </p:cNvCxnSpPr>
          <p:nvPr/>
        </p:nvCxnSpPr>
        <p:spPr>
          <a:xfrm>
            <a:off x="647712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4" idx="3"/>
            <a:endCxn id="95" idx="3"/>
          </p:cNvCxnSpPr>
          <p:nvPr/>
        </p:nvCxnSpPr>
        <p:spPr>
          <a:xfrm>
            <a:off x="712944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6445440" y="25002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8880" y="1281240"/>
            <a:ext cx="457200" cy="243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05880" y="1357200"/>
            <a:ext cx="8046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05880" y="3414600"/>
            <a:ext cx="8046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1"/>
            <a:endCxn id="101" idx="1"/>
          </p:cNvCxnSpPr>
          <p:nvPr/>
        </p:nvCxnSpPr>
        <p:spPr>
          <a:xfrm>
            <a:off x="78058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100" idx="3"/>
            <a:endCxn id="101" idx="3"/>
          </p:cNvCxnSpPr>
          <p:nvPr/>
        </p:nvCxnSpPr>
        <p:spPr>
          <a:xfrm>
            <a:off x="86104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7781760" y="3033720"/>
            <a:ext cx="82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StopAllWa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/ Cl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8200" y="12049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60240" y="960480"/>
            <a:ext cx="100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043000"/>
            <a:ext cx="1270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233440"/>
            <a:ext cx="1657440" cy="495360"/>
          </a:xfrm>
          <a:custGeom>
            <a:avLst/>
            <a:gdLst/>
            <a:ahLst/>
            <a:rect l="l" t="t" r="r" b="b"/>
            <a:pathLst>
              <a:path w="1044" h="312">
                <a:moveTo>
                  <a:pt x="1044" y="0"/>
                </a:moveTo>
                <a:cubicBezTo>
                  <a:pt x="1033" y="17"/>
                  <a:pt x="1040" y="66"/>
                  <a:pt x="978" y="102"/>
                </a:cubicBezTo>
                <a:cubicBezTo>
                  <a:pt x="916" y="138"/>
                  <a:pt x="835" y="181"/>
                  <a:pt x="672" y="216"/>
                </a:cubicBezTo>
                <a:cubicBezTo>
                  <a:pt x="509" y="251"/>
                  <a:pt x="248" y="288"/>
                  <a:pt x="0" y="312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387036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68" idx="3"/>
            <a:endCxn id="109" idx="0"/>
          </p:cNvCxnSpPr>
          <p:nvPr/>
        </p:nvCxnSpPr>
        <p:spPr>
          <a:xfrm>
            <a:off x="3733920" y="2805120"/>
            <a:ext cx="360" cy="10656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cxnSp>
        <p:nvCxnSpPr>
          <p:cNvPr id="111" name=""/>
          <p:cNvCxnSpPr>
            <a:stCxn id="56" idx="3"/>
            <a:endCxn id="109" idx="1"/>
          </p:cNvCxnSpPr>
          <p:nvPr/>
        </p:nvCxnSpPr>
        <p:spPr>
          <a:xfrm flipH="1">
            <a:off x="4647600" y="2119320"/>
            <a:ext cx="1080" cy="17514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sp>
        <p:nvSpPr>
          <p:cNvPr id="112" name=""/>
          <p:cNvSpPr/>
          <p:nvPr/>
        </p:nvSpPr>
        <p:spPr>
          <a:xfrm>
            <a:off x="4939920" y="3946680"/>
            <a:ext cx="346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、２つ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同時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ctiv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になってい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間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た場合（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lt+Enter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ど）は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も忘れず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すること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::stageID == STAGE_NOWLOADIN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であ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DTX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Child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ので、自動的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20492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5360" y="960480"/>
            <a:ext cx="107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先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2209680" cy="45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最終更新： 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2006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31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適用： 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06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5440" y="24987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Arial"/>
              </a:rPr>
              <a:t>先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86280" y="394668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51400" y="5241960"/>
            <a:ext cx="363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呼ば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→　先行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した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も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されてしまう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81720" y="5638680"/>
            <a:ext cx="513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するまえに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g_App::stageID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STAGE_PLAY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に変えてしまう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ことで区別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_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ときだけ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する。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19320" y="525780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3123720" y="4495680"/>
            <a:ext cx="83844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71440" y="2133720"/>
            <a:ext cx="2057400" cy="29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5638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76040" y="592200"/>
            <a:ext cx="330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は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どで）時間がかかるので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中に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45720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My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6765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DirectInput (D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1240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 (S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337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Input (M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590920"/>
            <a:ext cx="1220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Output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5812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imer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ystemSou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572000"/>
            <a:ext cx="220968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16765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sP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457200"/>
            <a:ext cx="12207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4760" y="22860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11560" y="27432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3360" y="32004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4760" y="38098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3360" y="4267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4760" y="48006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4760" y="52578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579132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48006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0292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extur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2578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urfac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28" idx="3"/>
            <a:endCxn id="136" idx="1"/>
          </p:cNvCxnSpPr>
          <p:nvPr/>
        </p:nvCxnSpPr>
        <p:spPr>
          <a:xfrm>
            <a:off x="1753920" y="186660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0" name=""/>
          <p:cNvCxnSpPr>
            <a:stCxn id="130" idx="3"/>
            <a:endCxn id="136" idx="1"/>
          </p:cNvCxnSpPr>
          <p:nvPr/>
        </p:nvCxnSpPr>
        <p:spPr>
          <a:xfrm flipV="1">
            <a:off x="1753920" y="1866600"/>
            <a:ext cx="532440" cy="457920"/>
          </a:xfrm>
          <a:prstGeom prst="bentConnector3">
            <a:avLst>
              <a:gd name="adj1" fmla="val 4979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457200" y="76212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Disp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hi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ult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1523880"/>
            <a:ext cx="106812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7621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et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9907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Box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6095880"/>
            <a:ext cx="10652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I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12193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ong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190512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2920" y="4191120"/>
            <a:ext cx="23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別モノ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676520" y="3428640"/>
            <a:ext cx="380880" cy="7621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76520" y="4419720"/>
            <a:ext cx="380880" cy="4572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ヘッダ情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PM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WAV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TEX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PAN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56272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AVI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57913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Av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29" idx="3"/>
            <a:endCxn id="133" idx="1"/>
          </p:cNvCxnSpPr>
          <p:nvPr/>
        </p:nvCxnSpPr>
        <p:spPr>
          <a:xfrm>
            <a:off x="1753920" y="331452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838080" y="28195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HMIDI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152388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3"/>
            <a:endCxn id="174" idx="1"/>
          </p:cNvCxnSpPr>
          <p:nvPr/>
        </p:nvCxnSpPr>
        <p:spPr>
          <a:xfrm>
            <a:off x="5030280" y="1638000"/>
            <a:ext cx="304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cxnSp>
        <p:nvCxnSpPr>
          <p:cNvPr id="176" name=""/>
          <p:cNvCxnSpPr>
            <a:stCxn id="174" idx="2"/>
            <a:endCxn id="159" idx="0"/>
          </p:cNvCxnSpPr>
          <p:nvPr/>
        </p:nvCxnSpPr>
        <p:spPr>
          <a:xfrm flipV="1" rot="10800000">
            <a:off x="5790600" y="17521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177" name=""/>
          <p:cNvSpPr/>
          <p:nvPr/>
        </p:nvSpPr>
        <p:spPr>
          <a:xfrm>
            <a:off x="5871240" y="838080"/>
            <a:ext cx="12438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リスト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持ってい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952880" y="1066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0200" y="5410080"/>
            <a:ext cx="1024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～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管理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952880" y="5638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41400" y="418320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120" y="76212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作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2" idx="2"/>
            <a:endCxn id="183" idx="0"/>
          </p:cNvCxnSpPr>
          <p:nvPr/>
        </p:nvCxnSpPr>
        <p:spPr>
          <a:xfrm flipV="1" rot="10800000">
            <a:off x="1523160" y="12189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74320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83" idx="3"/>
            <a:endCxn id="185" idx="1"/>
          </p:cNvCxnSpPr>
          <p:nvPr/>
        </p:nvCxnSpPr>
        <p:spPr>
          <a:xfrm>
            <a:off x="2286000" y="17521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83" idx="3"/>
            <a:endCxn id="186" idx="1"/>
          </p:cNvCxnSpPr>
          <p:nvPr/>
        </p:nvCxnSpPr>
        <p:spPr>
          <a:xfrm>
            <a:off x="2286000" y="175212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2743200" y="28954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の持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参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3" idx="3"/>
            <a:endCxn id="189" idx="1"/>
          </p:cNvCxnSpPr>
          <p:nvPr/>
        </p:nvCxnSpPr>
        <p:spPr>
          <a:xfrm>
            <a:off x="2286000" y="175248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74320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曲を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g_DTX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に読み込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43434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～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result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89" idx="2"/>
            <a:endCxn id="191" idx="0"/>
          </p:cNvCxnSpPr>
          <p:nvPr/>
        </p:nvCxnSpPr>
        <p:spPr>
          <a:xfrm flipV="1" rot="10800000">
            <a:off x="3504600" y="335232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3"/>
            <a:endCxn id="196" idx="1"/>
          </p:cNvCxnSpPr>
          <p:nvPr/>
        </p:nvCxnSpPr>
        <p:spPr>
          <a:xfrm>
            <a:off x="426708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1" idx="3"/>
            <a:endCxn id="192" idx="1"/>
          </p:cNvCxnSpPr>
          <p:nvPr/>
        </p:nvCxnSpPr>
        <p:spPr>
          <a:xfrm>
            <a:off x="4267080" y="388584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6" idx="3"/>
            <a:endCxn id="193" idx="1"/>
          </p:cNvCxnSpPr>
          <p:nvPr/>
        </p:nvCxnSpPr>
        <p:spPr>
          <a:xfrm>
            <a:off x="624852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2" idx="3"/>
            <a:endCxn id="193" idx="1"/>
          </p:cNvCxnSpPr>
          <p:nvPr/>
        </p:nvCxnSpPr>
        <p:spPr>
          <a:xfrm flipV="1">
            <a:off x="6248520" y="388548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2" idx="0"/>
          </p:cNvCxnSpPr>
          <p:nvPr/>
        </p:nvCxnSpPr>
        <p:spPr>
          <a:xfrm flipV="1" rot="16200000">
            <a:off x="4357800" y="3214800"/>
            <a:ext cx="1045440" cy="121212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4724280" y="36576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67760" y="327672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演奏中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93" idx="0"/>
            <a:endCxn id="189" idx="3"/>
          </p:cNvCxnSpPr>
          <p:nvPr/>
        </p:nvCxnSpPr>
        <p:spPr>
          <a:xfrm flipV="1" rot="16200000">
            <a:off x="5600160" y="1789920"/>
            <a:ext cx="534240" cy="3201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6212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Game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83" idx="2"/>
            <a:endCxn id="203" idx="0"/>
          </p:cNvCxnSpPr>
          <p:nvPr/>
        </p:nvCxnSpPr>
        <p:spPr>
          <a:xfrm flipV="1" rot="10800000">
            <a:off x="1523160" y="198072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7010280" y="4495680"/>
            <a:ext cx="685800" cy="304920"/>
          </a:xfrm>
          <a:prstGeom prst="wedgeRectCallout">
            <a:avLst>
              <a:gd name="adj1" fmla="val 14583"/>
              <a:gd name="adj2" fmla="val -1901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ゴシック"/>
              </a:rPr>
              <a:t>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4800600"/>
            <a:ext cx="2209680" cy="73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45" y="3337"/>
                </a:moveTo>
                <a:lnTo>
                  <a:pt x="-2622" y="3337"/>
                </a:lnTo>
                <a:lnTo>
                  <a:pt x="-2622" y="-30592"/>
                </a:lnTo>
                <a:lnTo>
                  <a:pt x="18450" y="-3824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選曲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StageSelect::GetPlayScore()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と難易度レベルを取得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どのみち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も使うので、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ナマ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渡したりはしない。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362320"/>
            <a:ext cx="1600200" cy="473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029" y="5219"/>
                </a:moveTo>
                <a:lnTo>
                  <a:pt x="-5293" y="5219"/>
                </a:lnTo>
                <a:lnTo>
                  <a:pt x="-5293" y="56972"/>
                </a:lnTo>
                <a:lnTo>
                  <a:pt x="-4971" y="69149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読み込み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 ←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デー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5410080"/>
            <a:ext cx="28954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3600"/>
                </a:moveTo>
                <a:lnTo>
                  <a:pt x="25733" y="3600"/>
                </a:lnTo>
                <a:lnTo>
                  <a:pt x="25733" y="-29200"/>
                </a:lnTo>
                <a:lnTo>
                  <a:pt x="11309" y="-3770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演奏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.m_ScoreIni (StagePlayD/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から設定済み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.m_ActChip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空うち用特例参照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33560" y="76212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nji</cp:lastModifiedBy>
  <dcterms:modified xsi:type="dcterms:W3CDTF">2006-12-31T05:52:0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