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00DD-6973-495A-9160-F698F5777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FFEF-7E52-40F9-B647-03766D01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D1F7-9646-4817-A88A-9587BB033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27F3-CC30-4B4E-B1FF-38508B86F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DBAD-081F-41C0-8706-901D9080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783B-2AE4-4953-8248-225DD866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1753-24F6-4DC4-A0EA-F55B460D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06BC-39F5-4AC8-A359-49AEB89B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80A7-68AF-41AE-B322-18EF3CBF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4D52-0499-46C6-960C-E41B49B7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1996-A710-4626-A5B6-7A2549CA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79A6-E72C-4B89-9581-EE2A0C71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4E52-C900-4836-AE66-1BF9B0E3C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609480"/>
            <a:ext cx="914400" cy="22860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起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19320"/>
            <a:ext cx="1676160" cy="6094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indWindow(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TXV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がいる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2096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既存の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TXV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YDATASTRUCT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で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コマンドラインを送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2" idx="2"/>
            <a:endCxn id="43" idx="0"/>
          </p:cNvCxnSpPr>
          <p:nvPr/>
        </p:nvCxnSpPr>
        <p:spPr>
          <a:xfrm>
            <a:off x="1371600" y="182880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2"/>
            <a:endCxn id="42" idx="0"/>
          </p:cNvCxnSpPr>
          <p:nvPr/>
        </p:nvCxnSpPr>
        <p:spPr>
          <a:xfrm>
            <a:off x="1371600" y="8380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914400" y="3048120"/>
            <a:ext cx="914400" cy="22860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終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"/>
          <p:cNvCxnSpPr>
            <a:stCxn id="43" idx="2"/>
            <a:endCxn id="46" idx="0"/>
          </p:cNvCxnSpPr>
          <p:nvPr/>
        </p:nvCxnSpPr>
        <p:spPr>
          <a:xfrm>
            <a:off x="1371600" y="2666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993240" y="181296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12952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初期化処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（ウィンドウ、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irectX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3"/>
            <a:endCxn id="49" idx="1"/>
          </p:cNvCxnSpPr>
          <p:nvPr/>
        </p:nvCxnSpPr>
        <p:spPr>
          <a:xfrm flipV="1">
            <a:off x="2209680" y="1523880"/>
            <a:ext cx="53388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2176560" y="127944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2133720"/>
            <a:ext cx="1676160" cy="6094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M_COPY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受信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9" idx="2"/>
            <a:endCxn id="52" idx="0"/>
          </p:cNvCxnSpPr>
          <p:nvPr/>
        </p:nvCxnSpPr>
        <p:spPr>
          <a:xfrm>
            <a:off x="3429000" y="17524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2743200" y="3124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進行・描画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2" idx="2"/>
            <a:endCxn id="54" idx="0"/>
          </p:cNvCxnSpPr>
          <p:nvPr/>
        </p:nvCxnSpPr>
        <p:spPr>
          <a:xfrm>
            <a:off x="3429000" y="274320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125880" y="274320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3124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メッセージを処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3640" y="220968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7" idx="1"/>
            <a:endCxn id="54" idx="3"/>
          </p:cNvCxnSpPr>
          <p:nvPr/>
        </p:nvCxnSpPr>
        <p:spPr>
          <a:xfrm rot="10800000">
            <a:off x="4114440" y="3352680"/>
            <a:ext cx="6098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2" idx="3"/>
            <a:endCxn id="57" idx="0"/>
          </p:cNvCxnSpPr>
          <p:nvPr/>
        </p:nvCxnSpPr>
        <p:spPr>
          <a:xfrm>
            <a:off x="4267080" y="2438640"/>
            <a:ext cx="1143360" cy="685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2" idx="1"/>
          </p:cNvCxnSpPr>
          <p:nvPr/>
        </p:nvCxnSpPr>
        <p:spPr>
          <a:xfrm flipV="1" rot="16200000">
            <a:off x="2438640" y="2590920"/>
            <a:ext cx="1143000" cy="838440"/>
          </a:xfrm>
          <a:prstGeom prst="bentConnector4">
            <a:avLst>
              <a:gd name="adj1" fmla="val -20258"/>
              <a:gd name="adj2" fmla="val 1287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219320" y="838080"/>
          <a:ext cx="6507000" cy="488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6507000" cy="48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1T10:30:47Z</dcterms:created>
  <dc:creator>山崎 顕治</dc:creator>
  <dc:description/>
  <dc:language>en-US</dc:language>
  <cp:lastModifiedBy>山崎 顕治</cp:lastModifiedBy>
  <dcterms:modified xsi:type="dcterms:W3CDTF">2004-01-11T18:15:04Z</dcterms:modified>
  <cp:revision>3</cp:revision>
  <dc:subject/>
  <dc:title>PowerPoint プレゼンテーション</dc:title>
</cp:coreProperties>
</file>