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0917-5C9E-43F6-A782-F9D321C5D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0FD9-7F48-40F2-98CC-07C27839F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B9ED-2975-42AC-8169-90381CB66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AB0B-4B64-4A67-ABFA-0F2F37FA8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C29F-B58B-4C27-B113-44A0EED77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E9C8-2C92-447B-94BD-9865A702F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A482-DB63-4A5C-BC69-7E66296F7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DE6B-D09C-447E-89DF-2AAD69EA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9A7D-AD67-4039-86D3-B7A4C6A59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593E-0F1A-45C2-AC8C-53BB15E4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F794-7C68-4B46-904D-AA63924B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62D4-E788-4805-908A-1967CD28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0B71-4CDE-4B2C-BAEE-34C25B2D5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4067280" cy="4438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38080" y="4572000"/>
            <a:ext cx="3657600" cy="457200"/>
          </a:xfrm>
          <a:prstGeom prst="flowChartAlternateProcess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029200"/>
            <a:ext cx="2286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33720" y="5334120"/>
            <a:ext cx="350496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ァイル属性の確認、設定ができ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6400800" cy="13618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2590920"/>
            <a:ext cx="609840" cy="533160"/>
          </a:xfrm>
          <a:prstGeom prst="flowChartAlternateProcess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0800" y="3124080"/>
            <a:ext cx="2286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3429000"/>
            <a:ext cx="350532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ァイル属性の確認、設定ができ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90680" y="1909800"/>
            <a:ext cx="6362640" cy="3038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733920" y="2209680"/>
            <a:ext cx="502920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ファイル属性の確認。アーカイブ属性のみ設定され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2819520"/>
            <a:ext cx="50292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読み取り専用属性と隠しファイル属性を付加し、再度ファイル属性を確認したとこ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3733920"/>
            <a:ext cx="50292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隠しファイル属性を外し、再度ファイル属性を確認したとこ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たかはしもとのぶ</cp:lastModifiedBy>
  <dcterms:modified xsi:type="dcterms:W3CDTF">2006-05-05T05:21:2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