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37646-D736-43BC-AEDB-CD02622C0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C134A-F7AE-4463-BCBA-01DA241CD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DB674-1D17-4DDC-BB9D-44292471F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0D3D0-7029-4115-910F-9D0759F90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2DEE0-954A-430D-82A3-EA3EA1BC5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4A504-BFF4-4395-8918-4B15C3123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E271B-BD70-4C40-94B7-AA8443EDB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38A62-1AB9-4F6D-879C-D14392054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7FEE6-524F-447B-9E5C-E0147AC73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0384B-488C-4A6D-A67C-1509FF87B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0D773-8BAB-4600-8D0A-061DEB4FC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43F55-E938-4560-9C21-415A9BC42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2AFBB-3949-4A4E-8A15-5E62BECE4345}" type="slidenum">
              <a:rPr b="0" lang="ja-JP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 u="sng">
                <a:solidFill>
                  <a:srgbClr val="000000"/>
                </a:solidFill>
                <a:uFillTx/>
                <a:latin typeface="Arial"/>
              </a:rPr>
              <a:t>TeraTerm</a:t>
            </a:r>
            <a:r>
              <a:rPr b="0" lang="ja-JP" sz="1600" spc="-1" strike="noStrike" u="sng">
                <a:solidFill>
                  <a:srgbClr val="000000"/>
                </a:solidFill>
                <a:uFillTx/>
                <a:latin typeface="Arial"/>
              </a:rPr>
              <a:t>ライブラリ構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56000" y="981000"/>
            <a:ext cx="1512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ermpro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067280" y="119700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43280" y="98100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Oniguru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340000" y="836640"/>
            <a:ext cx="3743280" cy="1152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627280" y="155736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TeraTerm</a:t>
            </a: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本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79640" y="4726080"/>
            <a:ext cx="1512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xssh.d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90920" y="494172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067280" y="472608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OpenSS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494172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780000" y="537372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067280" y="515772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zl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780000" y="573408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067280" y="558972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PuT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63640" y="4581360"/>
            <a:ext cx="5616720" cy="1584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979640" y="544500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SSH</a:t>
            </a: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モジュー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0" y="1413000"/>
            <a:ext cx="144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正規表現ライブラ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364000" y="4797360"/>
            <a:ext cx="100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暗号ライブラ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364000" y="5157720"/>
            <a:ext cx="100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圧縮ライブラ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364000" y="5589720"/>
            <a:ext cx="1440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an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連携ライブラ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556000" y="2637000"/>
            <a:ext cx="1512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pmacro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067280" y="28526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643280" y="263700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Oniguru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340000" y="2492280"/>
            <a:ext cx="3743280" cy="1152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627280" y="321300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マクロ本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72000" y="3068640"/>
            <a:ext cx="144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正規表現ライブラ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7T12:48:04Z</dcterms:created>
  <dc:creator>yutaka</dc:creator>
  <dc:description/>
  <dc:language>en-US</dc:language>
  <cp:lastModifiedBy>yutaka</cp:lastModifiedBy>
  <dcterms:modified xsi:type="dcterms:W3CDTF">2008-02-17T15:38:23Z</dcterms:modified>
  <cp:revision>78</cp:revision>
  <dc:subject/>
  <dc:title>TeraTermモジュール構成</dc:title>
</cp:coreProperties>
</file>