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C01D-F6F5-4AE1-B86E-9A69C5FBA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6F99-B58A-4F8D-895C-9A4E6A69F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228E-3297-494A-95E2-B802C2C3E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5A91-A166-4FAA-8BB2-6E01518AD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AC3F-E9DD-436A-AC44-F8016E6B0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D49C-9FA1-4DBA-A9C9-8A84C2B0E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6154-D210-43B1-BC55-6D167D815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DC8B-F9A4-498D-88B8-92CA062F5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107E-03AC-4F4D-8ED6-69FDEF3AC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C788-7EBB-42BB-82E0-C343BD416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1505-6EB2-4785-8BC9-14F53BA12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C439-93B5-4755-9E15-B77029D29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0B7DF-53D1-4EB6-94E2-400E015846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による接続処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90792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OpenTC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9079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404640"/>
            <a:ext cx="0" cy="626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7636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1125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940360" y="549360"/>
          <a:ext cx="2664000" cy="1214280"/>
        </p:xfrm>
        <a:graphic>
          <a:graphicData uri="http://schemas.openxmlformats.org/drawingml/2006/table">
            <a:tbl>
              <a:tblPr/>
              <a:tblGrid>
                <a:gridCol w="1224000"/>
                <a:gridCol w="14400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2627280" y="692280"/>
            <a:ext cx="649440" cy="576000"/>
          </a:xfrm>
          <a:prstGeom prst="wedgeRoundRectCallout">
            <a:avLst>
              <a:gd name="adj1" fmla="val -78606"/>
              <a:gd name="adj2" fmla="val 2768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ソケット関数のフ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1700280"/>
            <a:ext cx="863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SAAsync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2492280"/>
            <a:ext cx="8632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268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1916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2360" y="170028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3640" y="1557360"/>
            <a:ext cx="1008000" cy="503280"/>
          </a:xfrm>
          <a:prstGeom prst="wedgeRoundRectCallout">
            <a:avLst>
              <a:gd name="adj1" fmla="val -68425"/>
              <a:gd name="adj2" fmla="val 2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前は何もし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87280" y="2708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92360" y="249228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421000"/>
            <a:ext cx="2160720" cy="576360"/>
          </a:xfrm>
          <a:prstGeom prst="wedgeRoundRectCallout">
            <a:avLst>
              <a:gd name="adj1" fmla="val -55509"/>
              <a:gd name="adj2" fmla="val -344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を行う。接続成功すると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D_CONNEC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ッセージ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へ飛ぶ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306864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8000" y="321300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Op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3573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39337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St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4149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393372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03280" y="3141720"/>
            <a:ext cx="1368360" cy="574560"/>
          </a:xfrm>
          <a:prstGeom prst="wedgeRoundRectCallout">
            <a:avLst>
              <a:gd name="adj1" fmla="val -101277"/>
              <a:gd name="adj2" fmla="val 881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 | FD_OOB | FD_CLOSE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を登録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16360" y="4149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4800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AUTH_advance_to_next_cr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59280" y="4149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272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tart_user_au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0360" y="3213000"/>
            <a:ext cx="1440000" cy="503280"/>
          </a:xfrm>
          <a:prstGeom prst="wedgeRoundRectCallout">
            <a:avLst>
              <a:gd name="adj1" fmla="val -56175"/>
              <a:gd name="adj2" fmla="val 95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ダイアログを表示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58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Notif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4941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530064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ProcR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4365720"/>
            <a:ext cx="7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602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16000" y="6237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602136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5600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7640" y="4581360"/>
            <a:ext cx="1872000" cy="576360"/>
          </a:xfrm>
          <a:prstGeom prst="wedgeRoundRectCallout">
            <a:avLst>
              <a:gd name="adj1" fmla="val -80023"/>
              <a:gd name="adj2" fmla="val -1143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番始めは”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tocol Version Exchang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サーバより送られてく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87640" y="6021360"/>
            <a:ext cx="93672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KT_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2436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6000" y="6021360"/>
            <a:ext cx="1584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_handle_server_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300640"/>
            <a:ext cx="2592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SH-2.0-TTSSH/2.46 Win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27640" y="5950080"/>
            <a:ext cx="2089440" cy="647640"/>
          </a:xfrm>
          <a:prstGeom prst="wedgeRoundRectCallout">
            <a:avLst>
              <a:gd name="adj1" fmla="val -61851"/>
              <a:gd name="adj2" fmla="val -1936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バージョン情報を検証後、クライアン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のバージョン情報をサーバへ送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8000" y="2997360"/>
            <a:ext cx="9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D_CONN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09T15:52:49Z</dcterms:modified>
  <cp:revision>222</cp:revision>
  <dc:subject/>
  <dc:title>DDEのしくみ</dc:title>
</cp:coreProperties>
</file>