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EF80-567F-4F1B-921A-E9457801F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F852-28A1-48EF-9D2A-EC829E93C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68EA-047B-48C8-8EA6-FC0EE2439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9E56-487C-4F57-BE9A-76599AF14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7B3B-385B-497B-82B0-059C73967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515C-8C27-4B47-A926-5D1F8D7BC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A97E-A402-495C-B361-F2F61244A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60B9-189D-4107-896B-5F1EAED25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1931-2AC3-4E99-B419-E0190DEC0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4F04-A222-439E-9170-137B2F2F2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447E-E8DF-4ECC-9E8C-B6A71623B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0ED8-7C58-460F-8F21-6D868D482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89308-9D04-46A8-BF94-36F1AEF4E5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X11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転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987640" y="692280"/>
            <a:ext cx="2448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H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アプリケーショ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87640" y="2852640"/>
            <a:ext cx="2448000" cy="865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a Te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987640" y="5013360"/>
            <a:ext cx="2448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35280" y="4149720"/>
            <a:ext cx="23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6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635280" y="2060640"/>
            <a:ext cx="23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5280" y="155736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35280" y="371628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716360" y="155736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16360" y="371628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26920" y="1844640"/>
            <a:ext cx="2089440" cy="330120"/>
          </a:xfrm>
          <a:prstGeom prst="borderCallout1">
            <a:avLst>
              <a:gd name="adj1" fmla="val 18750"/>
              <a:gd name="adj2" fmla="val -8333"/>
              <a:gd name="adj3" fmla="val 143750"/>
              <a:gd name="adj4" fmla="val 1310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2781360"/>
            <a:ext cx="2087640" cy="865080"/>
          </a:xfrm>
          <a:prstGeom prst="wedgeRectCallout">
            <a:avLst>
              <a:gd name="adj1" fmla="val 69314"/>
              <a:gd name="adj2" fmla="val 1220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handle_SSH2_channel_data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FWD_received_data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sz="1000" spc="-1" strike="noStrike">
                <a:solidFill>
                  <a:srgbClr val="000000"/>
                </a:solidFill>
                <a:latin typeface="Arial"/>
              </a:rPr>
              <a:t>UTIL_sock_buffered_writ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blocking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2340000" y="4292280"/>
            <a:ext cx="574560" cy="1081080"/>
          </a:xfrm>
          <a:custGeom>
            <a:avLst/>
            <a:gdLst>
              <a:gd name="textAreaLeft" fmla="*/ 76680 w 574560"/>
              <a:gd name="textAreaRight" fmla="*/ 497880 w 574560"/>
              <a:gd name="textAreaTop" fmla="*/ 189000 h 1081080"/>
              <a:gd name="textAreaBottom" fmla="*/ 78372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8000" y="4221000"/>
            <a:ext cx="2087640" cy="865440"/>
          </a:xfrm>
          <a:prstGeom prst="wedgeRectCallout">
            <a:avLst>
              <a:gd name="adj1" fmla="val 56768"/>
              <a:gd name="adj2" fmla="val 140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FD_WR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write_local_connection_buffer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UTIL_sock_write_mor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24360" y="2852640"/>
            <a:ext cx="2519640" cy="863640"/>
          </a:xfrm>
          <a:prstGeom prst="wedgeRectCallout">
            <a:avLst>
              <a:gd name="adj1" fmla="val -60837"/>
              <a:gd name="adj2" fmla="val 1378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D_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d_local_connection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channel_sen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send_channel_data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05360" y="1844640"/>
            <a:ext cx="2089440" cy="330120"/>
          </a:xfrm>
          <a:prstGeom prst="borderCallout1">
            <a:avLst>
              <a:gd name="adj1" fmla="val 18750"/>
              <a:gd name="adj2" fmla="val -8333"/>
              <a:gd name="adj3" fmla="val 163462"/>
              <a:gd name="adj4" fmla="val -490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12-10-14T09:23:22Z</dcterms:modified>
  <cp:revision>355</cp:revision>
  <dc:subject/>
  <dc:title>DDEのしくみ</dc:title>
</cp:coreProperties>
</file>