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321C3-3495-406E-A2D3-75C31E678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4A4ED-D293-49E5-A7AF-07B185545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1D44B-B646-4AD8-9C8D-2652E8648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817FC-582A-4BDC-A58B-4C39A4EDF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BD935-7B6B-4262-84BF-B1E97ACFA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D248A-4B36-4297-967F-E5DA338F4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EA8D1-A4D5-428A-83E9-286F795E9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B1D56-DEF6-47B9-B361-D016EB8F0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1D1FD-21B3-44DC-847F-108E648E3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D17E8-D962-4515-B038-8F89AB50D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BF287-6CA4-4110-BAFC-041B5D540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66CEC-FEB7-42CB-82E8-209C888CB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C08F7-A269-41D9-A272-AB0AE1D67B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15560"/>
            <a:ext cx="77724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疑似端末のしく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9280" y="1125360"/>
            <a:ext cx="863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a Te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9280" y="69228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340000" y="69228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68360" y="1125360"/>
            <a:ext cx="863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042920" y="1341360"/>
            <a:ext cx="1225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627280" y="1844640"/>
            <a:ext cx="1079640" cy="2890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/dev/ptyX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95640" y="1844640"/>
            <a:ext cx="1079640" cy="2890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/dev/ttyX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132000" y="134136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19640" y="1341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19640" y="1557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500720" y="1557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708360" y="836640"/>
            <a:ext cx="1008000" cy="576360"/>
          </a:xfrm>
          <a:prstGeom prst="wedgeRoundRectCallout">
            <a:avLst>
              <a:gd name="adj1" fmla="val -43384"/>
              <a:gd name="adj2" fmla="val 706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penpty(3)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で疑似端末をオープ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050920" y="2565360"/>
            <a:ext cx="669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547640" y="549360"/>
            <a:ext cx="0" cy="5904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547640" y="1052640"/>
            <a:ext cx="72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/2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79640" y="227664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ユーザ空間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979640" y="2637000"/>
            <a:ext cx="100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カーネル空間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484360" y="2997360"/>
            <a:ext cx="1152720" cy="71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マスターデバイ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ドライ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ty_maste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067280" y="2997360"/>
            <a:ext cx="1152360" cy="71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スレーブデバイ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ドライ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ty_slav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067280" y="4221000"/>
            <a:ext cx="115236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端末ライ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ィシプリ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N_TT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03640" y="2133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2133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635280" y="335772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71628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867280" y="1125360"/>
            <a:ext cx="863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シェル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843280" y="692280"/>
            <a:ext cx="3457440" cy="433080"/>
          </a:xfrm>
          <a:custGeom>
            <a:avLst/>
            <a:gdLst/>
            <a:ahLst/>
            <a:rect l="l" t="t" r="r" b="b"/>
            <a:pathLst>
              <a:path w="2178" h="273">
                <a:moveTo>
                  <a:pt x="91" y="273"/>
                </a:moveTo>
                <a:cubicBezTo>
                  <a:pt x="45" y="182"/>
                  <a:pt x="0" y="91"/>
                  <a:pt x="136" y="46"/>
                </a:cubicBezTo>
                <a:cubicBezTo>
                  <a:pt x="272" y="1"/>
                  <a:pt x="606" y="0"/>
                  <a:pt x="908" y="0"/>
                </a:cubicBezTo>
                <a:cubicBezTo>
                  <a:pt x="1210" y="0"/>
                  <a:pt x="1739" y="1"/>
                  <a:pt x="1951" y="46"/>
                </a:cubicBezTo>
                <a:cubicBezTo>
                  <a:pt x="2163" y="91"/>
                  <a:pt x="2170" y="182"/>
                  <a:pt x="2178" y="2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443640" y="260280"/>
            <a:ext cx="1152720" cy="576360"/>
          </a:xfrm>
          <a:prstGeom prst="wedgeRoundRectCallout">
            <a:avLst>
              <a:gd name="adj1" fmla="val -73689"/>
              <a:gd name="adj2" fmla="val 4531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子プロセスとして起動す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580000" y="1844640"/>
            <a:ext cx="79236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intf(3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580000" y="2276640"/>
            <a:ext cx="79236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rite(2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012000" y="1557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012000" y="2060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580000" y="2708280"/>
            <a:ext cx="79236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_writ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012000" y="24922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651640" y="4005360"/>
            <a:ext cx="2520720" cy="1150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Y c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219640" y="450864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724360" y="4076640"/>
            <a:ext cx="79236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y_writ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580000" y="3357720"/>
            <a:ext cx="2521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F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771640" y="1557360"/>
            <a:ext cx="144720" cy="287280"/>
          </a:xfrm>
          <a:prstGeom prst="line">
            <a:avLst/>
          </a:prstGeom>
          <a:ln w="38160">
            <a:solidFill>
              <a:srgbClr val="333399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5003280" y="1484280"/>
            <a:ext cx="863640" cy="36036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012000" y="3068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12000" y="3716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1844640"/>
            <a:ext cx="79200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canf(3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093080" y="2276640"/>
            <a:ext cx="79200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ad(2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32720" y="134136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24720" y="1341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524720" y="2060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524720" y="24922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093080" y="2708280"/>
            <a:ext cx="79200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_read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524720" y="3068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524720" y="3716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164360" y="4076640"/>
            <a:ext cx="79236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y_read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971640" y="5734080"/>
            <a:ext cx="1368360" cy="214200"/>
          </a:xfrm>
          <a:prstGeom prst="leftRightArrow">
            <a:avLst>
              <a:gd name="adj1" fmla="val 50000"/>
              <a:gd name="adj2" fmla="val 127173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971640" y="6021360"/>
            <a:ext cx="1368360" cy="36036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ウィンドウサイズ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8K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067280" y="5661000"/>
            <a:ext cx="1152360" cy="214200"/>
          </a:xfrm>
          <a:prstGeom prst="leftRightArrow">
            <a:avLst>
              <a:gd name="adj1" fmla="val 50000"/>
              <a:gd name="adj2" fmla="val 107098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95640" y="6021360"/>
            <a:ext cx="1368360" cy="36036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ウィンドウサイズ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K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9-07T11:23:16Z</dcterms:modified>
  <cp:revision>412</cp:revision>
  <dc:subject/>
  <dc:title>DDEのしくみ</dc:title>
</cp:coreProperties>
</file>