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90AF-9E90-46CD-992E-CB6EDF45E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0CFE-D104-4C76-8DEA-D8F67B9FB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0191-15FB-4140-B5EF-B3EA98D59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DAB4-391E-4545-8AA0-7A2F3A74E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6479-863B-4B82-85BB-49E3F3CD1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F9E6-CF59-4E00-9618-7BF6EC5A4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6F0A-FF4F-428F-BF3D-9C5F3E949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EADE-4C07-4FA2-8ECF-F5569B2C0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4E92-E7CD-43E4-AFE2-DE88A8DB3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0F4D-1DB9-4B7B-BF15-E793BBA83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5AA7-EFAC-4A06-A122-A15B3F8D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27FE-3D86-4177-9B1D-3BB0A343B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C1D52-C2EC-47DE-8E77-41B17B566F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による接続処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90792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OpenTC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9079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404640"/>
            <a:ext cx="0" cy="626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7636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1125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940360" y="549360"/>
          <a:ext cx="2664000" cy="1214280"/>
        </p:xfrm>
        <a:graphic>
          <a:graphicData uri="http://schemas.openxmlformats.org/drawingml/2006/table">
            <a:tbl>
              <a:tblPr/>
              <a:tblGrid>
                <a:gridCol w="1224000"/>
                <a:gridCol w="14400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627280" y="692280"/>
            <a:ext cx="649440" cy="576000"/>
          </a:xfrm>
          <a:prstGeom prst="wedgeRoundRectCallout">
            <a:avLst>
              <a:gd name="adj1" fmla="val -78606"/>
              <a:gd name="adj2" fmla="val 2768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ソケット関数のフ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700280"/>
            <a:ext cx="863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SAAsync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2492280"/>
            <a:ext cx="863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1916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170028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1557360"/>
            <a:ext cx="1008000" cy="503280"/>
          </a:xfrm>
          <a:prstGeom prst="wedgeRoundRectCallout">
            <a:avLst>
              <a:gd name="adj1" fmla="val -68425"/>
              <a:gd name="adj2" fmla="val 2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前は何もし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2360" y="249228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421000"/>
            <a:ext cx="2160720" cy="576360"/>
          </a:xfrm>
          <a:prstGeom prst="wedgeRoundRectCallout">
            <a:avLst>
              <a:gd name="adj1" fmla="val -55509"/>
              <a:gd name="adj2" fmla="val -34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を行う。接続成功すると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D_CONNEC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ッセージ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へ飛ぶ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3068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321300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Op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3573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9337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149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393372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3141720"/>
            <a:ext cx="1368360" cy="574560"/>
          </a:xfrm>
          <a:prstGeom prst="wedgeRoundRectCallout">
            <a:avLst>
              <a:gd name="adj1" fmla="val -101277"/>
              <a:gd name="adj2" fmla="val 881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 | FD_OOB | FD_CLOSE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16360" y="414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AUTH_advance_to_next_c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9280" y="4149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rt_user_a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0360" y="3213000"/>
            <a:ext cx="1440000" cy="503280"/>
          </a:xfrm>
          <a:prstGeom prst="wedgeRoundRectCallout">
            <a:avLst>
              <a:gd name="adj1" fmla="val -56175"/>
              <a:gd name="adj2" fmla="val 95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ダイアログを表示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58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Notif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941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530064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ProcR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4365720"/>
            <a:ext cx="7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602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623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602136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7640" y="4581360"/>
            <a:ext cx="1872000" cy="576360"/>
          </a:xfrm>
          <a:prstGeom prst="wedgeRoundRectCallout">
            <a:avLst>
              <a:gd name="adj1" fmla="val -80023"/>
              <a:gd name="adj2" fmla="val -11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番始めは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col Version Exchang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サーバより送られてく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6021360"/>
            <a:ext cx="9367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KT_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436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6021360"/>
            <a:ext cx="1584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_handle_server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300640"/>
            <a:ext cx="2592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H-2.0-TTSSH/2.46 Win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27640" y="5950080"/>
            <a:ext cx="2089440" cy="647640"/>
          </a:xfrm>
          <a:prstGeom prst="wedgeRoundRectCallout">
            <a:avLst>
              <a:gd name="adj1" fmla="val -61851"/>
              <a:gd name="adj2" fmla="val -193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バージョン情報を検証後、クライアン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のバージョン情報をサーバへ送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2997360"/>
            <a:ext cx="9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D_CONN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09T15:52:49Z</dcterms:modified>
  <cp:revision>222</cp:revision>
  <dc:subject/>
  <dc:title>DDEのしくみ</dc:title>
</cp:coreProperties>
</file>