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AE9-60CB-4167-993C-30232F3E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4C9-BFBC-49C7-8199-921267AC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873-2BC2-4A2C-B68D-00E4003D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48E-3F9D-4561-A41B-31EE7451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C1FE-7F91-408C-8187-DE6641B9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8B71-DEA1-4F50-A33B-9168E1B2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459D-6F10-4D7A-A917-5290885B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9243-56D9-48B3-BE81-687BBB5A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5E02-F0BC-49B8-96B4-24F1D920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7085-61C8-4331-82F6-9BE04194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7597-4F23-457B-99A2-A7A19D1F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4A5-FE3B-4B0B-A540-9CBDB743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B181-B3EF-46E6-B3F3-7A1229F8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CF06-49E7-4967-9219-1C7B046D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9A04-DA2E-45E9-9473-ED4BCEBA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3DCF-74C3-4A8B-B52C-F72215A5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1041-DB12-4AFA-9FC9-A7C5DBBD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0826-1803-4AC7-8546-12F360DD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411-B105-4514-8CC6-C7C9312B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098-2FDB-4D49-8E01-3589C9A1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1C0-2614-4948-98AD-C91888E7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FD6-FF88-4F09-A530-F7F85845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8EB-4050-4416-B949-FBEA3FAD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89B-A418-4CE3-B97D-20D054AC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FAB0-065F-4351-8F75-8E9F7F2539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7191-DCA7-4FD2-90AE-0BAB8A0ECF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Forens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Fil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286000"/>
            <a:ext cx="8153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tes per secto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 0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200 = 512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ors per clust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 0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ed sectors 0x 00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924680" y="2514600"/>
            <a:ext cx="4572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048120"/>
            <a:ext cx="35812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: Media Descriptor:  F8 is hard drive, F0 is flo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Total number of sectors: F7AF4E0900000000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000094EAFF7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6,151,799 sectors, i.e. ~80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87692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2578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: Logical cluster number for MFT copy 1: cluster C07FE9 (File $M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: Logical cluster number for MFT copy 2: cluster 40029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5638680"/>
            <a:ext cx="4800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563868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: Clusters per MFT record: F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: Volume Seri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59436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four entries are replicated, so that MFT can be repa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16 records are reserved for metadata files, their name begins with a dollar sign ($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$MF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mirror $MftMir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 file $LogFi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me $Volume Attribute definitions $AttrDef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ot folder “.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bitmap $Bitma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t sector $Boot (located at the beginning of parti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d cluster file $BadCl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file $Secu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case table $Upc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extension file $Extend, that is used for future us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8770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are 1KB 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cont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09480" y="4800600"/>
          <a:ext cx="8153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0600"/>
                    <a:ext cx="8153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Files (&lt;900B) are contained completely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25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ders contain index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folders reside within the MFT 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r folders have an index structure to other data blocks. They use a B-tree stru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R and GPT Di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BR disks for 32b 86x-compat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PT disks for 64b Itanium process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 MBR in order to maintain compat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R has a single partition with a partition table entry of 0x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entry has address 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uses the file reference address to refer to MTF ent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system crashes during allocation, then the sequence number describes whether the MTF entry belonged to the previous file or to the current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5029200"/>
          <a:ext cx="830592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029200"/>
                    <a:ext cx="830592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attributes are loosely defi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attribute is preceded by the attribute h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ttribute header identif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ttribute header gives basic information about the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sident attribute is stored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on-resident entry is stored in a cluster outside the M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4508640"/>
          <a:ext cx="762012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08640"/>
                    <a:ext cx="76201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dent attributes are stored in MFT rec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sident attributes are stored in cluster ru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run consists of consecutive clusters and are identified by starting cluster and run leng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distinguishes between Virtual Cluster Numbers and Logical Cluster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* (#sectors in cluster) = sector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0 is first cluster in the volume (boot secto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N 0 refers to the first cluster in a cluster ru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header has a fixed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3276720"/>
          <a:ext cx="761976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76720"/>
                    <a:ext cx="76197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0 - 0x03: Magic Number: "FILE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8-0x0f: $LogFile Sequence Number (LS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2 - 0x13: Hard link 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6 - 0x17: Flags: 0x01: record in use, 0x02 direc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c-ox2f: (XP) Number of this MFT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3962160"/>
            <a:ext cx="3657600" cy="11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1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irectory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4724280"/>
            <a:ext cx="7391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FT records start with “FILE”.  A bad cluster would start with “BA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9920" y="0"/>
            <a:ext cx="6004080" cy="6629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962160"/>
            <a:ext cx="3429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5105520"/>
            <a:ext cx="784872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4-5: Offset to update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6-7: Number of entries in fixup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8-f: Log file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0-0x11: Sequence number: 59 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85800" y="5105520"/>
            <a:ext cx="784872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2-0x13: 2 – hard link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-0x15: Offset to first attribute: 0x 3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6-0x17: Flags: In use and contains a directory 0x 0001 | 0x 0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04920" y="5105520"/>
            <a:ext cx="822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 – 0x15: First attribute starts at 0x 38 0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x 00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List of possible attribu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$AttrDef entry of MFT, but defaul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 STANDARD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20$ATTRIBUTE_LI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30$FILE_NAME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40 (NT) $VOLUME_VERSION (2K) $OBJECT_I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50 $SECURITY_DESCRIP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60$VOLUME_N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70 $VOLUME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80$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90$INDEX_ROO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A0$INDEX_ALLO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B0$BITMA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C0 (NT) $SYMBOLIC_LINK, (2K) $REPARSE_POI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D0$EA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E0$EA0xF0NT$PROPERTY_S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0 (2K) $LOGGED_UTILITY_STRE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s can be resident or non-resid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ning is always the sa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0 Attribute Type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4 Length of 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8 non-resident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9 length of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a offset to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c fl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3733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of type 00 00 00 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0x 00 00 00 60 byte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resident (0x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s are 0x 00 00 00 48 bytes long and start at offset 0x 00 1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1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76520" y="2743200"/>
          <a:ext cx="6095880" cy="3921120"/>
        </p:xfrm>
        <a:graphic>
          <a:graphicData uri="http://schemas.openxmlformats.org/drawingml/2006/table">
            <a:tbl>
              <a:tblPr/>
              <a:tblGrid>
                <a:gridCol w="990360"/>
                <a:gridCol w="533520"/>
                <a:gridCol w="533160"/>
                <a:gridCol w="403884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1066680" y="1981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allows us to extract the file access times just as for 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values are in 100 nanoseconds since January 1, 1601 U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entry has attribute number 00 00 00 0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300000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FILE_NAME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attribute length is 70 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s start at offset 18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743200" y="51055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tent layout for the $FILE_NAME attribute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0 File reference to parent dir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8 File cre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10 File modific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0 File access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8 Allocated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0 Real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8 Fla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0 File name length in unicode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2 File name in uni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Partition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915400" cy="986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14400" y="38098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2600" y="35812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ic parameters of NTFS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(5%-10% of part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ble of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lection of attribu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ributes can be resident or in the File System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Syste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viously, this is a short file na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attribute is also a file name, but this time the complete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59911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Ver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 system impro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k Layout ch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alphaModFix amt="67000"/>
          </a:blip>
          <a:stretch/>
        </p:blipFill>
        <p:spPr>
          <a:xfrm>
            <a:off x="1828800" y="228600"/>
            <a:ext cx="7102440" cy="6459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800600"/>
            <a:ext cx="6705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ice that the end of sector marker is 55 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can look for this to find boot sectors for NTFS and 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mp Instru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EM 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2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ded 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5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26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tstrap Cod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1F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 of Sector Mark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858000" cy="62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elds are not important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B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s per secto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D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ors per Clu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descriptor. F8: HD; F0: HD Flop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sect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for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copy of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     Clusters per MFT Recor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s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Hex allows access to an interpreted NTFS Boot Sec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Access T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2577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22:41:17Z</dcterms:created>
  <dc:creator>Thomas Schwarz</dc:creator>
  <dc:description/>
  <dc:language>en-US</dc:language>
  <cp:lastModifiedBy>Thomas Schwarz</cp:lastModifiedBy>
  <dcterms:modified xsi:type="dcterms:W3CDTF">2006-05-01T19:23:00Z</dcterms:modified>
  <cp:revision>10</cp:revision>
  <dc:subject/>
  <dc:title>Computer Forensics</dc:title>
</cp:coreProperties>
</file>