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FD9-CC78-4D8F-A67A-4BA2CFDF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3F87-34EB-4760-861A-B2642341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0288-0034-4B96-BC38-177466FC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5018-7F9D-428D-B2AD-57312063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F2A6-EF89-41A7-B78F-7F37A15C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1778-F575-457F-99E7-3C21FE5D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3975-6A32-4170-A9A8-A4A9AE50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9453-D225-417C-881F-DD5EE640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818B-FC11-49A1-A05B-7585008B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2324-EEBF-4F53-AEA8-A36F646B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60E1-2F5A-4FE8-9A8B-3B1F689E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35A9-12AC-48BD-9B8B-917C75D4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BE2B-419D-4E0F-8B12-E37A2D08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0DB5-6D53-48DE-BBF4-D5AC8BE3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B0EC-2FFD-407B-83A1-640E9B79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1E44-F296-48D2-91A5-8C0B2CAF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1C66-2745-4334-B6F9-6C0E74F0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D6A-72BB-4CD8-8EE2-531C93BF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91F-4ADD-4BCB-9131-802F17F7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D95-63C2-4862-A9A4-2C0673C6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DD31-5752-4E95-AF0C-3A7D743F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F808-EF6D-49AC-A438-F6B893EB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C20-F011-4A48-9467-B9A2A301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025-5CE2-448C-86EA-A33C1A32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CEBC-E1B3-4E78-967A-28C04194D4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5AB8-39BA-449F-B799-9525BB6386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er Forens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TFS Fil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286000"/>
            <a:ext cx="8153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tes per secto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 0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200 = 512 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ors per clust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 0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ed sectors 0x 00 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924680" y="2514600"/>
            <a:ext cx="45720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3048120"/>
            <a:ext cx="35812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15: Media Descriptor:  F8 is hard drive, F0 is flo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28 Total number of sectors: F7AF4E0900000000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0000094EAFF7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6,151,799 sectors, i.e. ~80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4876920"/>
            <a:ext cx="9144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525780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: Logical cluster number for MFT copy 1: cluster C07FE9 (File $M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8: Logical cluster number for MFT copy 2: cluster 40029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5638680"/>
            <a:ext cx="4800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563868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: Clusters per MFT record: F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8: Volume Serial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943600"/>
            <a:ext cx="9144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594360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four entries are replicated, so that MFT can be repa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16 records are reserved for metadata files, their name begins with a dollar sign ($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file table $MF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file table mirror $MftMir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 file $LogFi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me $Volume Attribute definitions $AttrDef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ot folder “.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 bitmap $Bitma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t sector $Boot (located at the beginning of parti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d cluster file $BadCl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file $Secu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case table $Upc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FS extension file $Extend, that is used for future us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8770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ies are 1KB e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ies cont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09480" y="4800600"/>
          <a:ext cx="815364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0600"/>
                    <a:ext cx="8153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Files (&lt;900B) are contained completely in the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25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ders contain index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ll folders reside within the MFT re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r folders have an index structure to other data blocks. They use a B-tree stru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R and GPT Dis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BR disks for 32b 86x-compat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PT disks for 64b Itanium process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 MBR in order to maintain compat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BR has a single partition with a partition table entry of 0x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MFT record is addressed by a 48 bit MFT entry val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entry has address 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MFT entry has a 16 bit sequence number that is incremented when the entry is alloc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FT entry value and sequence number combined yield 64b file reference addr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TFS uses the file reference address to refer to MTF entr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he system crashes during allocation, then the sequence number describes whether the MTF entry belonged to the previous file or to the current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5029200"/>
          <a:ext cx="830592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029200"/>
                    <a:ext cx="830592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FT entry attributes are loosely defi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attribute is preceded by the attribute hea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ttribute header identif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attribu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ttribute header gives basic information about the attribu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sident attribute is stored in the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on-resident entry is stored in a cluster outside the M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4508640"/>
          <a:ext cx="762012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08640"/>
                    <a:ext cx="762012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dent attributes are stored in MFT reco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sident attributes are stored in cluster ru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 run consists of consecutive clusters and are identified by starting cluster and run leng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FS distinguishes between Virtual Cluster Numbers and Logical Cluster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CN * (#sectors in cluster) = sector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CN 0 is first cluster in the volume (boot secto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N 0 refers to the first cluster in a cluster ru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FT entry header has a fixed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90720" y="3276720"/>
          <a:ext cx="761976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276720"/>
                    <a:ext cx="761976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0 - 0x03: Magic Number: "FILE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4-0x05: Offset to the update sequ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6-0x07: Number of entries in fixup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8-0x0f: $LogFile Sequence Number (LS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0-0x11: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2 - 0x13: Hard link cou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4-0x15: Offset to first attrib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6 - 0x17: Flags: 0x01: record in use, 0x02 direct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8-0x1b: Used size of MFT e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c-0x1f: Allocated size of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0-0x27: File reference to the base FILE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8-0x29: Next attribute 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a-0x2b: (XP) Align to 4B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c-ox2f: (XP) Number of this MFT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30-0x100: Attributes and fixup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3962160"/>
            <a:ext cx="3657600" cy="11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1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irectory e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4724280"/>
            <a:ext cx="7391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FT records start with “FILE”.  A bad cluster would start with “BAA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9920" y="0"/>
            <a:ext cx="6004080" cy="6629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962160"/>
            <a:ext cx="3429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5800" y="5105520"/>
            <a:ext cx="784872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4-5: Offset to update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6-7: Number of entries in fixup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8-f: Log file sequenc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0-0x11: Sequence number: 59 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85800" y="5105520"/>
            <a:ext cx="784872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2-0x13: 2 – hard link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4-0x15: Offset to first attribute: 0x 3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6-0x17: Flags: In use and contains a directory 0x 0001 | 0x 0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04920" y="5105520"/>
            <a:ext cx="822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4 – 0x15: First attribute starts at 0x 38 00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0x 00 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List of possible attribu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$AttrDef entry of MFT, but defaul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10 STANDARD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20$ATTRIBUTE_LI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30$FILE_NAME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40 (NT) $VOLUME_VERSION (2K) $OBJECT_I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50 $SECURITY_DESCRIP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60$VOLUME_N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70 $VOLUME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80$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90$INDEX_ROO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A0$INDEX_ALLO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B0$BITMA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C0 (NT) $SYMBOLIC_LINK, (2K) $REPARSE_POI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D0$EA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E0$EA0xF0NT$PROPERTY_S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100 (2K) $LOGGED_UTILITY_STREA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s can be resident or non-resid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ginning is always the sam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0 Attribute Type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4 Length of 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8 non-resident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9 length of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a offset to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c fla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3733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of type 00 00 00 0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0x 00 00 00 60 byte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resident (0x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s are 0x 00 00 00 48 bytes long and start at offset 0x 00 1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601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76520" y="2743200"/>
          <a:ext cx="6095880" cy="3921120"/>
        </p:xfrm>
        <a:graphic>
          <a:graphicData uri="http://schemas.openxmlformats.org/drawingml/2006/table">
            <a:tbl>
              <a:tblPr/>
              <a:tblGrid>
                <a:gridCol w="990360"/>
                <a:gridCol w="533520"/>
                <a:gridCol w="533160"/>
                <a:gridCol w="403884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Cre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Alter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FT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Read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 File Per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number of ver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ion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wner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1066680" y="1981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Info Attribut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allows us to extract the file access times just as for 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values are in 100 nanoseconds since January 1, 1601 U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entry has attribute number 00 00 00 03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300000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$FILE_NAME attrib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attribute length is 70 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s start at offset 18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743200" y="5105520"/>
            <a:ext cx="59436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ntent layout for the $FILE_NAME attribute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00 File reference to parent direc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08 File crea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10 File modifica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20 File access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28 Allocated size of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30 Real size of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38 Fla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40 File name length in unicode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42 File name in uni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Partition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915400" cy="986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14400" y="380988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2600" y="35812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ot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ic parameters of NTFS 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 File Table (5%-10% of part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ble of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llection of attribu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ributes can be resident or in the File System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System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 File Table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viously, this is a short file na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28800" y="4648320"/>
            <a:ext cx="59436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attribute is also a file name, but this time the complete e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59911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Ver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e system impro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k Layout chan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alphaModFix amt="67000"/>
          </a:blip>
          <a:stretch/>
        </p:blipFill>
        <p:spPr>
          <a:xfrm>
            <a:off x="1828800" y="228600"/>
            <a:ext cx="7102440" cy="64594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800600"/>
            <a:ext cx="670572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ice that the end of sector marker is 55 A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can look for this to find boot sectors for NTFS and 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mp Instru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EM I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P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2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8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ded BP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5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26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tstrap Cod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1F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d of Sector Mark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6858000" cy="62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SF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SF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421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fields are not important, bu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B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s per secto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D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ors per Clu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descriptor. F8: HD; F0: HD Flop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2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sect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cluster number for the M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cluster number copy of the M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     Clusters per MFT Recor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 se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178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Hex allows access to an interpreted NTFS Boot Sec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Access Ta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2577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22:41:17Z</dcterms:created>
  <dc:creator>Thomas Schwarz</dc:creator>
  <dc:description/>
  <dc:language>en-US</dc:language>
  <cp:lastModifiedBy>Thomas Schwarz</cp:lastModifiedBy>
  <dcterms:modified xsi:type="dcterms:W3CDTF">2006-05-01T19:23:00Z</dcterms:modified>
  <cp:revision>10</cp:revision>
  <dc:subject/>
  <dc:title>Computer Forensics</dc:title>
</cp:coreProperties>
</file>