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D50D1-B8DA-46DB-8C8E-2B6FCA213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E9195-B44B-44A0-81C4-BD363FAA8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D18DF-99C4-4680-9C96-7DA22A5B4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36851-2B8E-4DD2-9867-92138B0A0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1F9B7-FDF6-4A44-9D9A-6A41B0495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5DC5D-284F-4790-A2B3-80BCFD3BB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90BC2-C50E-46D6-A494-C58583CF3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5E4FA-8225-4AB2-9CEC-A4875048A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E7F8D-45A0-4971-BC5A-24EB05CBF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1EEAF-1618-41C7-9FB6-64EAF333B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9F32A-C136-44C4-AD4F-5D24E18F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15E1A-9A88-4C55-9AF6-ED1D5F6D8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8A650-F930-44B7-BC4D-F3F88E27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98201-2184-4F78-9DA0-C2BF3D2F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4AE08-28FE-4DA4-A155-6B638653E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31618-A382-42B0-AF1A-AB8D4F149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DEB52-C858-4C8E-AE71-3565EF3BF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315E9-25D9-467B-B1B7-8BEEAF3E5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E2E29-D7A3-4C42-B8E1-C65BE0517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2E40F-19D6-4B37-B41B-7D5F591DF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F586E-D9EC-4869-AEEF-CE91E0BE7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1D2B6-FBEB-4552-AA56-5E34928F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9E908-9BA5-4A14-AF8B-F09C316E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B60EC-72A7-4095-A17C-E6D23D63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1E14C-1CBA-4641-B65B-5B00D5AD09C3}" type="slidenum"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40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DAEB-82A5-41F9-86F0-2EB544665B25}" type="slidenum">
              <a:rPr b="0" lang="ja-JP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60C07-5CAD-4721-A45B-34F84700C56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レーン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以下はすべて「右シンバル」レーンに属するものとする（固定）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左シンバル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ライド、ライドカップ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スプラッシュ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チャイナ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E80E5-FEB5-4BB7-A2B4-E0B35A27E83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ポジション」と「グリッド」と「ピクセル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ポジション</a:t>
            </a: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(pos)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　　　　　　　 　　　で表す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分母と分子は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C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チップのプロパティとして保有される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小節長倍率によって値は</a:t>
            </a:r>
            <a:r>
              <a:rPr b="0" lang="ja-JP" sz="1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しない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(grid)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スクロールバーの関係上、任意の位置をリニアにカウントできる必要があるため導入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600" spc="-1" strike="noStrike" u="sng">
                <a:solidFill>
                  <a:srgbClr val="4bd0ff"/>
                </a:solidFill>
                <a:uFillTx/>
                <a:latin typeface="ＭＳ Ｐゴシック"/>
              </a:rPr>
              <a:t>譜面内絶対位置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」とは「譜面の先頭からの位置」のことを示す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１小節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6912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グリッドとする。（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n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小節内解像度）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6912 = 4,8,12,16,24,32,48,64,128,256(Free)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の最小公倍数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リソース名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GRID_PER_PART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で定義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小節長倍率により</a:t>
            </a:r>
            <a:r>
              <a:rPr b="0" lang="ja-JP" sz="1600" spc="-1" strike="noStrike" u="sng">
                <a:solidFill>
                  <a:srgbClr val="4bd0ff"/>
                </a:solidFill>
                <a:uFillTx/>
                <a:latin typeface="ＭＳ Ｐゴシック"/>
              </a:rPr>
              <a:t>値域が変化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する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例： 倍率 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= 1.00 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のとき、１小節のグリッド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= 0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～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6911</a:t>
            </a:r>
            <a:endParaRPr b="0" lang="en-US" sz="1400" spc="-1" strike="noStrike">
              <a:solidFill>
                <a:srgbClr val="33cc33"/>
              </a:solidFill>
              <a:latin typeface="ＭＳ Ｐゴシック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例： 倍率 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= 0.75 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のとき、１小節のグリッド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= 0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～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5183</a:t>
            </a:r>
            <a:endParaRPr b="0" lang="en-US" sz="14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ピクセル</a:t>
            </a: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(px)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譜面拡大率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x1.0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のとき、１ピクセル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27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グリッドとする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1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小節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= 6912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グリッド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= 256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ピクセル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リソース名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GRID_PER_PIXEL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で定義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059280" y="1197000"/>
            <a:ext cx="1583640" cy="487080"/>
            <a:chOff x="3059280" y="1197000"/>
            <a:chExt cx="1583640" cy="487080"/>
          </a:xfrm>
        </p:grpSpPr>
        <p:sp>
          <p:nvSpPr>
            <p:cNvPr id="170" name=""/>
            <p:cNvSpPr/>
            <p:nvPr/>
          </p:nvSpPr>
          <p:spPr>
            <a:xfrm>
              <a:off x="3059280" y="1197000"/>
              <a:ext cx="15764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n</a:t>
              </a: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小節内位置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n</a:t>
              </a: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小節内解像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077280" y="1461240"/>
              <a:ext cx="156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03E71-9C73-4676-9FE8-91CF23E7F20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3" name="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96640" y="622440"/>
            <a:ext cx="2219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ピクセル）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546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ピクセルを単位とするが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169ED-277C-4F74-ACF0-41133DB1DB2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9" name="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ＭＳ Ｐゴシック"/>
              </a:rPr>
              <a:t>水平スクロールバ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（青板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42764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354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ＭＳ Ｐゴシック"/>
              </a:rPr>
              <a:t>水平スクロールバ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（赤枠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（</a:t>
            </a: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と同サイズ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0" y="501336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975360" y="2039760"/>
            <a:ext cx="202140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（幅はそうとは限らない）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A9D73-1F89-4582-84EB-ED100BC99D9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"/>
          <p:cNvSpPr/>
          <p:nvPr/>
        </p:nvSpPr>
        <p:spPr>
          <a:xfrm>
            <a:off x="1801080" y="1052640"/>
            <a:ext cx="33750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左右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つまみが変更されたと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2B23A-3804-469D-AC44-5DDA7C763A5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0" name=""/>
          <p:cNvSpPr/>
          <p:nvPr/>
        </p:nvSpPr>
        <p:spPr>
          <a:xfrm>
            <a:off x="3518640" y="760320"/>
            <a:ext cx="456228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78370-9A81-4226-9808-BC718F1DA7C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編集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pace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キーでチップ種類の恒久的変更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hift+Space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キーで特定のチップ種類にトグル変更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DAF23-56BF-4E71-A7B8-E0D084B3B8B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前と移動後でレーンが変わっているときは、チップ種別は移動後のレーンの「最初のチップ種別」になるものとす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0B0A0-FD52-4B57-A783-98760BBD2B7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小節長倍率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ＭＳ Ｐゴシック"/>
              </a:rPr>
              <a:t>小節の追加・挿入時の倍率は、「挿入箇所の直前の小節」と同じ倍率と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小節番号</a:t>
            </a: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に挿入する場合は </a:t>
            </a: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1.0 </a:t>
            </a: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とする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0F57D-81C9-446E-B28D-379226B4B53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893AE-8AE1-4456-ACD2-382F151498F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作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.NET Framework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： “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2.0”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プラットフォーム： “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x86”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み（”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AnyCPU”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は削除）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→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WOW64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対応のため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2E27A-FEA5-4E23-BD9C-02F07633335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7640" y="691920"/>
            <a:ext cx="366876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管理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リスト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root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 CUndo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セル仮想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t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トランザクション記録を開始する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トランザクション記録を終了する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24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セル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Base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　を継承</a:t>
            </a:r>
            <a:endParaRPr b="0" lang="en-US" sz="9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&gt; list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セル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リスト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urd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親セル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n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n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n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verride void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verride void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Base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bject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bool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irtual void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 { }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irtual void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 { }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24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セル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Base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　を継承</a:t>
            </a:r>
            <a:endParaRPr b="0" lang="en-US" sz="9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実行デリゲート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実行デリゲート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verride void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verride void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254" name=""/>
          <p:cNvSpPr/>
          <p:nvPr/>
        </p:nvSpPr>
        <p:spPr>
          <a:xfrm>
            <a:off x="4807080" y="540072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238720" y="540072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670720" y="540072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535800" y="540072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967440" y="540072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792680" y="648648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452920" y="648648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462480" y="551664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750720" y="589932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5400000">
            <a:off x="5591520" y="4386960"/>
            <a:ext cx="142560" cy="1741320"/>
          </a:xfrm>
          <a:custGeom>
            <a:avLst/>
            <a:gdLst>
              <a:gd name="textAreaLeft" fmla="*/ 91080 w 142560"/>
              <a:gd name="textAreaRight" fmla="*/ 142920 w 142560"/>
              <a:gd name="textAreaTop" fmla="*/ 45360 h 1741320"/>
              <a:gd name="textAreaBottom" fmla="*/ 1695960 h 174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52760" y="475308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5400000">
            <a:off x="6887160" y="4831200"/>
            <a:ext cx="144360" cy="85104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1040"/>
              <a:gd name="textAreaBottom" fmla="*/ 829080 h 851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74320" y="475308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102360" y="540072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375160" y="590544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98600" y="3894120"/>
            <a:ext cx="152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4643280" y="5013000"/>
            <a:ext cx="21600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142800" y="4581360"/>
            <a:ext cx="163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Ba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継承したインスタン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867280" y="184464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Ba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788000" y="2997360"/>
            <a:ext cx="1655640" cy="576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ja-JP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732720" y="2997360"/>
            <a:ext cx="1655640" cy="576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532720" y="335772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6" name=""/>
          <p:cNvCxnSpPr>
            <a:stCxn id="273" idx="0"/>
            <a:endCxn id="272" idx="2"/>
          </p:cNvCxnSpPr>
          <p:nvPr/>
        </p:nvCxnSpPr>
        <p:spPr>
          <a:xfrm flipH="1" flipV="1" rot="5400000">
            <a:off x="5849640" y="2187000"/>
            <a:ext cx="577080" cy="1043640"/>
          </a:xfrm>
          <a:prstGeom prst="bentConnector3">
            <a:avLst>
              <a:gd name="adj1" fmla="val 50124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77" name=""/>
          <p:cNvCxnSpPr>
            <a:stCxn id="272" idx="2"/>
            <a:endCxn id="274" idx="0"/>
          </p:cNvCxnSpPr>
          <p:nvPr/>
        </p:nvCxnSpPr>
        <p:spPr>
          <a:xfrm flipH="1" rot="16200000">
            <a:off x="6821280" y="2257920"/>
            <a:ext cx="577080" cy="902520"/>
          </a:xfrm>
          <a:prstGeom prst="bentConnector3">
            <a:avLst>
              <a:gd name="adj1" fmla="val 49812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278" name=""/>
          <p:cNvSpPr/>
          <p:nvPr/>
        </p:nvSpPr>
        <p:spPr>
          <a:xfrm>
            <a:off x="6516720" y="2492280"/>
            <a:ext cx="287280" cy="21600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419640" y="184464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0" name=""/>
          <p:cNvCxnSpPr>
            <a:stCxn id="279" idx="3"/>
            <a:endCxn id="272" idx="1"/>
          </p:cNvCxnSpPr>
          <p:nvPr/>
        </p:nvCxnSpPr>
        <p:spPr>
          <a:xfrm>
            <a:off x="5003280" y="213336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5049720" y="175248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502960" y="177156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5975640" y="335340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448600" y="428796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812000" y="2039760"/>
            <a:ext cx="1008000" cy="716040"/>
          </a:xfrm>
          <a:prstGeom prst="wedgeRoundRectCallout">
            <a:avLst>
              <a:gd name="adj1" fmla="val -37402"/>
              <a:gd name="adj2" fmla="val 9767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複数のセルの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を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一括して行いたい場合に使用する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419640" y="765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管理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7" name=""/>
          <p:cNvCxnSpPr>
            <a:stCxn id="286" idx="2"/>
            <a:endCxn id="279" idx="0"/>
          </p:cNvCxnSpPr>
          <p:nvPr/>
        </p:nvCxnSpPr>
        <p:spPr>
          <a:xfrm>
            <a:off x="4211280" y="1341360"/>
            <a:ext cx="1080" cy="50400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288" name=""/>
          <p:cNvSpPr/>
          <p:nvPr/>
        </p:nvSpPr>
        <p:spPr>
          <a:xfrm>
            <a:off x="4204800" y="1295280"/>
            <a:ext cx="29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204800" y="1596960"/>
            <a:ext cx="29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748320" y="1301760"/>
            <a:ext cx="483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roo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FABA4-99D5-47CE-8C3D-70ECECF1EFB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2" name="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4" name=""/>
          <p:cNvCxnSpPr>
            <a:stCxn id="292" idx="2"/>
            <a:endCxn id="295" idx="0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96" name="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更新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ID"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テキス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8" name=""/>
          <p:cNvCxnSpPr>
            <a:stCxn id="293" idx="2"/>
            <a:endCxn id="296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9" name=""/>
          <p:cNvCxnSpPr>
            <a:stCxn id="293" idx="2"/>
            <a:endCxn id="297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0" name="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3" name=""/>
          <p:cNvCxnSpPr>
            <a:stCxn id="296" idx="2"/>
            <a:endCxn id="304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297" idx="2"/>
            <a:endCxn id="304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8" name=""/>
          <p:cNvCxnSpPr>
            <a:stCxn id="306" idx="2"/>
            <a:endCxn id="307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539640" y="5300640"/>
            <a:ext cx="1270080" cy="57636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ID"=nul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0" name=""/>
          <p:cNvCxnSpPr>
            <a:stCxn id="307" idx="2"/>
            <a:endCxn id="309" idx="0"/>
          </p:cNvCxnSpPr>
          <p:nvPr/>
        </p:nvCxnSpPr>
        <p:spPr>
          <a:xfrm>
            <a:off x="1174320" y="1915920"/>
            <a:ext cx="1080" cy="3385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1" name=""/>
          <p:cNvCxnSpPr>
            <a:stCxn id="309" idx="2"/>
            <a:endCxn id="302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2" name=""/>
          <p:cNvCxnSpPr>
            <a:stCxn id="306" idx="2"/>
            <a:endCxn id="292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=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>
            <a:stCxn id="295" idx="2"/>
            <a:endCxn id="293" idx="0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4" name=""/>
          <p:cNvCxnSpPr>
            <a:stCxn id="295" idx="3"/>
            <a:endCxn id="304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15" name="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トリ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など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8" name=""/>
          <p:cNvCxnSpPr>
            <a:stCxn id="306" idx="2"/>
            <a:endCxn id="317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19" name="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372360" y="2997360"/>
            <a:ext cx="1584360" cy="50292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変更し、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GUI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再描画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1" name=""/>
          <p:cNvCxnSpPr>
            <a:stCxn id="317" idx="2"/>
            <a:endCxn id="319" idx="0"/>
          </p:cNvCxnSpPr>
          <p:nvPr/>
        </p:nvCxnSpPr>
        <p:spPr>
          <a:xfrm flipV="1" rot="10800000">
            <a:off x="7163640" y="1915920"/>
            <a:ext cx="1080" cy="40068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2" name=""/>
          <p:cNvCxnSpPr>
            <a:stCxn id="319" idx="2"/>
            <a:endCxn id="320" idx="0"/>
          </p:cNvCxnSpPr>
          <p:nvPr/>
        </p:nvCxnSpPr>
        <p:spPr>
          <a:xfrm flipV="1" rot="10800000">
            <a:off x="7163640" y="2707560"/>
            <a:ext cx="1080" cy="28944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3" name=""/>
          <p:cNvCxnSpPr>
            <a:stCxn id="320" idx="2"/>
            <a:endCxn id="292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40081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24" name="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5" name=""/>
          <p:cNvCxnSpPr>
            <a:stCxn id="304" idx="2"/>
            <a:endCxn id="324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6" name=""/>
          <p:cNvCxnSpPr>
            <a:stCxn id="324" idx="2"/>
            <a:endCxn id="302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27" name="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297560" y="3573360"/>
            <a:ext cx="48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自動発生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028000" y="1773360"/>
            <a:ext cx="1008000" cy="1076040"/>
          </a:xfrm>
          <a:prstGeom prst="wedgeRoundRectCallout">
            <a:avLst>
              <a:gd name="adj1" fmla="val -69212"/>
              <a:gd name="adj2" fmla="val 8466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Undo 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なら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変更前の値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Redo 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なら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変更後の値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に更新する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3473A-D056-42FC-AC2D-AFF7821FC4B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その他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プログラムから 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などの値を直接変更する場合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は、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(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true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にして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）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"/>
          <p:cNvSpPr/>
          <p:nvPr/>
        </p:nvSpPr>
        <p:spPr>
          <a:xfrm>
            <a:off x="3898800" y="3292560"/>
            <a:ext cx="134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(auto fin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CA7E8-FEA9-4665-B895-5FA8765EB65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StrokeStyleT.exe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の連携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FFBFC-88AA-4CCD-98DE-1770B7D8C89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StrokeStyle.exe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参照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STFEditor.exe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trokeStyleT.exe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を参照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よって、両者は同じフォルダに配置されるものとする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主な参照クラス：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StrokeStyleT.Global</a:t>
            </a:r>
            <a:endParaRPr b="0" lang="en-US" sz="24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StrokeStyleT.C</a:t>
            </a: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スコア </a:t>
            </a: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/ C</a:t>
            </a: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チップ</a:t>
            </a:r>
            <a:endParaRPr b="0" lang="en-US" sz="24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3A887-3E39-4D0B-ACAD-802258F6B71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の作成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Main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分割パネルコンテナ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3248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198900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8. 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タブコンテナ 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(Dock:”Fill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7. 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パネル 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(Dock: “Fill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6. 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 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(Dock: “Bottom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2276640"/>
            <a:ext cx="3720960" cy="36003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9. 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459640" y="1773360"/>
            <a:ext cx="293760" cy="42987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（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Dock: “Right”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40000" y="981000"/>
            <a:ext cx="1655640" cy="50184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サイズ固定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(FixedPanel: “Panel1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842920" y="1484280"/>
            <a:ext cx="314280" cy="36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72AAF-BD6D-4899-83BB-940896488B2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の作成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分割パネルコンテナ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に手動で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イベントを追加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。）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84518-40DD-4A67-9E24-485948EC6D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の構成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(3)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自動発生する可能性のあるイベントのイベントハンドラでは、「初期化が完了するまで無視する」ようコーディングする。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Paint, SizeChanged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などのイベントは、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InitializeComponent()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の中で発生する可能性がある。これはデザイナの仕様上、防ぐことができない。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そこで、アプリケーションの初期化が完了したことを示すフラグを設け、それによりイベントハンドラ内で処理をはじくようにする。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サンプル：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private void splitContainer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分割パネルコンテナ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_Panel2_SizeChanged( object sender, EventArgs e )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{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if( !this.b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初期化完了 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)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return;     // 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初期化が終わってないのに呼び出されることがあるので、その場合は無視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this.t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水平スクロールバーと譜面の左右位置を調整する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();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this.t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垂直スクロールバーと譜面の上下位置を調整する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();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}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2F605-70DE-4710-A5CA-C989229206B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実行環境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.NET Framework 2.0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以降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Direct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と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limDX(v1)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は各時点で最新のもの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STFEditor.exe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は、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trokeStyleT.exe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と同じフォルダに配置すること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SSTFEditor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は、ファイルの読み書きに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StrokeStyleT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public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クラス（「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C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スコア」等）を使用する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SSTFEditor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は、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StrokeStyleT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Viewer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としても使用する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D4643-C2C6-4983-9A8A-4458671D60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イベン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9" name="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9" idx="3"/>
            <a:endCxn id="129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38" idx="3"/>
            <a:endCxn id="132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3"/>
            <a:endCxn id="134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7" idx="3"/>
            <a:endCxn id="133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0" idx="3"/>
            <a:endCxn id="134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46" name="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46" idx="3"/>
            <a:endCxn id="130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3"/>
            <a:endCxn id="131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3"/>
            <a:endCxn id="135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46" idx="3"/>
            <a:endCxn id="136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E3FF0-DBC8-4B4B-89D8-CA16EAFA3D4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181AE-165C-4508-A740-5120B39F5CE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5" idx="1"/>
          </p:cNvCxnSpPr>
          <p:nvPr/>
        </p:nvCxnSpPr>
        <p:spPr>
          <a:xfrm flipH="1" rot="16200000">
            <a:off x="1678680" y="1571760"/>
            <a:ext cx="1043640" cy="173448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156" name="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158" name=""/>
          <p:cNvSpPr/>
          <p:nvPr/>
        </p:nvSpPr>
        <p:spPr>
          <a:xfrm>
            <a:off x="818280" y="1981080"/>
            <a:ext cx="511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Sco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67200" y="270828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StrokeStyle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スコア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692080" y="26510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847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StrokeStyle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1" name=""/>
          <p:cNvCxnSpPr>
            <a:stCxn id="155" idx="3"/>
            <a:endCxn id="160" idx="1"/>
          </p:cNvCxnSpPr>
          <p:nvPr/>
        </p:nvCxnSpPr>
        <p:spPr>
          <a:xfrm>
            <a:off x="4795920" y="2960280"/>
            <a:ext cx="1289520" cy="108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162" name=""/>
          <p:cNvSpPr/>
          <p:nvPr/>
        </p:nvSpPr>
        <p:spPr>
          <a:xfrm>
            <a:off x="478116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79168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9664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66B2D-D998-4A68-AFF1-08AB0CDA76C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Kenji</cp:lastModifiedBy>
  <dcterms:modified xsi:type="dcterms:W3CDTF">2011-02-19T07:41:01Z</dcterms:modified>
  <cp:revision>163</cp:revision>
  <dc:subject/>
  <dc:title>スライド 1</dc:title>
</cp:coreProperties>
</file>