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E08A3-3AB9-4CF4-8987-BB3E081B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4852E-C307-43F2-AD75-0135F79B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19D00-BCE1-4703-8FD4-F0E2FD80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D5348-4866-415E-AFB7-3DA8944A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6BF2-85E4-43A2-A610-866B18F9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4AF2-463A-4DF6-BF7A-274BEE7B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761C-E1B4-4490-B6B1-996442C8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BC66-3AB1-4074-910C-9984386F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D20E-68FB-47FB-988C-4A9E0A7E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DD31-1F26-4A8C-9F79-414D3DB5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CCA3-32F1-41C1-B104-8E42BF12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51E38-ECD7-4BFA-BFF1-47D17385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ECC1-316C-4D02-836E-5061A46D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BCB7-862D-49E8-B3BF-97206081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CB8C-C231-45F0-8D64-B379ACFC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5CF9-D85A-4AC5-815B-39A5819B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4B70-4568-417B-B964-832DC38C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A237C-5E8A-4EE0-87CA-FBBD76AD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7767D-FF6E-4F67-9B1C-77F634E1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80551-A464-4030-9E28-04E312C3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3507B-4FAB-47DF-9CCB-6B10A6CA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8F718-D885-4FE1-A2E5-A9AC6E45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1C468-FEA1-410E-A220-0DEC9849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15D4A-C92E-4235-8E1C-1E0CAB25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26BE-F0FB-4F9A-9B5A-104F5FB989C6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8736-EF53-4EE2-88A0-966C20649E5F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43083-44C8-4299-80D6-32BA835CCA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レーン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下はすべて「右シンバル」レーンに属するものとする（固定）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左シンバル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ライド、ライドカップ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プラッシュ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チャイナ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07D1B-3DFA-43DD-B120-1A402AD6EB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ポジション」と「グリッド」と「ピクセル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ポジション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os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　　　　　　　 　　　で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分母と分子は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C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チップのプロパティとして保有され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長倍率によって値は</a:t>
            </a: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しない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grid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スクロールバーの関係上、任意の位置をリニアにカウントできる必要があるため導入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譜面内絶対位置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」とは「譜面の先頭からの位置」のことを示す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１小節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6912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（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内解像度）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6912 = 4,8,12,16,24,32,48,64,128,256(Free)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の最小公倍数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ART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長倍率により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値域が変化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す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1.00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6911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.75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5183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ピクセル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x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譜面拡大率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x1.0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のとき、１ピクセル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27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1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6912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グリッド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256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ピクセル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IXEL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1197000"/>
            <a:ext cx="1583640" cy="487080"/>
            <a:chOff x="3059280" y="1197000"/>
            <a:chExt cx="1583640" cy="487080"/>
          </a:xfrm>
        </p:grpSpPr>
        <p:sp>
          <p:nvSpPr>
            <p:cNvPr id="170" name=""/>
            <p:cNvSpPr/>
            <p:nvPr/>
          </p:nvSpPr>
          <p:spPr>
            <a:xfrm>
              <a:off x="3059280" y="1197000"/>
              <a:ext cx="1576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位置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解像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7280" y="1461240"/>
              <a:ext cx="156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891C9-9044-4864-BF16-FF77EEE6B4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3" name="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96640" y="622440"/>
            <a:ext cx="22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ピクセル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6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ピクセルを単位とするが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7C5AA-8E6A-43C5-9486-70460AED02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青板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354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赤枠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と同サイズ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0" y="501336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5360" y="2039760"/>
            <a:ext cx="2021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（幅はそうとは限らない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62CFE-9F95-4963-80E8-94CE4A3B52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"/>
          <p:cNvSpPr/>
          <p:nvPr/>
        </p:nvSpPr>
        <p:spPr>
          <a:xfrm>
            <a:off x="1801080" y="1052640"/>
            <a:ext cx="3375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左右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つまみ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26C14-12C7-44E0-B586-C65DE11B24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518640" y="760320"/>
            <a:ext cx="456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D6EA5-4182-4898-B6E3-FB9EE6B46A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編集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ac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チップ種類の恒久的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hift+Spac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特定のチップ種類にトグル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CE41D-E9C7-49A6-BBEA-92DD805F68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前と移動後でレーンが変わっているときは、チップ種別は移動後のレーンの「最初のチップ種別」になるものとす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B7314-B5C1-4725-B70E-608A9145FA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小節長倍率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Ｐゴシック"/>
              </a:rPr>
              <a:t>小節の追加・挿入時の倍率は、「挿入箇所の直前の小節」と同じ倍率と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小節番号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に挿入する場合は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1.0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8FBFC-E531-4C32-B7D7-018D735726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00C25-71AB-45B6-AE83-44E7B2508C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作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.NET Framework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2.0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ラットフォーム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x86”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み（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AnyCPU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削除）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OW64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対応のため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1B741-0E02-4D64-8784-4AA727D0F6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3668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oot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 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開始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終了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gt; list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rd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親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bjec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bool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254" name=""/>
          <p:cNvSpPr/>
          <p:nvPr/>
        </p:nvSpPr>
        <p:spPr>
          <a:xfrm>
            <a:off x="480708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38720" y="540072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072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5800" y="540072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540072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2680" y="64864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2920" y="648648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62480" y="551664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0720" y="589932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591520" y="4386960"/>
            <a:ext cx="142560" cy="17413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2760" y="475308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887160" y="4831200"/>
            <a:ext cx="144360" cy="8510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4320" y="47530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236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5160" y="590544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600" y="389412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643280" y="5013000"/>
            <a:ext cx="216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42800" y="4581360"/>
            <a:ext cx="163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継承したインスタン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84464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ja-JP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357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0"/>
            <a:endCxn id="272" idx="2"/>
          </p:cNvCxnSpPr>
          <p:nvPr/>
        </p:nvCxnSpPr>
        <p:spPr>
          <a:xfrm flipH="1" flipV="1" rot="5400000">
            <a:off x="5849640" y="2187000"/>
            <a:ext cx="577080" cy="1043640"/>
          </a:xfrm>
          <a:prstGeom prst="bentConnector3">
            <a:avLst>
              <a:gd name="adj1" fmla="val 5012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77" name=""/>
          <p:cNvCxnSpPr>
            <a:stCxn id="272" idx="2"/>
            <a:endCxn id="274" idx="0"/>
          </p:cNvCxnSpPr>
          <p:nvPr/>
        </p:nvCxnSpPr>
        <p:spPr>
          <a:xfrm flipH="1" rot="16200000">
            <a:off x="6821280" y="2257920"/>
            <a:ext cx="577080" cy="90252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516720" y="2492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184464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9" idx="3"/>
            <a:endCxn id="272" idx="1"/>
          </p:cNvCxnSpPr>
          <p:nvPr/>
        </p:nvCxnSpPr>
        <p:spPr>
          <a:xfrm>
            <a:off x="5003280" y="213336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049720" y="175248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2960" y="177156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975640" y="33534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8600" y="428796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2039760"/>
            <a:ext cx="1008000" cy="716040"/>
          </a:xfrm>
          <a:prstGeom prst="wedgeRoundRectCallout">
            <a:avLst>
              <a:gd name="adj1" fmla="val -37402"/>
              <a:gd name="adj2" fmla="val 9767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複数のセルの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を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一括して行いたい場合に使用する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765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2"/>
            <a:endCxn id="279" idx="0"/>
          </p:cNvCxnSpPr>
          <p:nvPr/>
        </p:nvCxnSpPr>
        <p:spPr>
          <a:xfrm>
            <a:off x="4211280" y="1341360"/>
            <a:ext cx="1080" cy="504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4204800" y="129528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04800" y="159696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8320" y="130176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6202B-54B8-45C3-8DD8-47DC8A5E6B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2" idx="2"/>
            <a:endCxn id="295" idx="0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更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3" idx="2"/>
            <a:endCxn id="296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2"/>
            <a:endCxn id="297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6" idx="2"/>
            <a:endCxn id="304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2"/>
            <a:endCxn id="304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307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539640" y="5300640"/>
            <a:ext cx="1270080" cy="5763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=nu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2"/>
            <a:endCxn id="309" idx="0"/>
          </p:cNvCxnSpPr>
          <p:nvPr/>
        </p:nvCxnSpPr>
        <p:spPr>
          <a:xfrm>
            <a:off x="1174320" y="1915920"/>
            <a:ext cx="1080" cy="33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2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2"/>
            <a:endCxn id="292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=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95" idx="2"/>
            <a:endCxn id="293" idx="0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3"/>
            <a:endCxn id="304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トリ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など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6" idx="2"/>
            <a:endCxn id="317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997360"/>
            <a:ext cx="1584360" cy="502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変更し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GUI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再描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7" idx="2"/>
            <a:endCxn id="319" idx="0"/>
          </p:cNvCxnSpPr>
          <p:nvPr/>
        </p:nvCxnSpPr>
        <p:spPr>
          <a:xfrm flipV="1" rot="10800000">
            <a:off x="7163640" y="1915920"/>
            <a:ext cx="1080" cy="40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2"/>
            <a:endCxn id="320" idx="0"/>
          </p:cNvCxnSpPr>
          <p:nvPr/>
        </p:nvCxnSpPr>
        <p:spPr>
          <a:xfrm flipV="1" rot="10800000">
            <a:off x="7163640" y="2707560"/>
            <a:ext cx="1080" cy="289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292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40081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04" idx="2"/>
            <a:endCxn id="324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4" idx="2"/>
            <a:endCxn id="302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573360"/>
            <a:ext cx="48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自動発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1773360"/>
            <a:ext cx="1008000" cy="1076040"/>
          </a:xfrm>
          <a:prstGeom prst="wedgeRoundRectCallout">
            <a:avLst>
              <a:gd name="adj1" fmla="val -69212"/>
              <a:gd name="adj2" fmla="val 8466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前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後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に更新す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2848B-5688-4225-A024-42299BCAB4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その他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プログラムから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などの値を直接変更する場合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rue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にし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）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"/>
          <p:cNvSpPr/>
          <p:nvPr/>
        </p:nvSpPr>
        <p:spPr>
          <a:xfrm>
            <a:off x="3898800" y="329256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auto fi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E3B26-892F-4868-936E-01394BC5FC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T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の連携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A7572-A2FF-4B2E-AE88-400B88DC1D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参照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を参照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よって、両者は同じフォルダに配置されるもの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主な参照クラス：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Global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スコア 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/ 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チップ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73FE2-6F1F-4122-91A2-290E417E4C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Main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分割パネルコンテ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248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8900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8. 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タブコンテナ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”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7. 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パネル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6. 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Bottom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6640"/>
            <a:ext cx="3720960" cy="36003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9. 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1773360"/>
            <a:ext cx="293760" cy="42987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（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Dock: “Right”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981000"/>
            <a:ext cx="1655640" cy="50184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サイズ固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(FixedPanel: “Panel1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2920" y="1484280"/>
            <a:ext cx="314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C636E-2708-4D84-BC8E-7E3BD826E2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分割パネルコンテナ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に手動で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イベントを追加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。）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C256A-2809-4383-8CA6-25D1D300FE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構成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(3)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動発生する可能性のあるイベントのイベントハンドラでは、「初期化が完了するまで無視する」ようコーディングする。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Paint, SizeChanged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などのイベントは、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InitializeComponent()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の中で発生する可能性がある。これはデザイナの仕様上、防ぐことができない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そこで、アプリケーションの初期化が完了したことを示すフラグを設け、それによりイベントハンドラ内で処理をはじくようにする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サンプル：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private void splitContainer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分割パネルコンテナ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_Panel2_SizeChanged( object sender, EventArgs e 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{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if( !this.b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完了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return;     //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が終わってないのに呼び出されることがあるので、その場合は無視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水平スクロールバーと譜面の左右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垂直スクロールバーと譜面の上下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}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2CDE7-94D7-4D87-BD0E-2DF589F67B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実行環境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.NET Framework 2.0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降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irect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limDX(v1)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各時点で最新のもの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同じフォルダに配置すること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ファイルの読み書きに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ubli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クラス（「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コア」等）を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ewer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としても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46760-366C-4F08-8973-DE6E13289E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イベン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29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3"/>
            <a:endCxn id="132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4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3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0" idx="3"/>
            <a:endCxn id="134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3"/>
            <a:endCxn id="130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31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35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6" idx="3"/>
            <a:endCxn id="136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C4B19-07F4-48AD-8DD9-1CF6997982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1BF90-5FF9-416E-A7E4-1D8A136B09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1"/>
          </p:cNvCxnSpPr>
          <p:nvPr/>
        </p:nvCxnSpPr>
        <p:spPr>
          <a:xfrm flipH="1" rot="16200000">
            <a:off x="1678680" y="1571760"/>
            <a:ext cx="1043640" cy="17344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6" name="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8" name=""/>
          <p:cNvSpPr/>
          <p:nvPr/>
        </p:nvSpPr>
        <p:spPr>
          <a:xfrm>
            <a:off x="818280" y="1981080"/>
            <a:ext cx="51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Sc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0" y="270828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スコ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92080" y="26510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3"/>
            <a:endCxn id="160" idx="1"/>
          </p:cNvCxnSpPr>
          <p:nvPr/>
        </p:nvCxnSpPr>
        <p:spPr>
          <a:xfrm>
            <a:off x="4795920" y="2960280"/>
            <a:ext cx="1289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62" name=""/>
          <p:cNvSpPr/>
          <p:nvPr/>
        </p:nvSpPr>
        <p:spPr>
          <a:xfrm>
            <a:off x="478116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68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664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DAFE0-D0D1-44AE-B5C3-94A84BC984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Kenji</cp:lastModifiedBy>
  <dcterms:modified xsi:type="dcterms:W3CDTF">2011-02-19T07:41:01Z</dcterms:modified>
  <cp:revision>163</cp:revision>
  <dc:subject/>
  <dc:title>スライド 1</dc:title>
</cp:coreProperties>
</file>