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7DBAB-71DA-47EF-A7B7-79DAE8C5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F8187-C439-4029-A808-5A5E709E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3F2AA-8700-4E22-9988-258EF706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EA436-8692-417F-A238-161185EAA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3EB7-BBE4-4F5E-A6F0-CAD21F6C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4CFC-1CC4-4911-83FB-C54E53CC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E236-6263-4252-968B-80FD9A10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FDA5-816A-4AE5-8518-AA8056DA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8A39-FB64-41F4-A262-BC4C9119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0AC3-F25E-4451-81BF-EDB3AB38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EB43-7DBC-4781-8B20-136426A7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4F620-49D0-4C28-899E-D3720E43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DA21-8341-4660-9A80-ECD16917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26D7-39C2-401A-B893-DAA755D9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3D9D-6289-48F3-8221-D621D02B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5B03-1F57-4E0F-9206-4C1E78BB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83EE-A273-4ADB-8F33-5B6540A2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6B341-FE63-4634-89E7-826BB1CA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D263A-841A-44C6-A8F0-609C1149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18668-19F1-44C4-903A-6F33AC9F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E3AA2-528A-4422-BC51-521B5293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0668E-B033-47B5-B38E-7BB91692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9EC41-15C5-4BD3-91C5-A6C7DFF7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B1922-4E6D-4E5E-BE62-6F07400A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6B4D-5A86-4BC9-9943-FFDB817E7F14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40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54B7-5AD0-462D-978B-BBF31BEA1631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93B51-30C3-483E-A376-1D7BD684C2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レーン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下はすべて「右シンバル」レーンに属するものとする（固定）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左シンバル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ライド、ライドカップ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プラッシュ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チャイナ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A2550-20BF-4AE3-814F-35F3395D38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ポジション」と「グリッド」と「ピクセル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ポジション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os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　　　　　　　 　　　で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分母と分子は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C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チップのプロパティとして保有され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長倍率によって値は</a:t>
            </a: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しない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grid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スクロールバーの関係上、任意の位置をリニアにカウントできる必要があるため導入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譜面内絶対位置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」とは「譜面の先頭からの位置」のことを示す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１小節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6912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（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内解像度）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6912 = 4,8,12,16,24,32,48,64,128,256(Free)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の最小公倍数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ART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長倍率により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値域が変化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す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1.00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6911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.75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5183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ピクセル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x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譜面拡大率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x1.0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のとき、１ピクセル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27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1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6912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グリッド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256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ピクセル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IXEL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59280" y="1197000"/>
            <a:ext cx="1583640" cy="487080"/>
            <a:chOff x="3059280" y="1197000"/>
            <a:chExt cx="1583640" cy="487080"/>
          </a:xfrm>
        </p:grpSpPr>
        <p:sp>
          <p:nvSpPr>
            <p:cNvPr id="170" name=""/>
            <p:cNvSpPr/>
            <p:nvPr/>
          </p:nvSpPr>
          <p:spPr>
            <a:xfrm>
              <a:off x="3059280" y="1197000"/>
              <a:ext cx="1576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位置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解像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77280" y="1461240"/>
              <a:ext cx="156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A2609-5A8B-46B0-8B55-8C6DDA5AE1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3" name="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96640" y="622440"/>
            <a:ext cx="2219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ピクセル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6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ピクセルを単位とするが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C29A4-7EEA-42D8-BF4F-F3707A7E90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（青板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2764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354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赤枠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と同サイズ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0" y="501336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5360" y="2039760"/>
            <a:ext cx="2021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（幅はそうとは限らない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F43E2-1B11-4851-A2A5-B4B340F43F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"/>
          <p:cNvSpPr/>
          <p:nvPr/>
        </p:nvSpPr>
        <p:spPr>
          <a:xfrm>
            <a:off x="1801080" y="1052640"/>
            <a:ext cx="3375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左右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つまみ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C4C2F-9878-40E6-9C94-282582CFFE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0" name=""/>
          <p:cNvSpPr/>
          <p:nvPr/>
        </p:nvSpPr>
        <p:spPr>
          <a:xfrm>
            <a:off x="3518640" y="760320"/>
            <a:ext cx="45622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A9E09-4181-43A3-920C-59A01847D4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編集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ac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チップ種類の恒久的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hift+Spac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特定のチップ種類にトグル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89AFF-64F3-4D15-A5AF-61B94B6F2E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前と移動後でレーンが変わっているときは、チップ種別は移動後のレーンの「最初のチップ種別」になるものとす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C8C38-3C87-42A5-8720-E5F66ABC82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小節長倍率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Ｐゴシック"/>
              </a:rPr>
              <a:t>小節の追加・挿入時の倍率は、「挿入箇所の直前の小節」と同じ倍率と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小節番号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に挿入する場合は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1.0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5C009-4C6E-450F-A8A1-37311FCBFE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0A867-A370-414A-AED8-1F8721EFD7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作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.NET Framework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2.0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ラットフォーム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x86”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み（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AnyCPU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削除）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→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OW64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対応のため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EBFE8-13BF-418C-8338-721C70CD69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640" y="691920"/>
            <a:ext cx="36687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oot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 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開始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終了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gt; list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rd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親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bjec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bool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254" name=""/>
          <p:cNvSpPr/>
          <p:nvPr/>
        </p:nvSpPr>
        <p:spPr>
          <a:xfrm>
            <a:off x="480708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38720" y="540072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072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35800" y="540072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67440" y="540072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92680" y="648648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52920" y="648648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62480" y="551664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50720" y="589932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5591520" y="4386960"/>
            <a:ext cx="142560" cy="1741320"/>
          </a:xfrm>
          <a:custGeom>
            <a:avLst/>
            <a:gdLst>
              <a:gd name="textAreaLeft" fmla="*/ 91080 w 142560"/>
              <a:gd name="textAreaRight" fmla="*/ 142920 w 14256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52760" y="475308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6887160" y="4831200"/>
            <a:ext cx="144360" cy="85104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74320" y="475308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0236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75160" y="590544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98600" y="3894120"/>
            <a:ext cx="152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4643280" y="5013000"/>
            <a:ext cx="21600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42800" y="4581360"/>
            <a:ext cx="163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継承したインスタン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184464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ja-JP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3272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532720" y="335772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3" idx="0"/>
            <a:endCxn id="272" idx="2"/>
          </p:cNvCxnSpPr>
          <p:nvPr/>
        </p:nvCxnSpPr>
        <p:spPr>
          <a:xfrm flipH="1" flipV="1" rot="5400000">
            <a:off x="5849640" y="2187000"/>
            <a:ext cx="577080" cy="1043640"/>
          </a:xfrm>
          <a:prstGeom prst="bentConnector3">
            <a:avLst>
              <a:gd name="adj1" fmla="val 50124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77" name=""/>
          <p:cNvCxnSpPr>
            <a:stCxn id="272" idx="2"/>
            <a:endCxn id="274" idx="0"/>
          </p:cNvCxnSpPr>
          <p:nvPr/>
        </p:nvCxnSpPr>
        <p:spPr>
          <a:xfrm flipH="1" rot="16200000">
            <a:off x="6821280" y="2257920"/>
            <a:ext cx="577080" cy="902520"/>
          </a:xfrm>
          <a:prstGeom prst="bentConnector3">
            <a:avLst>
              <a:gd name="adj1" fmla="val 49812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516720" y="249228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184464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9" idx="3"/>
            <a:endCxn id="272" idx="1"/>
          </p:cNvCxnSpPr>
          <p:nvPr/>
        </p:nvCxnSpPr>
        <p:spPr>
          <a:xfrm>
            <a:off x="5003280" y="213336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5049720" y="175248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02960" y="177156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5975640" y="335340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48600" y="428796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12000" y="2039760"/>
            <a:ext cx="1008000" cy="716040"/>
          </a:xfrm>
          <a:prstGeom prst="wedgeRoundRectCallout">
            <a:avLst>
              <a:gd name="adj1" fmla="val -37402"/>
              <a:gd name="adj2" fmla="val 9767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複数のセルの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を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一括して行いたい場合に使用する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765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86" idx="2"/>
            <a:endCxn id="279" idx="0"/>
          </p:cNvCxnSpPr>
          <p:nvPr/>
        </p:nvCxnSpPr>
        <p:spPr>
          <a:xfrm>
            <a:off x="4211280" y="1341360"/>
            <a:ext cx="1080" cy="5040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4204800" y="129528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04800" y="159696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48320" y="130176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56A43-55E8-4C62-875A-A41BFB4852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2" name="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92" idx="2"/>
            <a:endCxn id="295" idx="0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更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8" name=""/>
          <p:cNvCxnSpPr>
            <a:stCxn id="293" idx="2"/>
            <a:endCxn id="296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2"/>
            <a:endCxn id="297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296" idx="2"/>
            <a:endCxn id="304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7" idx="2"/>
            <a:endCxn id="304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2"/>
            <a:endCxn id="307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539640" y="5300640"/>
            <a:ext cx="1270080" cy="57636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=nu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7" idx="2"/>
            <a:endCxn id="309" idx="0"/>
          </p:cNvCxnSpPr>
          <p:nvPr/>
        </p:nvCxnSpPr>
        <p:spPr>
          <a:xfrm>
            <a:off x="1174320" y="1915920"/>
            <a:ext cx="1080" cy="3385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9" idx="2"/>
            <a:endCxn id="302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6" idx="2"/>
            <a:endCxn id="292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=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295" idx="2"/>
            <a:endCxn id="293" idx="0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295" idx="3"/>
            <a:endCxn id="304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トリ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など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06" idx="2"/>
            <a:endCxn id="317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72360" y="2997360"/>
            <a:ext cx="1584360" cy="50292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変更し、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GUI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再描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17" idx="2"/>
            <a:endCxn id="319" idx="0"/>
          </p:cNvCxnSpPr>
          <p:nvPr/>
        </p:nvCxnSpPr>
        <p:spPr>
          <a:xfrm flipV="1" rot="10800000">
            <a:off x="7163640" y="1915920"/>
            <a:ext cx="1080" cy="4006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19" idx="2"/>
            <a:endCxn id="320" idx="0"/>
          </p:cNvCxnSpPr>
          <p:nvPr/>
        </p:nvCxnSpPr>
        <p:spPr>
          <a:xfrm flipV="1" rot="10800000">
            <a:off x="7163640" y="2707560"/>
            <a:ext cx="1080" cy="2894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20" idx="2"/>
            <a:endCxn id="292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40081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04" idx="2"/>
            <a:endCxn id="324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4" idx="2"/>
            <a:endCxn id="302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297560" y="3573360"/>
            <a:ext cx="48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自動発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028000" y="1773360"/>
            <a:ext cx="1008000" cy="1076040"/>
          </a:xfrm>
          <a:prstGeom prst="wedgeRoundRectCallout">
            <a:avLst>
              <a:gd name="adj1" fmla="val -69212"/>
              <a:gd name="adj2" fmla="val 8466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前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後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に更新する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73BC5-53AF-44DF-BA8C-852BD3D418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その他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プログラムから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などの値を直接変更する場合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rue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にし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）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"/>
          <p:cNvSpPr/>
          <p:nvPr/>
        </p:nvSpPr>
        <p:spPr>
          <a:xfrm>
            <a:off x="3898800" y="3292560"/>
            <a:ext cx="134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auto fi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2B119-CF2C-482B-8E47-23CA4830A0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T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の連携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93ACE-EFAA-4CE4-9929-9D0356A1BB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参照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を参照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よって、両者は同じフォルダに配置されるもの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主な参照クラス：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Global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スコア 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/ 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チップ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62A46-75A6-4E71-A608-42BFF49AB2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Main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分割パネルコンテ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248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98900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8. 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タブコンテナ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”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7. 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パネル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6. 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Bottom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276640"/>
            <a:ext cx="3720960" cy="36003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9. 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59640" y="1773360"/>
            <a:ext cx="293760" cy="42987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（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Dock: “Right”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981000"/>
            <a:ext cx="1655640" cy="50184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サイズ固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(FixedPanel: “Panel1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842920" y="1484280"/>
            <a:ext cx="31428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F62B9-58E4-4BC2-9BC8-773879F5A2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分割パネルコンテナ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に手動で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イベントを追加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。）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9765A-DB50-4A41-82B6-A98871E1EF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構成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(3)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自動発生する可能性のあるイベントのイベントハンドラでは、「初期化が完了するまで無視する」ようコーディングする。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Paint, SizeChanged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などのイベントは、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InitializeComponent()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の中で発生する可能性がある。これはデザイナの仕様上、防ぐことができない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そこで、アプリケーションの初期化が完了したことを示すフラグを設け、それによりイベントハンドラ内で処理をはじくようにする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サンプル：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private void splitContainer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分割パネルコンテナ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_Panel2_SizeChanged( object sender, EventArgs e 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{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if( !this.b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完了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return;     //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が終わってないのに呼び出されることがあるので、その場合は無視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水平スクロールバーと譜面の左右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垂直スクロールバーと譜面の上下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}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E02B3-ED72-4957-BFDF-921EC0FAB5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実行環境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.NET Framework 2.0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降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irect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limDX(v1)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各時点で最新のもの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同じフォルダに配置すること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ファイルの読み書きに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ubli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クラス（「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コア」等）を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ewer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としても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5771D-D793-48E1-B1AE-D3EED1CDD1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イベン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9" name="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9" idx="3"/>
            <a:endCxn id="129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8" idx="3"/>
            <a:endCxn id="132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3"/>
            <a:endCxn id="134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7" idx="3"/>
            <a:endCxn id="133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0" idx="3"/>
            <a:endCxn id="134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3"/>
            <a:endCxn id="130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3"/>
            <a:endCxn id="131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3"/>
            <a:endCxn id="135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6" idx="3"/>
            <a:endCxn id="136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AA1E3-0CF5-4DB0-9FA6-E8C9C90D66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7740F-DF98-489B-8895-34E495E98A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5" idx="1"/>
          </p:cNvCxnSpPr>
          <p:nvPr/>
        </p:nvCxnSpPr>
        <p:spPr>
          <a:xfrm flipH="1" rot="16200000">
            <a:off x="1678680" y="1571760"/>
            <a:ext cx="1043640" cy="17344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6" name="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8" name=""/>
          <p:cNvSpPr/>
          <p:nvPr/>
        </p:nvSpPr>
        <p:spPr>
          <a:xfrm>
            <a:off x="818280" y="1981080"/>
            <a:ext cx="51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Sco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7200" y="270828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スコア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92080" y="26510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5" idx="3"/>
            <a:endCxn id="160" idx="1"/>
          </p:cNvCxnSpPr>
          <p:nvPr/>
        </p:nvCxnSpPr>
        <p:spPr>
          <a:xfrm>
            <a:off x="4795920" y="2960280"/>
            <a:ext cx="128952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62" name=""/>
          <p:cNvSpPr/>
          <p:nvPr/>
        </p:nvSpPr>
        <p:spPr>
          <a:xfrm>
            <a:off x="478116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68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664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5D2E8-B360-4C9C-8203-F1D4BFDF30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Kenji</cp:lastModifiedBy>
  <dcterms:modified xsi:type="dcterms:W3CDTF">2011-02-19T07:41:01Z</dcterms:modified>
  <cp:revision>163</cp:revision>
  <dc:subject/>
  <dc:title>スライド 1</dc:title>
</cp:coreProperties>
</file>