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A990C-3FD6-42D4-ABB7-63F43B32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0327A-47B1-44CA-9EC1-BB98FEDA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51727-4B1D-4308-A6F1-A4571C6F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62E2F-6EEA-451B-941D-C9EC8CC5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B4CC-B484-43C3-9A95-2D95800A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5E7F-3994-4D85-90A3-92C431A2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302B-4ADD-4651-9991-5684480E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342A-EC58-48EC-B1C9-927AAC41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3356-D0E7-4C09-AA2C-94D492C2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19DC-2DED-4C19-AAC4-3996B596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AC5A-FD7A-465B-B67E-5665E36E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854FD-D456-4105-B39B-50253525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6926-79A0-47A2-9FEF-FCC62D45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8C40-E056-4F93-8B6A-FBBCA1CA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2E65-AED5-4499-A751-AF1C3096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B5E8-7B1E-46CB-ADBF-25938A00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B34D-DEC6-4E08-881E-56284ACB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0E75D-C9F8-4ED0-A110-E03FA606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6A520-C0EF-4B50-B9BD-2CFFB365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DA2DF-8945-4436-95F4-4C022B54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A29C0-19BD-43F1-BF06-DFDA7472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83A70-BC40-4B64-8FD4-6A05B271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75F45-E6AC-4B02-B2B9-80A6CF79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80633-6BF6-4208-80A2-0634D094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8CC6-8C62-469E-BA61-A9C4A2EC7053}" type="slidenum"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84BF-93ED-43F3-BD9D-067A12A1A8FF}" type="slidenum">
              <a:rPr b="0" lang="ja-JP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677D5-954A-4310-B231-7FDC810631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レーン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下はすべて「右シンバル」レーンに属するものとする（固定）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左シンバル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ライド、ライドカップ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プラッシュ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チャイナ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F73F9-1B6D-4402-B7EC-EF03F16485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ポジション」と「グリッド」と「ピクセル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ポジション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os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　　　　　　　 　　　で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分母と分子は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C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チップのプロパティとして保有され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長倍率によって値は</a:t>
            </a: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しない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grid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スクロールバーの関係上、任意の位置をリニアにカウントできる必要があるため導入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譜面内絶対位置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」とは「譜面の先頭からの位置」のことを示す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１小節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6912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（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n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小節内解像度）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6912 = 4,8,12,16,24,32,48,64,128,256(Free)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の最小公倍数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ART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長倍率により</a:t>
            </a:r>
            <a:r>
              <a:rPr b="0" lang="ja-JP" sz="1600" spc="-1" strike="noStrike" u="sng">
                <a:solidFill>
                  <a:srgbClr val="4bd0ff"/>
                </a:solidFill>
                <a:uFillTx/>
                <a:latin typeface="ＭＳ Ｐゴシック"/>
              </a:rPr>
              <a:t>値域が変化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する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1.00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6911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例： 倍率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.75 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のとき、１小節のグリッド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= 0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～</a:t>
            </a:r>
            <a:r>
              <a:rPr b="0" lang="ja-JP" sz="1400" spc="-1" strike="noStrike">
                <a:solidFill>
                  <a:srgbClr val="33cc33"/>
                </a:solidFill>
                <a:latin typeface="ＭＳ Ｐゴシック"/>
              </a:rPr>
              <a:t>5183</a:t>
            </a:r>
            <a:endParaRPr b="0" lang="en-US" sz="14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ピクセル</a:t>
            </a: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(px)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譜面拡大率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x1.0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のとき、１ピクセル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27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グリッドとする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1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小節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6912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グリッド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= 256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ピクセル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リソース名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GRID_PER_PIXEL </a:t>
            </a:r>
            <a:r>
              <a:rPr b="0" lang="ja-JP" sz="1600" spc="-1" strike="noStrike">
                <a:solidFill>
                  <a:srgbClr val="4bd0ff"/>
                </a:solidFill>
                <a:latin typeface="ＭＳ Ｐゴシック"/>
              </a:rPr>
              <a:t>で定義。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59280" y="1197000"/>
            <a:ext cx="1583640" cy="487080"/>
            <a:chOff x="3059280" y="1197000"/>
            <a:chExt cx="1583640" cy="487080"/>
          </a:xfrm>
        </p:grpSpPr>
        <p:sp>
          <p:nvSpPr>
            <p:cNvPr id="170" name=""/>
            <p:cNvSpPr/>
            <p:nvPr/>
          </p:nvSpPr>
          <p:spPr>
            <a:xfrm>
              <a:off x="3059280" y="1197000"/>
              <a:ext cx="1576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位置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n</a:t>
              </a: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小節内解像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77280" y="1461240"/>
              <a:ext cx="156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3E19F-4219-4E21-B858-8CBAFC6D29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3" name="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96640" y="622440"/>
            <a:ext cx="2219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ピクセル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6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ピクセルを単位とするが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D1935-36FE-415E-99B7-CF38BC62B9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（青板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2764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354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水平スクロールバ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赤枠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（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と同サイズ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0" y="501336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5360" y="2039760"/>
            <a:ext cx="2021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（幅はそうとは限らない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1ED5F-F3BB-4586-9D07-9628DBC2F8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"/>
          <p:cNvSpPr/>
          <p:nvPr/>
        </p:nvSpPr>
        <p:spPr>
          <a:xfrm>
            <a:off x="1801080" y="1052640"/>
            <a:ext cx="3375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左右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つまみ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13F2F-648C-4EE8-9B69-D506E6EC68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0" name=""/>
          <p:cNvSpPr/>
          <p:nvPr/>
        </p:nvSpPr>
        <p:spPr>
          <a:xfrm>
            <a:off x="3518640" y="760320"/>
            <a:ext cx="45622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FDB37-2CF8-46F2-8D02-111F5807E9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編集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ac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チップ種類の恒久的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hift+Spac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キーで特定のチップ種類にトグル変更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4B6AA-1F69-42F6-82CB-894EFF9C4E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前と移動後でレーンが変わっているときは、チップ種別は移動後のレーンの「最初のチップ種別」になるものとす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0846E-3147-454C-9D38-62BB178880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小節長倍率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Ｐゴシック"/>
              </a:rPr>
              <a:t>小節の追加・挿入時の倍率は、「挿入箇所の直前の小節」と同じ倍率と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小節番号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に挿入する場合は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1.0 </a:t>
            </a:r>
            <a:r>
              <a:rPr b="1" lang="ja-JP" sz="2800" spc="-1" strike="noStrike">
                <a:solidFill>
                  <a:srgbClr val="ffd1e8"/>
                </a:solidFill>
                <a:latin typeface="ＭＳ Ｐゴシック"/>
              </a:rPr>
              <a:t>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9B585-6FDF-49DE-8136-A70CE37E9E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72F2F-8C6D-4961-BFE7-4772247D10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作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.NET Framework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2.0”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プラットフォーム： “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x86”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み（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AnyCPU”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削除）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→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WOW64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対応のため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761C9-BF3B-44DE-8C11-2BC62857DE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" y="691920"/>
            <a:ext cx="36687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oot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 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開始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トランザクション記録を終了する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gt; list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リスト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urd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親セル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nt n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bject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bool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irtual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 { }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セル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Base</a:t>
            </a:r>
            <a:r>
              <a:rPr b="0" lang="ja-JP" sz="900" spc="-1" strike="noStrike">
                <a:solidFill>
                  <a:srgbClr val="4bd0ff"/>
                </a:solidFill>
                <a:latin typeface="ＭＳ Ｐゴシック"/>
              </a:rPr>
              <a:t>　を継承</a:t>
            </a:r>
            <a:endParaRPr b="0" lang="en-US" sz="9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実行デリゲート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Un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override void Redo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ja-JP" sz="10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254" name=""/>
          <p:cNvSpPr/>
          <p:nvPr/>
        </p:nvSpPr>
        <p:spPr>
          <a:xfrm>
            <a:off x="480708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38720" y="540072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072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35800" y="540072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540072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92680" y="648648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52920" y="648648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62480" y="551664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0720" y="589932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5591520" y="4386960"/>
            <a:ext cx="142560" cy="1741320"/>
          </a:xfrm>
          <a:custGeom>
            <a:avLst/>
            <a:gdLst>
              <a:gd name="textAreaLeft" fmla="*/ 91080 w 142560"/>
              <a:gd name="textAreaRight" fmla="*/ 142920 w 14256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2760" y="475308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887160" y="4831200"/>
            <a:ext cx="144360" cy="8510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1040"/>
              <a:gd name="textAreaBottom" fmla="*/ 82908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4320" y="475308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2360" y="540072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75160" y="590544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600" y="389412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643280" y="5013000"/>
            <a:ext cx="216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42800" y="4581360"/>
            <a:ext cx="163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継承したインスタン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184464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ja-JP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32720" y="2997360"/>
            <a:ext cx="1655640" cy="57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3357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0"/>
            <a:endCxn id="272" idx="2"/>
          </p:cNvCxnSpPr>
          <p:nvPr/>
        </p:nvCxnSpPr>
        <p:spPr>
          <a:xfrm flipH="1" flipV="1" rot="5400000">
            <a:off x="5849640" y="2187000"/>
            <a:ext cx="577080" cy="1043640"/>
          </a:xfrm>
          <a:prstGeom prst="bentConnector3">
            <a:avLst>
              <a:gd name="adj1" fmla="val 5012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77" name=""/>
          <p:cNvCxnSpPr>
            <a:stCxn id="272" idx="2"/>
            <a:endCxn id="274" idx="0"/>
          </p:cNvCxnSpPr>
          <p:nvPr/>
        </p:nvCxnSpPr>
        <p:spPr>
          <a:xfrm flipH="1" rot="16200000">
            <a:off x="6821280" y="2257920"/>
            <a:ext cx="577080" cy="902520"/>
          </a:xfrm>
          <a:prstGeom prst="bentConnector3">
            <a:avLst>
              <a:gd name="adj1" fmla="val 4981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516720" y="2492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184464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9" idx="3"/>
            <a:endCxn id="272" idx="1"/>
          </p:cNvCxnSpPr>
          <p:nvPr/>
        </p:nvCxnSpPr>
        <p:spPr>
          <a:xfrm>
            <a:off x="5003280" y="213336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049720" y="175248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2960" y="177156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975640" y="33534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8600" y="428796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2039760"/>
            <a:ext cx="1008000" cy="716040"/>
          </a:xfrm>
          <a:prstGeom prst="wedgeRoundRectCallout">
            <a:avLst>
              <a:gd name="adj1" fmla="val -37402"/>
              <a:gd name="adj2" fmla="val 9767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複数のセルの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を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一括して行いたい場合に使用する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765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管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6" idx="2"/>
            <a:endCxn id="279" idx="0"/>
          </p:cNvCxnSpPr>
          <p:nvPr/>
        </p:nvCxnSpPr>
        <p:spPr>
          <a:xfrm>
            <a:off x="4211280" y="1341360"/>
            <a:ext cx="1080" cy="5040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204800" y="129528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04800" y="1596960"/>
            <a:ext cx="29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8320" y="130176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3B6C0-1544-42F1-82F5-4DF0BDC569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2" idx="2"/>
            <a:endCxn id="295" idx="0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更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3" idx="2"/>
            <a:endCxn id="296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2"/>
            <a:endCxn id="297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6" idx="2"/>
            <a:endCxn id="304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7" idx="2"/>
            <a:endCxn id="304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2"/>
            <a:endCxn id="307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539640" y="5300640"/>
            <a:ext cx="1270080" cy="57636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ID"=nu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2"/>
            <a:endCxn id="309" idx="0"/>
          </p:cNvCxnSpPr>
          <p:nvPr/>
        </p:nvCxnSpPr>
        <p:spPr>
          <a:xfrm>
            <a:off x="1174320" y="1915920"/>
            <a:ext cx="1080" cy="33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2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2"/>
            <a:endCxn id="292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=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95" idx="2"/>
            <a:endCxn id="293" idx="0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295" idx="3"/>
            <a:endCxn id="304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トリ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など）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06" idx="2"/>
            <a:endCxn id="317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997360"/>
            <a:ext cx="1584360" cy="50292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変更し、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GUI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再描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7" idx="2"/>
            <a:endCxn id="319" idx="0"/>
          </p:cNvCxnSpPr>
          <p:nvPr/>
        </p:nvCxnSpPr>
        <p:spPr>
          <a:xfrm flipV="1" rot="10800000">
            <a:off x="7163640" y="1915920"/>
            <a:ext cx="1080" cy="40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9" idx="2"/>
            <a:endCxn id="320" idx="0"/>
          </p:cNvCxnSpPr>
          <p:nvPr/>
        </p:nvCxnSpPr>
        <p:spPr>
          <a:xfrm flipV="1" rot="10800000">
            <a:off x="7163640" y="2707560"/>
            <a:ext cx="1080" cy="2894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292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40081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04" idx="2"/>
            <a:endCxn id="324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4" idx="2"/>
            <a:endCxn id="302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297560" y="3573360"/>
            <a:ext cx="48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自動発生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1773360"/>
            <a:ext cx="1008000" cy="1076040"/>
          </a:xfrm>
          <a:prstGeom prst="wedgeRoundRectCallout">
            <a:avLst>
              <a:gd name="adj1" fmla="val -69212"/>
              <a:gd name="adj2" fmla="val 8466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Un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前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Redo 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なら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変更後の値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"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に更新す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DA663-BC5F-47A5-A8C6-7EF31DCD6D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その他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プログラムから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などの値を直接変更する場合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true</a:t>
            </a:r>
            <a:r>
              <a:rPr b="0" lang="ja-JP" sz="3200" spc="-1" strike="noStrike">
                <a:solidFill>
                  <a:srgbClr val="ff5050"/>
                </a:solidFill>
                <a:latin typeface="ＭＳ Ｐゴシック"/>
              </a:rPr>
              <a:t>にして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）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"/>
          <p:cNvSpPr/>
          <p:nvPr/>
        </p:nvSpPr>
        <p:spPr>
          <a:xfrm>
            <a:off x="3898800" y="3292560"/>
            <a:ext cx="134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(auto fi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7CEBD-FAD5-41C3-A547-148D0D2530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T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の連携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F808B-4B80-42AE-96A9-1B93597D9B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StrokeStyle.exe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参照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を参照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よって、両者は同じフォルダに配置されるもの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主な参照クラス：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Global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StrokeStyleT.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スコア 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/ C</a:t>
            </a:r>
            <a:r>
              <a:rPr b="0" lang="ja-JP" sz="2400" spc="-1" strike="noStrike">
                <a:solidFill>
                  <a:srgbClr val="4bd0ff"/>
                </a:solidFill>
                <a:latin typeface="ＭＳ Ｐゴシック"/>
              </a:rPr>
              <a:t>チップ</a:t>
            </a:r>
            <a:endParaRPr b="0" lang="en-US" sz="24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2D5D6-577E-4915-A383-0DD9849DD7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Main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分割パネルコンテ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248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8900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8. 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タブコンテナ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”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7. 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パネル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Fill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6. 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(Dock: “Bottom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276640"/>
            <a:ext cx="3720960" cy="36003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9. 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59640" y="1773360"/>
            <a:ext cx="293760" cy="42987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（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Dock: “Right”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981000"/>
            <a:ext cx="1655640" cy="50184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サイズ固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(FixedPanel: “Panel1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42920" y="1484280"/>
            <a:ext cx="3142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C7906-5A00-42E7-9D3C-EA6FD1C60D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作成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分割パネルコンテナ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に手動で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イベントを追加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。）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ADDC1-ADD4-4B58-B846-9572770242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の構成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(3)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自動発生する可能性のあるイベントのイベントハンドラでは、「初期化が完了するまで無視する」ようコーディングする。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Paint, SizeChanged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などのイベントは、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InitializeComponent()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の中で発生する可能性がある。これはデザイナの仕様上、防ぐことができない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そこで、アプリケーションの初期化が完了したことを示すフラグを設け、それによりイベントハンドラ内で処理をはじくようにする。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サンプル：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private void splitContainer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分割パネルコンテナ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_Panel2_SizeChanged( object sender, EventArgs e 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{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if( !this.b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完了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return;     // </a:t>
            </a:r>
            <a:r>
              <a:rPr b="0" lang="ja-JP" sz="1200" spc="-1" strike="noStrike">
                <a:solidFill>
                  <a:srgbClr val="ff5050"/>
                </a:solidFill>
                <a:latin typeface="ＭＳ ゴシック"/>
                <a:ea typeface="ＭＳ ゴシック"/>
              </a:rPr>
              <a:t>初期化が終わってないのに呼び出されることがあるので、その場合は無視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水平スクロールバーと譜面の左右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this.t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垂直スクロールバーと譜面の上下位置を調整する</a:t>
            </a: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();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ゴシック"/>
                <a:ea typeface="ＭＳ ゴシック"/>
              </a:rPr>
              <a:t>}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536A5-20C0-4A68-9864-DF39139C1E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実行環境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.NET Framework 2.0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以降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Direct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limDX(v1)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各時点で最新のもの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STFEditor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は、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StrokeStyleT.exe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と同じフォルダに配置すること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ファイルの読み書きに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publi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クラス（「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C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スコア」等）を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STFEditor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は、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StrokeStyleT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Viewer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としても使用する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96E65-CB96-4084-B544-0C85317080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イベン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9" name="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9" idx="3"/>
            <a:endCxn id="129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3"/>
            <a:endCxn id="132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4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3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0" idx="3"/>
            <a:endCxn id="134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3"/>
            <a:endCxn id="130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3"/>
            <a:endCxn id="131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3"/>
            <a:endCxn id="135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6" idx="3"/>
            <a:endCxn id="136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0F83E-5A65-4884-BF31-F1F6ACD701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FD7F3-EF17-485B-9B8C-8D96C6F1FA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5" idx="1"/>
          </p:cNvCxnSpPr>
          <p:nvPr/>
        </p:nvCxnSpPr>
        <p:spPr>
          <a:xfrm flipH="1" rot="16200000">
            <a:off x="1678680" y="1571760"/>
            <a:ext cx="1043640" cy="17344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6" name="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58" name=""/>
          <p:cNvSpPr/>
          <p:nvPr/>
        </p:nvSpPr>
        <p:spPr>
          <a:xfrm>
            <a:off x="818280" y="1981080"/>
            <a:ext cx="51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Sco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0" y="270828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スコ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92080" y="26510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StrokeStyle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5" idx="3"/>
            <a:endCxn id="160" idx="1"/>
          </p:cNvCxnSpPr>
          <p:nvPr/>
        </p:nvCxnSpPr>
        <p:spPr>
          <a:xfrm>
            <a:off x="4795920" y="2960280"/>
            <a:ext cx="128952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162" name=""/>
          <p:cNvSpPr/>
          <p:nvPr/>
        </p:nvSpPr>
        <p:spPr>
          <a:xfrm>
            <a:off x="478116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68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9664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72512-C1A5-46A9-B21C-24759B1587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Kenji</cp:lastModifiedBy>
  <dcterms:modified xsi:type="dcterms:W3CDTF">2011-02-19T07:41:01Z</dcterms:modified>
  <cp:revision>163</cp:revision>
  <dc:subject/>
  <dc:title>スライド 1</dc:title>
</cp:coreProperties>
</file>