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333E3-0821-4AC7-B946-EADAD1D9C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A1E18-CA85-4845-9961-2C682994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86225-9EAC-41C1-9A88-5217A1249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F1FE4-92C4-43DE-BC39-904AC9A97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7559-85DB-4C3A-B02E-22ABD37BA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D7B7-524C-4067-B90C-87F60D29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9C40-DC47-46B1-904D-1CE0BE5C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600B-30D9-4002-BA64-CB33EF4D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849D-1E2B-4E4D-8EAE-CC3BA0BB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82CE-960F-4573-8CD1-2FFE58A2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6BD3-E39E-4A94-8BD0-9D95ADAB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FC634-0E59-435C-ACDB-1792EA5C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7EEB-3256-4C22-83C4-86F6E2E5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2B34-A3CD-4E2E-BE13-CDF3EA09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1EA4-3AA9-4396-8060-FF9CE278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5F42-D785-4EF0-8D30-0FF04CCBA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5866-8CA0-4D9E-9164-67BC28576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54D9F-DA33-48D1-9096-E6578633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C5D52-90FE-4E49-A2BF-F98B35AF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615E7-8C57-4A94-BB7A-F4D72D9E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6CE0A-E4DF-41BD-84FE-7010CFD8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20EFB-0481-42E8-A98C-5E61B70E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3611D-43ED-4CE5-A88A-D78B3D25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9DDCF-B50B-4595-BC70-2D1AF73C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5889-B18B-4795-8B85-2DB6AD082ED4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40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9ADF-36E0-4552-8682-E41776C8F123}" type="slidenum">
              <a:rPr b="0" lang="ja-JP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D9034-281A-4EC2-A7B5-1E175B91642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レーン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以下はすべて「右シンバル」レーンに属するものとする（固定）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左シンバル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ライド、ライドカップ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スプラッシュ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チャイナ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973FE-D5DC-42A3-93A8-AD17CE2202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ポジション」と「グリッド」と「ピクセル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ポジション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pos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　　　　　　　 　　　で表す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分母と分子は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C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チップのプロパティとして保有される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小節長倍率によって値は</a:t>
            </a: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しない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grid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スクロールバーの関係上、任意の位置をリニアにカウントできる必要があるため導入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600" spc="-1" strike="noStrike" u="sng">
                <a:solidFill>
                  <a:srgbClr val="4bd0ff"/>
                </a:solidFill>
                <a:uFillTx/>
                <a:latin typeface="ＭＳ Ｐゴシック"/>
              </a:rPr>
              <a:t>譜面内絶対位置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」とは「譜面の先頭からの位置」のことを示す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１小節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6912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グリッドとする。（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小節内解像度）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6912 = 4,8,12,16,24,32,48,64,128,256(Free)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の最小公倍数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リソース名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GRID_PER_PART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で定義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小節長倍率により</a:t>
            </a:r>
            <a:r>
              <a:rPr b="0" lang="ja-JP" sz="1600" spc="-1" strike="noStrike" u="sng">
                <a:solidFill>
                  <a:srgbClr val="4bd0ff"/>
                </a:solidFill>
                <a:uFillTx/>
                <a:latin typeface="ＭＳ Ｐゴシック"/>
              </a:rPr>
              <a:t>値域が変化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する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例： 倍率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1.00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のとき、１小節のグリッド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～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6911</a:t>
            </a:r>
            <a:endParaRPr b="0" lang="en-US" sz="1400" spc="-1" strike="noStrike">
              <a:solidFill>
                <a:srgbClr val="33cc33"/>
              </a:solidFill>
              <a:latin typeface="ＭＳ Ｐゴシック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例： 倍率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.75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のとき、１小節のグリッド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～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5183</a:t>
            </a:r>
            <a:endParaRPr b="0" lang="en-US" sz="14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ピクセル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px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譜面拡大率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x1.0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のとき、１ピクセル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27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グリッドとする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1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小節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= 6912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グリッド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= 256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ピクセル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リソース名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GRID_PER_PIXEL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で定義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059280" y="1197000"/>
            <a:ext cx="1583640" cy="487080"/>
            <a:chOff x="3059280" y="1197000"/>
            <a:chExt cx="1583640" cy="487080"/>
          </a:xfrm>
        </p:grpSpPr>
        <p:sp>
          <p:nvSpPr>
            <p:cNvPr id="170" name=""/>
            <p:cNvSpPr/>
            <p:nvPr/>
          </p:nvSpPr>
          <p:spPr>
            <a:xfrm>
              <a:off x="3059280" y="1197000"/>
              <a:ext cx="1576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n</a:t>
              </a: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小節内位置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n</a:t>
              </a: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小節内解像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77280" y="1461240"/>
              <a:ext cx="156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5AFD8-EA86-4D6F-AA76-6BCC683F6B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3" name="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96640" y="622440"/>
            <a:ext cx="2219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ピクセル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46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ピクセルを単位とするが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662EA-F733-4085-B053-B2D247CCED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9" name="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水平スクロールバ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（青板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2764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354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水平スクロールバ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（赤枠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（</a:t>
            </a: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と同サイズ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0" y="501336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75360" y="2039760"/>
            <a:ext cx="2021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（幅はそうとは限らない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45018-FDF1-49FD-8271-4AC8052FDE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"/>
          <p:cNvSpPr/>
          <p:nvPr/>
        </p:nvSpPr>
        <p:spPr>
          <a:xfrm>
            <a:off x="1801080" y="1052640"/>
            <a:ext cx="3375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左右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つまみ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54931-5CF1-4F36-9220-35AB8799DD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0" name=""/>
          <p:cNvSpPr/>
          <p:nvPr/>
        </p:nvSpPr>
        <p:spPr>
          <a:xfrm>
            <a:off x="3518640" y="760320"/>
            <a:ext cx="456228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FE3E1-5488-48DD-A342-5B2536A517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編集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pace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キーでチップ種類の恒久的変更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hift+Spac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キーで特定のチップ種類にトグル変更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4D783-71DB-48CB-A162-4B54B21AFF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前と移動後でレーンが変わっているときは、チップ種別は移動後のレーンの「最初のチップ種別」になるものとす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90E87-EA49-4466-94C5-EF65F5239A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小節長倍率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ＭＳ Ｐゴシック"/>
              </a:rPr>
              <a:t>小節の追加・挿入時の倍率は、「挿入箇所の直前の小節」と同じ倍率と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小節番号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に挿入する場合は 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1.0 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57389-C9DB-4ECF-82D3-724007E7E4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67472-A78E-4028-94CB-18E2A77174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作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.NET Framework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： “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2.0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プラットフォーム： “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x86”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み（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AnyCPU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削除）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→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WOW64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対応のため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9AC1E-2D28-4D14-9E4B-26C578E9BB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7640" y="691920"/>
            <a:ext cx="366876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管理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リスト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root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 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仮想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トランザクション記録を開始する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トランザクション記録を終了する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セル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Base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　を継承</a:t>
            </a:r>
            <a:endParaRPr b="0" lang="en-US" sz="9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gt; list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リスト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urd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親セル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bjec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bool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irtual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 { }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irtual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 { }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セル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Base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　を継承</a:t>
            </a:r>
            <a:endParaRPr b="0" lang="en-US" sz="9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実行デリゲー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実行デリゲー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254" name=""/>
          <p:cNvSpPr/>
          <p:nvPr/>
        </p:nvSpPr>
        <p:spPr>
          <a:xfrm>
            <a:off x="480708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38720" y="540072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7072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35800" y="540072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967440" y="540072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92680" y="648648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52920" y="648648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62480" y="551664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750720" y="589932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5400000">
            <a:off x="5591520" y="4386960"/>
            <a:ext cx="142560" cy="1741320"/>
          </a:xfrm>
          <a:custGeom>
            <a:avLst/>
            <a:gdLst>
              <a:gd name="textAreaLeft" fmla="*/ 91080 w 142560"/>
              <a:gd name="textAreaRight" fmla="*/ 142920 w 142560"/>
              <a:gd name="textAreaTop" fmla="*/ 45360 h 1741320"/>
              <a:gd name="textAreaBottom" fmla="*/ 1695960 h 174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52760" y="475308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5400000">
            <a:off x="6887160" y="4831200"/>
            <a:ext cx="144360" cy="85104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1040"/>
              <a:gd name="textAreaBottom" fmla="*/ 829080 h 85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74320" y="475308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0236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75160" y="590544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98600" y="3894120"/>
            <a:ext cx="152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4643280" y="5013000"/>
            <a:ext cx="21600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42800" y="4581360"/>
            <a:ext cx="163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継承したインスタン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184464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2997360"/>
            <a:ext cx="16556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ja-JP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32720" y="2997360"/>
            <a:ext cx="16556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532720" y="335772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73" idx="0"/>
            <a:endCxn id="272" idx="2"/>
          </p:cNvCxnSpPr>
          <p:nvPr/>
        </p:nvCxnSpPr>
        <p:spPr>
          <a:xfrm flipH="1" flipV="1" rot="5400000">
            <a:off x="5849640" y="2187000"/>
            <a:ext cx="577080" cy="1043640"/>
          </a:xfrm>
          <a:prstGeom prst="bentConnector3">
            <a:avLst>
              <a:gd name="adj1" fmla="val 50124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77" name=""/>
          <p:cNvCxnSpPr>
            <a:stCxn id="272" idx="2"/>
            <a:endCxn id="274" idx="0"/>
          </p:cNvCxnSpPr>
          <p:nvPr/>
        </p:nvCxnSpPr>
        <p:spPr>
          <a:xfrm flipH="1" rot="16200000">
            <a:off x="6821280" y="2257920"/>
            <a:ext cx="577080" cy="902520"/>
          </a:xfrm>
          <a:prstGeom prst="bentConnector3">
            <a:avLst>
              <a:gd name="adj1" fmla="val 49812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6516720" y="2492280"/>
            <a:ext cx="287280" cy="21600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19640" y="184464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79" idx="3"/>
            <a:endCxn id="272" idx="1"/>
          </p:cNvCxnSpPr>
          <p:nvPr/>
        </p:nvCxnSpPr>
        <p:spPr>
          <a:xfrm>
            <a:off x="5003280" y="213336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5049720" y="175248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02960" y="177156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5975640" y="335340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48600" y="428796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812000" y="2039760"/>
            <a:ext cx="1008000" cy="716040"/>
          </a:xfrm>
          <a:prstGeom prst="wedgeRoundRectCallout">
            <a:avLst>
              <a:gd name="adj1" fmla="val -37402"/>
              <a:gd name="adj2" fmla="val 9767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複数のセルの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を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一括して行いたい場合に使用する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19640" y="765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管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7" name=""/>
          <p:cNvCxnSpPr>
            <a:stCxn id="286" idx="2"/>
            <a:endCxn id="279" idx="0"/>
          </p:cNvCxnSpPr>
          <p:nvPr/>
        </p:nvCxnSpPr>
        <p:spPr>
          <a:xfrm>
            <a:off x="4211280" y="1341360"/>
            <a:ext cx="1080" cy="5040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4204800" y="1295280"/>
            <a:ext cx="29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04800" y="1596960"/>
            <a:ext cx="29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748320" y="1301760"/>
            <a:ext cx="48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ro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F701F-5D75-41DB-AE46-7C53FD9E55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2" name="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4" name=""/>
          <p:cNvCxnSpPr>
            <a:stCxn id="292" idx="2"/>
            <a:endCxn id="295" idx="0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96" name="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更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ID"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テキス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8" name=""/>
          <p:cNvCxnSpPr>
            <a:stCxn id="293" idx="2"/>
            <a:endCxn id="296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93" idx="2"/>
            <a:endCxn id="297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0" name="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3" name=""/>
          <p:cNvCxnSpPr>
            <a:stCxn id="296" idx="2"/>
            <a:endCxn id="304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97" idx="2"/>
            <a:endCxn id="304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8" name=""/>
          <p:cNvCxnSpPr>
            <a:stCxn id="306" idx="2"/>
            <a:endCxn id="307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539640" y="5300640"/>
            <a:ext cx="1270080" cy="57636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ID"=nu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07" idx="2"/>
            <a:endCxn id="309" idx="0"/>
          </p:cNvCxnSpPr>
          <p:nvPr/>
        </p:nvCxnSpPr>
        <p:spPr>
          <a:xfrm>
            <a:off x="1174320" y="1915920"/>
            <a:ext cx="1080" cy="3385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309" idx="2"/>
            <a:endCxn id="302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2" name=""/>
          <p:cNvCxnSpPr>
            <a:stCxn id="306" idx="2"/>
            <a:endCxn id="292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=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>
            <a:stCxn id="295" idx="2"/>
            <a:endCxn id="293" idx="0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295" idx="3"/>
            <a:endCxn id="304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トリ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など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8" name=""/>
          <p:cNvCxnSpPr>
            <a:stCxn id="306" idx="2"/>
            <a:endCxn id="317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9" name="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72360" y="2997360"/>
            <a:ext cx="1584360" cy="50292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変更し、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GUI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再描画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1" name=""/>
          <p:cNvCxnSpPr>
            <a:stCxn id="317" idx="2"/>
            <a:endCxn id="319" idx="0"/>
          </p:cNvCxnSpPr>
          <p:nvPr/>
        </p:nvCxnSpPr>
        <p:spPr>
          <a:xfrm flipV="1" rot="10800000">
            <a:off x="7163640" y="1915920"/>
            <a:ext cx="1080" cy="4006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2" name=""/>
          <p:cNvCxnSpPr>
            <a:stCxn id="319" idx="2"/>
            <a:endCxn id="320" idx="0"/>
          </p:cNvCxnSpPr>
          <p:nvPr/>
        </p:nvCxnSpPr>
        <p:spPr>
          <a:xfrm flipV="1" rot="10800000">
            <a:off x="7163640" y="2707560"/>
            <a:ext cx="1080" cy="2894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3" name=""/>
          <p:cNvCxnSpPr>
            <a:stCxn id="320" idx="2"/>
            <a:endCxn id="292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40081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24" name="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04" idx="2"/>
            <a:endCxn id="324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24" idx="2"/>
            <a:endCxn id="302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297560" y="3573360"/>
            <a:ext cx="48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自動発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028000" y="1773360"/>
            <a:ext cx="1008000" cy="1076040"/>
          </a:xfrm>
          <a:prstGeom prst="wedgeRoundRectCallout">
            <a:avLst>
              <a:gd name="adj1" fmla="val -69212"/>
              <a:gd name="adj2" fmla="val 8466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Undo 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な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変更前の値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Redo 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な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変更後の値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に更新する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8F437-4AF5-4827-8B5C-E211B504FA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その他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プログラムから 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などの値を直接変更する場合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、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true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にして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）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"/>
          <p:cNvSpPr/>
          <p:nvPr/>
        </p:nvSpPr>
        <p:spPr>
          <a:xfrm>
            <a:off x="3898800" y="3292560"/>
            <a:ext cx="134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auto fi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05565-0754-4AF4-9209-829AD4D15B0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StrokeStyleT.exe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の連携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22B12-F719-43B6-88FD-5F66E77EC3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StrokeStyle.exe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参照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STFEditor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trokeStyleT.exe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を参照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よって、両者は同じフォルダに配置されるもの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主な参照クラス：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StrokeStyleT.Global</a:t>
            </a:r>
            <a:endParaRPr b="0" lang="en-US" sz="24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StrokeStyleT.C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スコア 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/ C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チップ</a:t>
            </a:r>
            <a:endParaRPr b="0" lang="en-US" sz="24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734CF-BAA2-4BB0-8EA7-BD631F19005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作成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Main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分割パネルコンテ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248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98900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8. 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タブコンテナ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”Fill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7. 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パネル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 “Fill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6. 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 “Bottom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2276640"/>
            <a:ext cx="3720960" cy="36003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9. 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459640" y="1773360"/>
            <a:ext cx="293760" cy="42987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（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Dock: “Right”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981000"/>
            <a:ext cx="1655640" cy="50184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サイズ固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(FixedPanel: “Panel1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842920" y="1484280"/>
            <a:ext cx="31428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ECE4C-0627-4632-9778-85C0DED938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作成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分割パネルコンテナ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に手動で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イベントを追加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。）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BC4D6-FAC3-4AA2-9D52-07DC1794DD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構成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(3)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自動発生する可能性のあるイベントのイベントハンドラでは、「初期化が完了するまで無視する」ようコーディングする。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Paint, SizeChanged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などのイベントは、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InitializeComponent()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の中で発生する可能性がある。これはデザイナの仕様上、防ぐことができない。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そこで、アプリケーションの初期化が完了したことを示すフラグを設け、それによりイベントハンドラ内で処理をはじくようにする。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サンプル：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private void splitContainer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分割パネルコンテナ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_Panel2_SizeChanged( object sender, EventArgs e )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{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if( !this.b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初期化完了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)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return;     //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初期化が終わってないのに呼び出されることがあるので、その場合は無視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this.t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水平スクロールバーと譜面の左右位置を調整する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();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this.t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垂直スクロールバーと譜面の上下位置を調整する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();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}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D9407-BE33-477C-832A-89F4801232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実行環境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.NET Framework 2.0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以降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Direct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と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limDX(v1)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各時点で最新のもの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STFEditor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、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trokeStyleT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と同じフォルダに配置すること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STFEditor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ファイルの読み書きに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trokeStyleT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public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クラス（「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C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スコア」等）を使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STFEditor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trokeStyleT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Viewer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としても使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2287E-12A4-436B-A154-95C9DFFD9F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イベン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9" name="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9" idx="3"/>
            <a:endCxn id="129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8" idx="3"/>
            <a:endCxn id="132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3"/>
            <a:endCxn id="134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7" idx="3"/>
            <a:endCxn id="133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0" idx="3"/>
            <a:endCxn id="134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6" idx="3"/>
            <a:endCxn id="130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3"/>
            <a:endCxn id="131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3"/>
            <a:endCxn id="135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6" idx="3"/>
            <a:endCxn id="136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42B61-3C4B-4615-94E8-1EC0FE4808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C191D-9709-4ACA-BD69-D77FEF3E41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5" idx="1"/>
          </p:cNvCxnSpPr>
          <p:nvPr/>
        </p:nvCxnSpPr>
        <p:spPr>
          <a:xfrm flipH="1" rot="16200000">
            <a:off x="1678680" y="1571760"/>
            <a:ext cx="1043640" cy="173448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56" name="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58" name=""/>
          <p:cNvSpPr/>
          <p:nvPr/>
        </p:nvSpPr>
        <p:spPr>
          <a:xfrm>
            <a:off x="818280" y="1981080"/>
            <a:ext cx="51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Sco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67200" y="270828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StrokeStyl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スコア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92080" y="26510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847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StrokeStyl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55" idx="3"/>
            <a:endCxn id="160" idx="1"/>
          </p:cNvCxnSpPr>
          <p:nvPr/>
        </p:nvCxnSpPr>
        <p:spPr>
          <a:xfrm>
            <a:off x="4795920" y="2960280"/>
            <a:ext cx="1289520" cy="108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62" name=""/>
          <p:cNvSpPr/>
          <p:nvPr/>
        </p:nvSpPr>
        <p:spPr>
          <a:xfrm>
            <a:off x="478116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168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9664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C3A4E-2B3D-4DFC-85A0-CD78775D16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Kenji</cp:lastModifiedBy>
  <dcterms:modified xsi:type="dcterms:W3CDTF">2011-02-19T07:41:01Z</dcterms:modified>
  <cp:revision>163</cp:revision>
  <dc:subject/>
  <dc:title>スライド 1</dc:title>
</cp:coreProperties>
</file>