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E1E-9867-49C2-A455-784D53F4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A18-96CB-45EC-91E4-4CC35D3B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6A65-CB78-41C8-AA5C-4D0CD71D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707A-25E2-49C9-AE03-220D6505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2504-7B2F-42CD-A7E9-A79B674F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1CBD-93AE-4D07-8C52-300E7E7F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4E8-3EB2-4095-9058-49B1A70A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813-B14F-4D7D-B0D1-1CEE3654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D5B-29CC-4754-A68E-335A9DA5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7B5E-F19B-41A9-80D1-ED9C8C37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BB75-7840-4299-9DFF-9B6A6ADD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F633-47CD-4930-85AC-EAED5ECE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F6AB-0A7C-45A1-9D84-7CC9B7A26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8520" y="665280"/>
            <a:ext cx="8848800" cy="5522040"/>
            <a:chOff x="128520" y="665280"/>
            <a:chExt cx="8848800" cy="5522040"/>
          </a:xfrm>
        </p:grpSpPr>
        <p:sp>
          <p:nvSpPr>
            <p:cNvPr id="42" name=""/>
            <p:cNvSpPr/>
            <p:nvPr/>
          </p:nvSpPr>
          <p:spPr>
            <a:xfrm>
              <a:off x="191880" y="80244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F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9696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機能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5588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7696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ffffcc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テスト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7696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プログラ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1624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9966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84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cc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16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ff3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設計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8424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3366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モックアッ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8932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6699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画面遷移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42" idx="2"/>
              <a:endCxn id="43" idx="1"/>
            </p:cNvCxnSpPr>
            <p:nvPr/>
          </p:nvCxnSpPr>
          <p:spPr>
            <a:xfrm rot="5400000">
              <a:off x="432720" y="1681920"/>
              <a:ext cx="923400" cy="395280"/>
            </a:xfrm>
            <a:prstGeom prst="bentConnector4">
              <a:avLst>
                <a:gd name="adj1" fmla="val 33307"/>
                <a:gd name="adj2" fmla="val 1586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" name=""/>
            <p:cNvCxnSpPr>
              <a:stCxn id="43" idx="3"/>
              <a:endCxn id="44" idx="1"/>
            </p:cNvCxnSpPr>
            <p:nvPr/>
          </p:nvCxnSpPr>
          <p:spPr>
            <a:xfrm>
              <a:off x="2496960" y="2340720"/>
              <a:ext cx="3592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4" idx="3"/>
              <a:endCxn id="47" idx="1"/>
            </p:cNvCxnSpPr>
            <p:nvPr/>
          </p:nvCxnSpPr>
          <p:spPr>
            <a:xfrm>
              <a:off x="465588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47" idx="3"/>
              <a:endCxn id="46" idx="1"/>
            </p:cNvCxnSpPr>
            <p:nvPr/>
          </p:nvCxnSpPr>
          <p:spPr>
            <a:xfrm>
              <a:off x="681660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45" idx="0"/>
              <a:endCxn id="46" idx="2"/>
            </p:cNvCxnSpPr>
            <p:nvPr/>
          </p:nvCxnSpPr>
          <p:spPr>
            <a:xfrm flipV="1">
              <a:off x="8076960" y="2648520"/>
              <a:ext cx="36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48" idx="3"/>
              <a:endCxn id="49" idx="1"/>
            </p:cNvCxnSpPr>
            <p:nvPr/>
          </p:nvCxnSpPr>
          <p:spPr>
            <a:xfrm>
              <a:off x="4584600" y="3708720"/>
              <a:ext cx="43200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43" idx="2"/>
              <a:endCxn id="50" idx="1"/>
            </p:cNvCxnSpPr>
            <p:nvPr/>
          </p:nvCxnSpPr>
          <p:spPr>
            <a:xfrm flipH="1" rot="16200000">
              <a:off x="1044360" y="3201120"/>
              <a:ext cx="2293200" cy="1187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endCxn id="48" idx="1"/>
            </p:cNvCxnSpPr>
            <p:nvPr/>
          </p:nvCxnSpPr>
          <p:spPr>
            <a:xfrm>
              <a:off x="2135520" y="2717640"/>
              <a:ext cx="649080" cy="991440"/>
            </a:xfrm>
            <a:prstGeom prst="bentConnector3">
              <a:avLst>
                <a:gd name="adj1" fmla="val 3213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0" idx="3"/>
              <a:endCxn id="51" idx="1"/>
            </p:cNvCxnSpPr>
            <p:nvPr/>
          </p:nvCxnSpPr>
          <p:spPr>
            <a:xfrm>
              <a:off x="4584600" y="4941360"/>
              <a:ext cx="5050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128520" y="665280"/>
              <a:ext cx="6904080" cy="526896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7880" y="5727600"/>
              <a:ext cx="1224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900"/>
                  </a:solidFill>
                  <a:latin typeface="Arial"/>
                  <a:ea typeface="HG創英角ｺﾞｼｯｸUB"/>
                </a:rPr>
                <a:t>仕様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 flipV="1">
            <a:off x="5940360" y="263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572000" y="2637000"/>
            <a:ext cx="50472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6:48:27Z</dcterms:created>
  <dc:creator>ohtake</dc:creator>
  <dc:description/>
  <dc:language>en-US</dc:language>
  <cp:lastModifiedBy>ymurakami</cp:lastModifiedBy>
  <dcterms:modified xsi:type="dcterms:W3CDTF">2007-07-13T04:42:16Z</dcterms:modified>
  <cp:revision>6</cp:revision>
  <dc:subject/>
  <dc:title>スライド 1</dc:title>
</cp:coreProperties>
</file>