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wmf" ContentType="image/x-wmf"/>
  <Override PartName="/ppt/media/image13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4.gif" ContentType="image/gif"/>
  <Override PartName="/ppt/media/image12.png" ContentType="image/png"/>
  <Override PartName="/ppt/media/image7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7.jpeg" ContentType="image/jpeg"/>
  <Override PartName="/ppt/media/image11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20049-1003-441E-9EDE-151E46EC6B7F}" type="slidenum">
              <a:rPr b="0" lang="ja-JP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・作業領域（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workingcopy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）はユーザに意識させる必要はないはずなので、将来的には削除することも検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・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SAP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環境を個人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で構築することは困難なため、自宅での検証は厳し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・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Twitter, Wassr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は放置状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・勉強会で用いたのは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Redm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・（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AP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にもバージョン管理システムはあるが）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Subversion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を採用した理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　－使い勝手があまりよくない（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差分比較画面でのスクロールに毎回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秒前後かかる　など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　－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AP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へのアクセスに時間がかかる（動作検証時は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0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秒前後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【リリース済】にチェックを入れてチケット更新すると、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SAP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サーバにアクセ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【移送依頼番号】をもとに、今回変更対象のオブジェクトを抽出して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Subversion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にコミット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3. Trac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上のリポジトリブラウザなどで閲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F748-863F-46FB-99DE-842F75971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AEF2-989A-4B1D-80B9-5D99CA74D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42E6-0393-4DBD-97A3-88C76A857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3096-FBC7-476B-8721-DE722960A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7B681-9240-4F55-8007-F94AFC97E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2FA22-1345-4800-AE55-F0CFC9060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A47B7-DE6B-49BD-8F06-A95715060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B8DF9-1714-49E5-B729-361E2CD8A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F0EBB-BB30-4D67-ACF5-DEFFF0ABA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F9ED8-DBF8-45AE-845E-104D5A732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5C496-FB6E-450C-A3B7-C663F4CE0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159E-3921-45AF-872A-0A216FF88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54ACD-2C9B-469A-8F93-196461DFB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94A7A-5835-488D-8B6B-92825A0C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A748D-FA9F-4AAF-8D3D-58B98453C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3EB41-EA35-4865-99D0-AB6D03D67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8B838-4F3E-4E6B-9585-6B3C54F73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B2D1-571C-4A9A-9A52-11863D377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D4FB-392C-48C7-B811-147549466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C72A-D3D3-42F9-A128-7235F6ADD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9E2D-4164-4C8E-B4F8-BD411115F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C2D2-8516-4499-A3D6-8383BFB31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5799-4BF4-4ADB-B85A-A02BFB85D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976A-AA51-4202-BAEB-2C812FA61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42AAD-2371-4296-9443-B8B20F122D47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4E915-EC6E-4131-A3B7-D50C97DCDE19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256500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60066"/>
                </a:solidFill>
                <a:latin typeface="Times New Roman"/>
              </a:rPr>
              <a:t>初めてのプラグイン開発</a:t>
            </a:r>
            <a:br>
              <a:rPr sz="4400"/>
            </a:br>
            <a:r>
              <a:rPr b="0" lang="ja-JP" sz="44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ja-JP" sz="3600" spc="-1" strike="noStrike">
                <a:solidFill>
                  <a:srgbClr val="660066"/>
                </a:solidFill>
                <a:latin typeface="Times New Roman"/>
              </a:rPr>
              <a:t>- SAP</a:t>
            </a:r>
            <a:r>
              <a:rPr b="0" lang="ja-JP" sz="3600" spc="-1" strike="noStrike">
                <a:solidFill>
                  <a:srgbClr val="660066"/>
                </a:solidFill>
                <a:latin typeface="Times New Roman"/>
              </a:rPr>
              <a:t>と</a:t>
            </a:r>
            <a:r>
              <a:rPr b="0" lang="ja-JP" sz="3600" spc="-1" strike="noStrike">
                <a:solidFill>
                  <a:srgbClr val="660066"/>
                </a:solidFill>
                <a:latin typeface="Times New Roman"/>
              </a:rPr>
              <a:t>Trac</a:t>
            </a:r>
            <a:r>
              <a:rPr b="0" lang="ja-JP" sz="3600" spc="-1" strike="noStrike">
                <a:solidFill>
                  <a:srgbClr val="660066"/>
                </a:solidFill>
                <a:latin typeface="Times New Roman"/>
              </a:rPr>
              <a:t>の連携 </a:t>
            </a:r>
            <a:r>
              <a:rPr b="0" lang="ja-JP" sz="3600" spc="-1" strike="noStrike">
                <a:solidFill>
                  <a:srgbClr val="660066"/>
                </a:solidFill>
                <a:latin typeface="Times New Roman"/>
              </a:rPr>
              <a:t>-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1EA38-6E2E-4CFB-8A47-218B8503B53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SAP</a:t>
            </a: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用語の解説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リリース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ubversion</a:t>
            </a: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での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コミット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リリース後は、該当のオブジェクトは変更されない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移送依頼番号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ubversion</a:t>
            </a: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での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リビジョン番号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一つの移送依頼番号に複数のオブジェクトが紐付く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9224-C5B9-4EFC-B5B6-0D90E515E00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rcRect l="0" t="14065" r="7788" b="14065"/>
          <a:stretch/>
        </p:blipFill>
        <p:spPr>
          <a:xfrm>
            <a:off x="762120" y="1523880"/>
            <a:ext cx="7848360" cy="48783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プラグイン設定画面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587840" y="2362320"/>
            <a:ext cx="17762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AP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のログイン情報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057400" y="2514600"/>
            <a:ext cx="6886440" cy="4079880"/>
          </a:xfrm>
          <a:custGeom>
            <a:avLst/>
            <a:gdLst/>
            <a:ahLst/>
            <a:rect l="l" t="t" r="r" b="b"/>
            <a:pathLst>
              <a:path w="4338" h="2570">
                <a:moveTo>
                  <a:pt x="1321" y="0"/>
                </a:moveTo>
                <a:cubicBezTo>
                  <a:pt x="1280" y="6"/>
                  <a:pt x="1239" y="12"/>
                  <a:pt x="1197" y="17"/>
                </a:cubicBezTo>
                <a:cubicBezTo>
                  <a:pt x="1166" y="28"/>
                  <a:pt x="1133" y="30"/>
                  <a:pt x="1101" y="34"/>
                </a:cubicBezTo>
                <a:cubicBezTo>
                  <a:pt x="1028" y="54"/>
                  <a:pt x="939" y="56"/>
                  <a:pt x="864" y="62"/>
                </a:cubicBezTo>
                <a:cubicBezTo>
                  <a:pt x="804" y="83"/>
                  <a:pt x="702" y="77"/>
                  <a:pt x="644" y="79"/>
                </a:cubicBezTo>
                <a:cubicBezTo>
                  <a:pt x="535" y="83"/>
                  <a:pt x="316" y="91"/>
                  <a:pt x="316" y="91"/>
                </a:cubicBezTo>
                <a:cubicBezTo>
                  <a:pt x="270" y="96"/>
                  <a:pt x="226" y="105"/>
                  <a:pt x="181" y="113"/>
                </a:cubicBezTo>
                <a:cubicBezTo>
                  <a:pt x="146" y="138"/>
                  <a:pt x="112" y="148"/>
                  <a:pt x="85" y="187"/>
                </a:cubicBezTo>
                <a:cubicBezTo>
                  <a:pt x="77" y="198"/>
                  <a:pt x="70" y="210"/>
                  <a:pt x="62" y="221"/>
                </a:cubicBezTo>
                <a:cubicBezTo>
                  <a:pt x="58" y="226"/>
                  <a:pt x="51" y="237"/>
                  <a:pt x="51" y="237"/>
                </a:cubicBezTo>
                <a:cubicBezTo>
                  <a:pt x="43" y="269"/>
                  <a:pt x="33" y="301"/>
                  <a:pt x="23" y="333"/>
                </a:cubicBezTo>
                <a:cubicBezTo>
                  <a:pt x="3" y="465"/>
                  <a:pt x="23" y="317"/>
                  <a:pt x="23" y="633"/>
                </a:cubicBezTo>
                <a:cubicBezTo>
                  <a:pt x="23" y="862"/>
                  <a:pt x="16" y="1083"/>
                  <a:pt x="6" y="1310"/>
                </a:cubicBezTo>
                <a:cubicBezTo>
                  <a:pt x="8" y="1475"/>
                  <a:pt x="0" y="1654"/>
                  <a:pt x="40" y="1819"/>
                </a:cubicBezTo>
                <a:cubicBezTo>
                  <a:pt x="53" y="1873"/>
                  <a:pt x="60" y="1928"/>
                  <a:pt x="73" y="1982"/>
                </a:cubicBezTo>
                <a:cubicBezTo>
                  <a:pt x="74" y="1988"/>
                  <a:pt x="77" y="1993"/>
                  <a:pt x="79" y="1999"/>
                </a:cubicBezTo>
                <a:cubicBezTo>
                  <a:pt x="81" y="2007"/>
                  <a:pt x="83" y="2014"/>
                  <a:pt x="85" y="2022"/>
                </a:cubicBezTo>
                <a:cubicBezTo>
                  <a:pt x="89" y="2039"/>
                  <a:pt x="96" y="2073"/>
                  <a:pt x="96" y="2073"/>
                </a:cubicBezTo>
                <a:cubicBezTo>
                  <a:pt x="102" y="2145"/>
                  <a:pt x="109" y="2214"/>
                  <a:pt x="113" y="2287"/>
                </a:cubicBezTo>
                <a:cubicBezTo>
                  <a:pt x="120" y="2401"/>
                  <a:pt x="107" y="2518"/>
                  <a:pt x="248" y="2525"/>
                </a:cubicBezTo>
                <a:cubicBezTo>
                  <a:pt x="305" y="2528"/>
                  <a:pt x="361" y="2528"/>
                  <a:pt x="418" y="2530"/>
                </a:cubicBezTo>
                <a:cubicBezTo>
                  <a:pt x="599" y="2562"/>
                  <a:pt x="894" y="2544"/>
                  <a:pt x="1062" y="2547"/>
                </a:cubicBezTo>
                <a:cubicBezTo>
                  <a:pt x="1081" y="2549"/>
                  <a:pt x="1099" y="2551"/>
                  <a:pt x="1118" y="2553"/>
                </a:cubicBezTo>
                <a:cubicBezTo>
                  <a:pt x="1129" y="2554"/>
                  <a:pt x="1141" y="2557"/>
                  <a:pt x="1152" y="2558"/>
                </a:cubicBezTo>
                <a:cubicBezTo>
                  <a:pt x="1192" y="2562"/>
                  <a:pt x="1271" y="2570"/>
                  <a:pt x="1271" y="2570"/>
                </a:cubicBezTo>
                <a:cubicBezTo>
                  <a:pt x="1324" y="2568"/>
                  <a:pt x="1376" y="2567"/>
                  <a:pt x="1429" y="2564"/>
                </a:cubicBezTo>
                <a:cubicBezTo>
                  <a:pt x="1452" y="2563"/>
                  <a:pt x="1496" y="2547"/>
                  <a:pt x="1496" y="2547"/>
                </a:cubicBezTo>
                <a:cubicBezTo>
                  <a:pt x="1498" y="2541"/>
                  <a:pt x="1500" y="2536"/>
                  <a:pt x="1502" y="2530"/>
                </a:cubicBezTo>
                <a:cubicBezTo>
                  <a:pt x="1505" y="2522"/>
                  <a:pt x="1510" y="2516"/>
                  <a:pt x="1513" y="2508"/>
                </a:cubicBezTo>
                <a:cubicBezTo>
                  <a:pt x="1518" y="2497"/>
                  <a:pt x="1525" y="2474"/>
                  <a:pt x="1525" y="2474"/>
                </a:cubicBezTo>
                <a:cubicBezTo>
                  <a:pt x="1539" y="2382"/>
                  <a:pt x="1537" y="2287"/>
                  <a:pt x="1513" y="2197"/>
                </a:cubicBezTo>
                <a:cubicBezTo>
                  <a:pt x="1514" y="2153"/>
                  <a:pt x="1505" y="2008"/>
                  <a:pt x="1530" y="1932"/>
                </a:cubicBezTo>
                <a:cubicBezTo>
                  <a:pt x="1536" y="1914"/>
                  <a:pt x="1550" y="1878"/>
                  <a:pt x="1570" y="1869"/>
                </a:cubicBezTo>
                <a:cubicBezTo>
                  <a:pt x="1582" y="1863"/>
                  <a:pt x="1596" y="1862"/>
                  <a:pt x="1609" y="1858"/>
                </a:cubicBezTo>
                <a:cubicBezTo>
                  <a:pt x="1615" y="1856"/>
                  <a:pt x="1626" y="1853"/>
                  <a:pt x="1626" y="1853"/>
                </a:cubicBezTo>
                <a:cubicBezTo>
                  <a:pt x="1943" y="1859"/>
                  <a:pt x="2257" y="1871"/>
                  <a:pt x="2575" y="1875"/>
                </a:cubicBezTo>
                <a:cubicBezTo>
                  <a:pt x="2629" y="1878"/>
                  <a:pt x="2689" y="1890"/>
                  <a:pt x="2744" y="1892"/>
                </a:cubicBezTo>
                <a:cubicBezTo>
                  <a:pt x="2895" y="1897"/>
                  <a:pt x="3196" y="1903"/>
                  <a:pt x="3196" y="1903"/>
                </a:cubicBezTo>
                <a:cubicBezTo>
                  <a:pt x="3310" y="1913"/>
                  <a:pt x="3402" y="1917"/>
                  <a:pt x="3524" y="1920"/>
                </a:cubicBezTo>
                <a:cubicBezTo>
                  <a:pt x="3611" y="1935"/>
                  <a:pt x="3701" y="1946"/>
                  <a:pt x="3789" y="1954"/>
                </a:cubicBezTo>
                <a:cubicBezTo>
                  <a:pt x="3838" y="1945"/>
                  <a:pt x="3870" y="1903"/>
                  <a:pt x="3919" y="1898"/>
                </a:cubicBezTo>
                <a:cubicBezTo>
                  <a:pt x="3999" y="1889"/>
                  <a:pt x="4081" y="1885"/>
                  <a:pt x="4162" y="1881"/>
                </a:cubicBezTo>
                <a:cubicBezTo>
                  <a:pt x="4208" y="1876"/>
                  <a:pt x="4211" y="1871"/>
                  <a:pt x="4247" y="1858"/>
                </a:cubicBezTo>
                <a:cubicBezTo>
                  <a:pt x="4282" y="1803"/>
                  <a:pt x="4303" y="1740"/>
                  <a:pt x="4320" y="1677"/>
                </a:cubicBezTo>
                <a:cubicBezTo>
                  <a:pt x="4332" y="1565"/>
                  <a:pt x="4338" y="1451"/>
                  <a:pt x="4314" y="1339"/>
                </a:cubicBezTo>
                <a:cubicBezTo>
                  <a:pt x="4312" y="1224"/>
                  <a:pt x="4312" y="1109"/>
                  <a:pt x="4309" y="994"/>
                </a:cubicBezTo>
                <a:cubicBezTo>
                  <a:pt x="4309" y="988"/>
                  <a:pt x="4304" y="983"/>
                  <a:pt x="4303" y="977"/>
                </a:cubicBezTo>
                <a:cubicBezTo>
                  <a:pt x="4296" y="902"/>
                  <a:pt x="4301" y="813"/>
                  <a:pt x="4258" y="746"/>
                </a:cubicBezTo>
                <a:cubicBezTo>
                  <a:pt x="4242" y="684"/>
                  <a:pt x="4201" y="626"/>
                  <a:pt x="4179" y="565"/>
                </a:cubicBezTo>
                <a:cubicBezTo>
                  <a:pt x="4156" y="504"/>
                  <a:pt x="4156" y="441"/>
                  <a:pt x="4139" y="379"/>
                </a:cubicBezTo>
                <a:cubicBezTo>
                  <a:pt x="4134" y="331"/>
                  <a:pt x="4134" y="273"/>
                  <a:pt x="4105" y="232"/>
                </a:cubicBezTo>
                <a:cubicBezTo>
                  <a:pt x="4104" y="221"/>
                  <a:pt x="4101" y="137"/>
                  <a:pt x="4094" y="113"/>
                </a:cubicBezTo>
                <a:cubicBezTo>
                  <a:pt x="4079" y="61"/>
                  <a:pt x="4007" y="53"/>
                  <a:pt x="3964" y="45"/>
                </a:cubicBezTo>
                <a:cubicBezTo>
                  <a:pt x="3821" y="48"/>
                  <a:pt x="3687" y="53"/>
                  <a:pt x="3546" y="62"/>
                </a:cubicBezTo>
                <a:cubicBezTo>
                  <a:pt x="3424" y="59"/>
                  <a:pt x="3306" y="51"/>
                  <a:pt x="3185" y="45"/>
                </a:cubicBezTo>
                <a:cubicBezTo>
                  <a:pt x="3102" y="30"/>
                  <a:pt x="3027" y="17"/>
                  <a:pt x="2942" y="1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19920" y="914400"/>
            <a:ext cx="2057400" cy="1066680"/>
          </a:xfrm>
          <a:prstGeom prst="wedgeRoundRectCallout">
            <a:avLst>
              <a:gd name="adj1" fmla="val -42361"/>
              <a:gd name="adj2" fmla="val 87351"/>
              <a:gd name="adj3" fmla="val 16667"/>
            </a:avLst>
          </a:prstGeom>
          <a:solidFill>
            <a:srgbClr val="ffffff">
              <a:alpha val="5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P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サーバ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ユーザ名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パスワード　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etc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467240" y="5557680"/>
            <a:ext cx="2516040" cy="1197000"/>
          </a:xfrm>
          <a:custGeom>
            <a:avLst/>
            <a:gdLst/>
            <a:ahLst/>
            <a:rect l="l" t="t" r="r" b="b"/>
            <a:pathLst>
              <a:path w="1585" h="754">
                <a:moveTo>
                  <a:pt x="77" y="0"/>
                </a:moveTo>
                <a:cubicBezTo>
                  <a:pt x="0" y="77"/>
                  <a:pt x="58" y="254"/>
                  <a:pt x="60" y="322"/>
                </a:cubicBezTo>
                <a:cubicBezTo>
                  <a:pt x="64" y="440"/>
                  <a:pt x="113" y="593"/>
                  <a:pt x="235" y="638"/>
                </a:cubicBezTo>
                <a:cubicBezTo>
                  <a:pt x="294" y="659"/>
                  <a:pt x="361" y="663"/>
                  <a:pt x="422" y="667"/>
                </a:cubicBezTo>
                <a:cubicBezTo>
                  <a:pt x="718" y="754"/>
                  <a:pt x="1039" y="674"/>
                  <a:pt x="1348" y="672"/>
                </a:cubicBezTo>
                <a:cubicBezTo>
                  <a:pt x="1400" y="664"/>
                  <a:pt x="1445" y="648"/>
                  <a:pt x="1495" y="633"/>
                </a:cubicBezTo>
                <a:cubicBezTo>
                  <a:pt x="1522" y="614"/>
                  <a:pt x="1552" y="603"/>
                  <a:pt x="1568" y="571"/>
                </a:cubicBezTo>
                <a:cubicBezTo>
                  <a:pt x="1577" y="554"/>
                  <a:pt x="1578" y="532"/>
                  <a:pt x="1585" y="514"/>
                </a:cubicBezTo>
                <a:cubicBezTo>
                  <a:pt x="1583" y="439"/>
                  <a:pt x="1584" y="363"/>
                  <a:pt x="1579" y="288"/>
                </a:cubicBezTo>
                <a:cubicBezTo>
                  <a:pt x="1578" y="265"/>
                  <a:pt x="1568" y="252"/>
                  <a:pt x="1562" y="232"/>
                </a:cubicBezTo>
                <a:cubicBezTo>
                  <a:pt x="1548" y="183"/>
                  <a:pt x="1539" y="108"/>
                  <a:pt x="1483" y="91"/>
                </a:cubicBezTo>
                <a:cubicBezTo>
                  <a:pt x="1434" y="56"/>
                  <a:pt x="1372" y="60"/>
                  <a:pt x="1314" y="57"/>
                </a:cubicBezTo>
                <a:cubicBezTo>
                  <a:pt x="1228" y="42"/>
                  <a:pt x="1269" y="47"/>
                  <a:pt x="1190" y="40"/>
                </a:cubicBezTo>
                <a:cubicBezTo>
                  <a:pt x="1081" y="11"/>
                  <a:pt x="958" y="11"/>
                  <a:pt x="845" y="0"/>
                </a:cubicBezTo>
                <a:cubicBezTo>
                  <a:pt x="654" y="6"/>
                  <a:pt x="144" y="61"/>
                  <a:pt x="77" y="0"/>
                </a:cubicBezTo>
                <a:close/>
              </a:path>
            </a:pathLst>
          </a:custGeom>
          <a:noFill/>
          <a:ln w="284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083360" y="5791320"/>
            <a:ext cx="140004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コミットのための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作業領域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FE46-E4B3-46EA-9DEF-F5ECADE707A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チケット更新時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rcRect l="0" t="21093" r="43303" b="3481"/>
          <a:stretch/>
        </p:blipFill>
        <p:spPr>
          <a:xfrm>
            <a:off x="2057400" y="1836720"/>
            <a:ext cx="4884840" cy="4353120"/>
          </a:xfrm>
          <a:prstGeom prst="rect">
            <a:avLst/>
          </a:prstGeom>
          <a:ln w="28440">
            <a:solidFill>
              <a:srgbClr val="40458c"/>
            </a:solidFill>
            <a:miter/>
          </a:ln>
        </p:spPr>
      </p:pic>
      <p:sp>
        <p:nvSpPr>
          <p:cNvPr id="275" name=""/>
          <p:cNvSpPr/>
          <p:nvPr/>
        </p:nvSpPr>
        <p:spPr>
          <a:xfrm>
            <a:off x="2286000" y="4357800"/>
            <a:ext cx="990720" cy="152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648320" y="4357800"/>
            <a:ext cx="1752480" cy="142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666880" y="5724360"/>
            <a:ext cx="68580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656240" y="4645440"/>
            <a:ext cx="1247400" cy="10087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「リリース済」がチェックされて、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かつ「移送依頼番号」に値がある場合にのみ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プラグイン実行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859920" y="6418440"/>
            <a:ext cx="13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ボタンを押して、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10</a:t>
            </a: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秒くらい待つ・・・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835440" y="1557360"/>
            <a:ext cx="124128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チケット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61F4-1E93-4923-A33A-921F88C8EC3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1"/>
          <a:srcRect l="0" t="13282" r="63864" b="38281"/>
          <a:stretch/>
        </p:blipFill>
        <p:spPr>
          <a:xfrm>
            <a:off x="152280" y="1905120"/>
            <a:ext cx="3492720" cy="3733560"/>
          </a:xfrm>
          <a:prstGeom prst="rect">
            <a:avLst/>
          </a:prstGeom>
          <a:ln w="28440">
            <a:solidFill>
              <a:srgbClr val="40458c"/>
            </a:solidFill>
            <a:miter/>
          </a:ln>
        </p:spPr>
      </p:pic>
      <p:sp>
        <p:nvSpPr>
          <p:cNvPr id="282" name=""/>
          <p:cNvSpPr/>
          <p:nvPr/>
        </p:nvSpPr>
        <p:spPr>
          <a:xfrm>
            <a:off x="709560" y="2851920"/>
            <a:ext cx="2161800" cy="39888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チェンジセットの番号を追記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チケット更新後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182840" y="6402240"/>
            <a:ext cx="6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40458c"/>
                </a:solidFill>
                <a:uFillTx/>
                <a:latin typeface="Times New Roman"/>
              </a:rPr>
              <a:t>※</a:t>
            </a:r>
            <a:r>
              <a:rPr b="0" lang="zh-CN" sz="1800" spc="-1" strike="noStrike" u="sng">
                <a:solidFill>
                  <a:srgbClr val="40458c"/>
                </a:solidFill>
                <a:uFillTx/>
                <a:latin typeface="Times New Roman"/>
              </a:rPr>
              <a:t>：画面はイメージです。実際のものとは異なる可能性があります。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rcRect l="1007" t="23438" r="2512" b="4688"/>
          <a:stretch/>
        </p:blipFill>
        <p:spPr>
          <a:xfrm>
            <a:off x="4114800" y="1425600"/>
            <a:ext cx="4952880" cy="4746600"/>
          </a:xfrm>
          <a:prstGeom prst="rect">
            <a:avLst/>
          </a:prstGeom>
          <a:ln w="28440">
            <a:solidFill>
              <a:srgbClr val="40458c"/>
            </a:solidFill>
            <a:miter/>
          </a:ln>
        </p:spPr>
      </p:pic>
      <p:sp>
        <p:nvSpPr>
          <p:cNvPr id="286" name=""/>
          <p:cNvSpPr/>
          <p:nvPr/>
        </p:nvSpPr>
        <p:spPr>
          <a:xfrm>
            <a:off x="371520" y="2647800"/>
            <a:ext cx="167652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191120" y="2085840"/>
            <a:ext cx="236196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922440" y="1827720"/>
            <a:ext cx="1704600" cy="7038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概要とチケット番号を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コミットログ出力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867280" y="1219320"/>
            <a:ext cx="142560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リポジトリ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295280" y="1676520"/>
            <a:ext cx="124164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チケット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995200" y="4191120"/>
            <a:ext cx="1826640" cy="4597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相互リンクを実現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124080" y="3457440"/>
            <a:ext cx="1824120" cy="733680"/>
          </a:xfrm>
          <a:custGeom>
            <a:avLst/>
            <a:gdLst>
              <a:gd name="textAreaLeft" fmla="*/ 325800 w 1824120"/>
              <a:gd name="textAreaRight" fmla="*/ 1288800 w 182412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721" hR="21600" stAng="10800000" swAng="5400000"/>
                <a:lnTo>
                  <a:pt x="11399" y="0"/>
                </a:lnTo>
                <a:arcTo wR="7721" hR="21600" stAng="-5400000" swAng="2718747"/>
                <a:lnTo>
                  <a:pt x="21158" y="14400"/>
                </a:lnTo>
                <a:lnTo>
                  <a:pt x="17280" y="21600"/>
                </a:lnTo>
                <a:lnTo>
                  <a:pt x="12518" y="14400"/>
                </a:lnTo>
                <a:lnTo>
                  <a:pt x="14999" y="14400"/>
                </a:lnTo>
                <a:arcTo wR="7721" hR="21600" stAng="-2681253" swAng="-2418155"/>
                <a:lnTo>
                  <a:pt x="9560" y="622"/>
                </a:lnTo>
                <a:arcTo wR="7721" hR="21600" stAng="-5700592" swAng="-5099408"/>
                <a:close/>
              </a:path>
              <a:path fill="darkenLess" w="21600" h="21600">
                <a:moveTo>
                  <a:pt x="0" y="21600"/>
                </a:moveTo>
                <a:arcTo wR="7721" hR="21600" stAng="10800000" swAng="5400000"/>
                <a:lnTo>
                  <a:pt x="7721" y="0"/>
                </a:lnTo>
                <a:arcTo wR="7721" hR="21600" stAng="-5400000" swAng="300592"/>
                <a:lnTo>
                  <a:pt x="9560" y="622"/>
                </a:lnTo>
                <a:arcTo wR="7721" hR="21600" stAng="-5700592" swAng="-5099408"/>
                <a:close/>
              </a:path>
            </a:pathLst>
          </a:cu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 flipV="1">
            <a:off x="2971080" y="4600440"/>
            <a:ext cx="1824120" cy="733680"/>
          </a:xfrm>
          <a:custGeom>
            <a:avLst/>
            <a:gdLst>
              <a:gd name="textAreaLeft" fmla="*/ 325800 w 1824120"/>
              <a:gd name="textAreaRight" fmla="*/ 1288800 w 182412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721" hR="21600" stAng="10800000" swAng="5400000"/>
                <a:lnTo>
                  <a:pt x="11399" y="0"/>
                </a:lnTo>
                <a:arcTo wR="7721" hR="21600" stAng="-5400000" swAng="2718747"/>
                <a:lnTo>
                  <a:pt x="21158" y="14400"/>
                </a:lnTo>
                <a:lnTo>
                  <a:pt x="17280" y="21600"/>
                </a:lnTo>
                <a:lnTo>
                  <a:pt x="12518" y="14400"/>
                </a:lnTo>
                <a:lnTo>
                  <a:pt x="14999" y="14400"/>
                </a:lnTo>
                <a:arcTo wR="7721" hR="21600" stAng="-2681253" swAng="-2418155"/>
                <a:lnTo>
                  <a:pt x="9560" y="622"/>
                </a:lnTo>
                <a:arcTo wR="7721" hR="21600" stAng="-5700592" swAng="-5099408"/>
                <a:close/>
              </a:path>
              <a:path fill="darkenLess" w="21600" h="21600">
                <a:moveTo>
                  <a:pt x="0" y="21600"/>
                </a:moveTo>
                <a:arcTo wR="7721" hR="21600" stAng="10800000" swAng="5400000"/>
                <a:lnTo>
                  <a:pt x="7721" y="0"/>
                </a:lnTo>
                <a:arcTo wR="7721" hR="21600" stAng="-5400000" swAng="300592"/>
                <a:lnTo>
                  <a:pt x="9560" y="622"/>
                </a:lnTo>
                <a:arcTo wR="7721" hR="21600" stAng="-5700592" swAng="-5099408"/>
                <a:close/>
              </a:path>
            </a:pathLst>
          </a:cu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B3D8-DAEE-45CD-8EA2-D4DDE98FBEA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苦労した点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Python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初心者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「みんなの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Python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」で基礎固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SAP</a:t>
            </a: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のプログラム制御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初心者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Python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で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SAP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を制御しようという人が少ないので、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Web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上にも情報が少ない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Subversion</a:t>
            </a: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のプログラム制御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初心者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API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のドキュメントが少なく、使いにくい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 ⇒ 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Google Code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のテストケースで使用方法を調査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Trac</a:t>
            </a: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プラグイン作成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初心者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参考：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Shibuya.trac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「プラグインの作り方」</a:t>
            </a:r>
            <a:r>
              <a:rPr b="0" lang="ja-JP" sz="1600" spc="-1" strike="noStrike">
                <a:solidFill>
                  <a:srgbClr val="40458c"/>
                </a:solidFill>
                <a:latin typeface="Times New Roman"/>
              </a:rPr>
              <a:t>(</a:t>
            </a:r>
            <a:r>
              <a:rPr b="0" lang="ja-JP" sz="1600" spc="-1" strike="noStrike" u="sng">
                <a:solidFill>
                  <a:srgbClr val="40458c"/>
                </a:solidFill>
                <a:uFillTx/>
                <a:latin typeface="Times New Roman"/>
              </a:rPr>
              <a:t>http://sourceforge.jp/projects/shibuya-trac/wiki/trac%2Fplugindev</a:t>
            </a:r>
            <a:r>
              <a:rPr b="0" lang="ja-JP" sz="1600" spc="-1" strike="noStrike">
                <a:solidFill>
                  <a:srgbClr val="40458c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5"/>
          <a:stretch/>
        </p:blipFill>
        <p:spPr>
          <a:xfrm>
            <a:off x="6248520" y="1143000"/>
            <a:ext cx="1409760" cy="140976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6527880" y="2514600"/>
            <a:ext cx="84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58c"/>
                </a:solidFill>
                <a:latin typeface="Times New Roman"/>
              </a:rPr>
              <a:t>柴田淳氏 著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AB54-FCB2-47FD-B953-F757E0D9B2A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今後の課題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38080" y="30481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プラグインの洗練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バージョン管理対象オブジェクトの対応増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画面制御・レイアウトコード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データベーススキーマ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例外処理の追加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様々な環境での動作検証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380680" y="1936800"/>
            <a:ext cx="4447800" cy="703440"/>
          </a:xfrm>
          <a:prstGeom prst="rect">
            <a:avLst/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458c"/>
                </a:solidFill>
                <a:latin typeface="Times New Roman"/>
              </a:rPr>
              <a:t>現状は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コンセプトの検証</a:t>
            </a:r>
            <a:r>
              <a:rPr b="0" lang="zh-CN" sz="4000" spc="-1" strike="noStrike">
                <a:solidFill>
                  <a:srgbClr val="40458c"/>
                </a:solidFill>
                <a:latin typeface="Times New Roman"/>
              </a:rPr>
              <a:t>レベル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AF3E-14CA-4709-8395-FBB901214DE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660066"/>
                </a:solidFill>
                <a:latin typeface="Times New Roman"/>
              </a:rPr>
              <a:t>そして何より・・・</a:t>
            </a:r>
            <a:endParaRPr b="0" lang="en-US" sz="7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AB98D-A110-4BE8-A160-C10F12C5C33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28240" y="2209320"/>
            <a:ext cx="88390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660066"/>
                </a:solidFill>
                <a:latin typeface="Times New Roman"/>
              </a:rPr>
              <a:t>Trac &amp; </a:t>
            </a:r>
            <a:r>
              <a:rPr b="0" lang="ja-JP" sz="7200" spc="-1" strike="noStrike">
                <a:solidFill>
                  <a:srgbClr val="660066"/>
                </a:solidFill>
                <a:latin typeface="Times New Roman"/>
              </a:rPr>
              <a:t>自作プラグインを導入する！</a:t>
            </a:r>
            <a:endParaRPr b="0" lang="en-US" sz="7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0BCB9-6E04-4894-84DD-C7805CE72A4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今後の課題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セキュリティに関しても条件厳しい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使ってもらってこその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Trac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実際に使わないと便利さが分からない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使うにつれてプラグインの改善点も見えてくる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0000"/>
                </a:solidFill>
                <a:latin typeface="Times New Roman"/>
              </a:rPr>
              <a:t>使ってもらいたいけど、使うに使えない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0000"/>
                </a:solidFill>
                <a:latin typeface="Times New Roman"/>
              </a:rPr>
              <a:t>堂々巡り状態・・・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FFC9-B983-4EEA-8AD2-08F34160A5E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28240" y="2209320"/>
            <a:ext cx="88390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660066"/>
                </a:solidFill>
                <a:latin typeface="Times New Roman"/>
              </a:rPr>
              <a:t>うまく導入する方法を</a:t>
            </a:r>
            <a:br>
              <a:rPr sz="6600"/>
            </a:br>
            <a:r>
              <a:rPr b="0" lang="zh-CN" sz="6600" spc="-1" strike="noStrike">
                <a:solidFill>
                  <a:srgbClr val="660066"/>
                </a:solidFill>
                <a:latin typeface="Times New Roman"/>
              </a:rPr>
              <a:t>アドバイス下さい＞＜</a:t>
            </a:r>
            <a:endParaRPr b="0" lang="en-US" sz="6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76ADE-ED96-4D84-90F7-F2A748E9D1C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今の心境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こういった場での発表は、初めてできんちょーしてます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5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分どころか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10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分以上かかりそうなので、今回どら娘がこなくてほっとしてます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CFD0-E1CE-42FE-AFE6-9020D5A24AF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アジェンダ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自己紹介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プラグイン作成の背景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プラグインの概要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今後の課題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E2EE-BCE2-40A7-B002-12E0CACB4F4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自己紹介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rcRect l="4256" t="10672" r="6384" b="23168"/>
          <a:stretch/>
        </p:blipFill>
        <p:spPr>
          <a:xfrm>
            <a:off x="3657600" y="111240"/>
            <a:ext cx="5029200" cy="296856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2590920"/>
            <a:ext cx="7772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id:ikikko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はてな（ブログ：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Talking Nonstop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Gmail, Twitter, Wassr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某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SIer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所属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客先常駐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商社向けのシステム開発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SAP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のアドオン（プラグイン）開発を担当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3" name="" descr="ikikko"/>
          <p:cNvPicPr/>
          <p:nvPr/>
        </p:nvPicPr>
        <p:blipFill>
          <a:blip r:embed="rId4"/>
          <a:stretch/>
        </p:blipFill>
        <p:spPr>
          <a:xfrm>
            <a:off x="3048120" y="25909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EA8D-46AE-4D4B-9373-5CE37682CA2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背景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「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xcel</a:t>
            </a: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＋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メール</a:t>
            </a: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」での管理にうんざり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管理用の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Excel</a:t>
            </a: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ファイルが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5~6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同じ内容を別々のファイルに転記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ファイルを複数立ち上げて作業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離れた拠点の連絡は、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E</a:t>
            </a: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メールで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Excel</a:t>
            </a: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を送付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手動でメール送信が無駄な労力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どこに最新のファイルがあるのかも不明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31A8-6CA3-4DD8-8B0A-D82899D9E31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105520" y="3429000"/>
            <a:ext cx="2411280" cy="204804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1219320" y="3276720"/>
            <a:ext cx="2274840" cy="230976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勉強会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2362320"/>
            <a:ext cx="1973520" cy="892080"/>
          </a:xfrm>
          <a:prstGeom prst="wedgeEllipseCallout">
            <a:avLst>
              <a:gd name="adj1" fmla="val 36402"/>
              <a:gd name="adj2" fmla="val 70995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便利そうだけど、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セキュリティは？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33520" y="5638680"/>
            <a:ext cx="1931760" cy="1071720"/>
          </a:xfrm>
          <a:prstGeom prst="wedgeEllipseCallout">
            <a:avLst>
              <a:gd name="adj1" fmla="val 30935"/>
              <a:gd name="adj2" fmla="val -68074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Times New Roman"/>
              </a:rPr>
              <a:t>SAP</a:t>
            </a:r>
            <a:r>
              <a:rPr b="0" lang="zh-CN" sz="1800" spc="-1" strike="noStrike">
                <a:solidFill>
                  <a:srgbClr val="660066"/>
                </a:solidFill>
                <a:latin typeface="Times New Roman"/>
              </a:rPr>
              <a:t>上の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</a:rPr>
              <a:t>ソースコードと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</a:rPr>
              <a:t>連携できる？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34120" y="2209680"/>
            <a:ext cx="2768400" cy="1182960"/>
          </a:xfrm>
          <a:prstGeom prst="wedgeEllipseCallout">
            <a:avLst>
              <a:gd name="adj1" fmla="val 6652"/>
              <a:gd name="adj2" fmla="val 65569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SSL</a:t>
            </a: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通信や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ユーザ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ID</a:t>
            </a: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による制御など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一通りのことはできます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181480" y="5562720"/>
            <a:ext cx="3346560" cy="1195200"/>
          </a:xfrm>
          <a:prstGeom prst="wedgeEllipseCallout">
            <a:avLst>
              <a:gd name="adj1" fmla="val -6166"/>
              <a:gd name="adj2" fmla="val -70583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</a:rPr>
              <a:t>中をいじってやれば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</a:rPr>
              <a:t>できると思いますが、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</a:rPr>
              <a:t>標準機能にはないみたいです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50040" y="1600200"/>
            <a:ext cx="546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ITS</a:t>
            </a: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で解決できるということを啓蒙するために勉強会を開催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56CE-DB57-4BD0-98E1-FA53D3A8609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勉強会を終えた後の感想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68360" y="1773360"/>
            <a:ext cx="4319640" cy="1224000"/>
          </a:xfrm>
          <a:prstGeom prst="cloudCallout">
            <a:avLst>
              <a:gd name="adj1" fmla="val 28796"/>
              <a:gd name="adj2" fmla="val 99675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ソースコードのバージョン管理と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連携不可なのは不便だよな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156360" y="1700280"/>
            <a:ext cx="2087640" cy="1387440"/>
          </a:xfrm>
          <a:prstGeom prst="cloudCallout">
            <a:avLst>
              <a:gd name="adj1" fmla="val -70152"/>
              <a:gd name="adj2" fmla="val 89930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無いならば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作ってしまえ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プラグイン！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3564000" y="3500280"/>
            <a:ext cx="2520720" cy="251640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4716360" y="2924280"/>
            <a:ext cx="376200" cy="601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C5B0-138C-4004-BA92-9782F0178A6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5345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プラグインの概要 </a:t>
            </a: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- Sap2SvnPlugin -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チケット更新時に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SAP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にアクセスして情報を取得、その内容を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Subversion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にコミット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SAP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へのアクセス：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ActiveX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を利用した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RFC(Remote Function Call)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を利用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Subversion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へのコミット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Trac</a:t>
            </a: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付属のモジュール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を利用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FE24-7846-437D-8F16-5234713E82C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838080" y="1573200"/>
            <a:ext cx="7669440" cy="2549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1046160" y="1908000"/>
            <a:ext cx="3454560" cy="1919520"/>
            <a:chOff x="1046160" y="1908000"/>
            <a:chExt cx="3454560" cy="1919520"/>
          </a:xfrm>
        </p:grpSpPr>
        <p:pic>
          <p:nvPicPr>
            <p:cNvPr id="243" name="" descr=""/>
            <p:cNvPicPr/>
            <p:nvPr/>
          </p:nvPicPr>
          <p:blipFill>
            <a:blip r:embed="rId1"/>
            <a:srcRect l="624" t="21093" r="37072" b="31253"/>
            <a:stretch/>
          </p:blipFill>
          <p:spPr>
            <a:xfrm>
              <a:off x="1046160" y="1908000"/>
              <a:ext cx="3454560" cy="1919520"/>
            </a:xfrm>
            <a:prstGeom prst="rect">
              <a:avLst/>
            </a:prstGeom>
            <a:ln w="19080">
              <a:solidFill>
                <a:srgbClr val="40458c"/>
              </a:solidFill>
              <a:miter/>
            </a:ln>
          </p:spPr>
        </p:pic>
        <p:sp>
          <p:nvSpPr>
            <p:cNvPr id="244" name=""/>
            <p:cNvSpPr/>
            <p:nvPr/>
          </p:nvSpPr>
          <p:spPr>
            <a:xfrm>
              <a:off x="2975040" y="3533760"/>
              <a:ext cx="1208880" cy="1047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391400" y="3638520"/>
              <a:ext cx="518040" cy="1047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4222800" y="1371600"/>
            <a:ext cx="96840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Trac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87960" y="4960800"/>
            <a:ext cx="2003400" cy="174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96040" y="4759200"/>
            <a:ext cx="165744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ubversio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6710400" y="5295960"/>
            <a:ext cx="911160" cy="122724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1046160" y="4960800"/>
            <a:ext cx="1587600" cy="174492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1744920"/>
              <a:gd name="textAreaBottom" fmla="*/ 1667520 h 1744920"/>
            </a:gdLst>
            <a:ahLst/>
            <a:rect l="textAreaLeft" t="textAreaTop" r="textAreaRight" b="textAreaBottom"/>
            <a:pathLst>
              <a:path w="21600" h="23740">
                <a:moveTo>
                  <a:pt x="3600" y="0"/>
                </a:moveTo>
                <a:arcTo wR="3600" hR="3600" stAng="16200000" swAng="-5400000"/>
                <a:lnTo>
                  <a:pt x="0" y="20140"/>
                </a:lnTo>
                <a:arcTo wR="3600" hR="3600" stAng="10800000" swAng="-5400000"/>
                <a:lnTo>
                  <a:pt x="18000" y="237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322280" y="4759200"/>
            <a:ext cx="96696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A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1390680" y="5262480"/>
            <a:ext cx="906480" cy="12859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4"/>
          <a:srcRect l="624" t="16405" r="312" b="7811"/>
          <a:stretch/>
        </p:blipFill>
        <p:spPr>
          <a:xfrm>
            <a:off x="4983120" y="1908000"/>
            <a:ext cx="3247920" cy="1925640"/>
          </a:xfrm>
          <a:prstGeom prst="rect">
            <a:avLst/>
          </a:prstGeom>
          <a:ln w="19080">
            <a:solidFill>
              <a:srgbClr val="40458c"/>
            </a:solidFill>
            <a:miter/>
          </a:ln>
        </p:spPr>
      </p:pic>
      <p:cxnSp>
        <p:nvCxnSpPr>
          <p:cNvPr id="254" name=""/>
          <p:cNvCxnSpPr>
            <a:stCxn id="245" idx="1"/>
            <a:endCxn id="252" idx="1"/>
          </p:cNvCxnSpPr>
          <p:nvPr/>
        </p:nvCxnSpPr>
        <p:spPr>
          <a:xfrm flipH="1" flipV="1" rot="10800000">
            <a:off x="1382400" y="3691440"/>
            <a:ext cx="8640" cy="2213640"/>
          </a:xfrm>
          <a:prstGeom prst="curvedConnector5">
            <a:avLst>
              <a:gd name="adj1" fmla="val -2300000"/>
              <a:gd name="adj2" fmla="val 50000"/>
              <a:gd name="adj3" fmla="val -2300000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stCxn id="252" idx="3"/>
            <a:endCxn id="249" idx="1"/>
          </p:cNvCxnSpPr>
          <p:nvPr/>
        </p:nvCxnSpPr>
        <p:spPr>
          <a:xfrm>
            <a:off x="2296800" y="5905080"/>
            <a:ext cx="4413600" cy="54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56" name=""/>
          <p:cNvCxnSpPr>
            <a:stCxn id="249" idx="3"/>
            <a:endCxn id="253" idx="3"/>
          </p:cNvCxnSpPr>
          <p:nvPr/>
        </p:nvCxnSpPr>
        <p:spPr>
          <a:xfrm flipV="1">
            <a:off x="7621200" y="2871360"/>
            <a:ext cx="618120" cy="3039120"/>
          </a:xfrm>
          <a:prstGeom prst="curvedConnector5">
            <a:avLst>
              <a:gd name="adj1" fmla="val 132109"/>
              <a:gd name="adj2" fmla="val 49994"/>
              <a:gd name="adj3" fmla="val 132109"/>
            </a:avLst>
          </a:prstGeom>
          <a:ln w="1908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イメージ図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6000" y="4175280"/>
            <a:ext cx="123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①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：アクセス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81880" y="5546880"/>
            <a:ext cx="7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②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：オブジェクト抽出・コミット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381440" y="4267080"/>
            <a:ext cx="92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③</a:t>
            </a: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：閲覧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867280" y="1654200"/>
            <a:ext cx="142560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リポジトリ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048120" y="1981080"/>
            <a:ext cx="2361960" cy="1067040"/>
          </a:xfrm>
          <a:prstGeom prst="wedgeRoundRectCallout">
            <a:avLst>
              <a:gd name="adj1" fmla="val -48791"/>
              <a:gd name="adj2" fmla="val 83185"/>
              <a:gd name="adj3" fmla="val 16667"/>
            </a:avLst>
          </a:prstGeom>
          <a:solidFill>
            <a:srgbClr val="ffffff">
              <a:alpha val="8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カスタムフィールド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リリース済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移送依頼番号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035080" y="1676520"/>
            <a:ext cx="124164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チケット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D768-68C0-4A64-BD15-59AD8A5AE2A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8T15:26:13Z</dcterms:created>
  <dc:creator>ikikko-t</dc:creator>
  <dc:description/>
  <dc:language>en-US</dc:language>
  <cp:lastModifiedBy>日立ソフト</cp:lastModifiedBy>
  <dcterms:modified xsi:type="dcterms:W3CDTF">2009-01-24T07:10:57Z</dcterms:modified>
  <cp:revision>237</cp:revision>
  <dc:subject/>
  <dc:title>初めてのプラグイン開発</dc:title>
</cp:coreProperties>
</file>