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gif" ContentType="image/gif"/>
  <Override PartName="/ppt/media/image12.png" ContentType="image/png"/>
  <Override PartName="/ppt/media/image7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7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0183-3076-44F5-A8A3-913E1F833C48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作業領域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orkingcop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はユーザに意識させる必要はないはずなので、将来的には削除することも検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環境を個人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構築することは困難なため、自宅での検証は厳し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witter, Wass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放置状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勉強会で用いたの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・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バージョン管理システムはあるが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採用した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使い勝手があまりよくない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差分比較画面でのスクロールに毎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秒前後かかる　など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へのアクセスに時間がかかる（動作検証時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秒前後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リリース済】にチェックを入れてチケット更新すると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ーバに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移送依頼番号】をもとに、今回変更対象のオブジェクトを抽出し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コミ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 Tra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のリポジトリブラウザなどで閲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858-35EF-4E83-A293-B0B0C0E1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C64F-D7DF-405E-9AC3-EE84E581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6FF-D64B-43C5-9D1E-8F67D42C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1BCA-0C27-4E41-9585-6F1616E3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8BD4-051B-4D68-B8BB-EC48CFB8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3F54-4732-4E66-A182-A9408D22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8C68-1D72-4919-B7D6-392F960A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A603-766A-47E5-854E-3C042E78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4201-F3CE-4DA1-8235-D9E0302F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B7A1-599E-428C-8E82-1FD9589A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BA4A-D27B-49ED-BE2E-F0FF35AC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418-812D-4C16-90BE-DCA64501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F374-BF23-42CE-B710-B6FE3A19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5DFE-775E-4394-9B15-ECF7A14A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E066-46E4-465E-A4F9-FA1C1CBB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E210-3DC0-4A6D-A60D-2B1C1939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ABE7-1A8C-4953-B227-3DA47092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B6B-8EDF-4024-A11B-40333C33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FD13-48C9-4D2C-B243-A813E670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1F3-035B-434E-932B-E8A88054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FBE-3C81-4248-92AE-4C61B3FC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20D-C7E4-4C8B-8311-7A60DDD1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EB8-E8E2-461A-B1C3-20067BE1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77C-63C1-49A9-976C-35D7DD9E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BE09-A3FF-4F73-80B2-17CDF6DDF1F2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A652-9EC5-4406-A8EE-69B57CD2C8D6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565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初めてのプラグイン開発</a:t>
            </a:r>
            <a:br>
              <a:rPr sz="4400"/>
            </a:b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 SAP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と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Trac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の連携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A694-DEAE-45F0-8A8C-21852B2E35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用語の解説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リリー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コミッ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リリース後は、該当のオブジェクトは変更され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移送依頼番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リビジョン番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一つの移送依頼番号に複数のオブジェクトが紐付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592-3A6C-4E56-B3B7-955FD1641B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14065" r="7788" b="14065"/>
          <a:stretch/>
        </p:blipFill>
        <p:spPr>
          <a:xfrm>
            <a:off x="762120" y="152388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設定画面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7840" y="2362320"/>
            <a:ext cx="177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のログイン情報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14600"/>
            <a:ext cx="6886440" cy="4079880"/>
          </a:xfrm>
          <a:custGeom>
            <a:avLst/>
            <a:gdLst/>
            <a:ahLst/>
            <a:rect l="l" t="t" r="r" b="b"/>
            <a:pathLst>
              <a:path w="4338" h="2570">
                <a:moveTo>
                  <a:pt x="1321" y="0"/>
                </a:moveTo>
                <a:cubicBezTo>
                  <a:pt x="1280" y="6"/>
                  <a:pt x="1239" y="12"/>
                  <a:pt x="1197" y="17"/>
                </a:cubicBezTo>
                <a:cubicBezTo>
                  <a:pt x="1166" y="28"/>
                  <a:pt x="1133" y="30"/>
                  <a:pt x="1101" y="34"/>
                </a:cubicBezTo>
                <a:cubicBezTo>
                  <a:pt x="1028" y="54"/>
                  <a:pt x="939" y="56"/>
                  <a:pt x="864" y="62"/>
                </a:cubicBezTo>
                <a:cubicBezTo>
                  <a:pt x="804" y="83"/>
                  <a:pt x="702" y="77"/>
                  <a:pt x="644" y="79"/>
                </a:cubicBezTo>
                <a:cubicBezTo>
                  <a:pt x="535" y="83"/>
                  <a:pt x="316" y="91"/>
                  <a:pt x="316" y="91"/>
                </a:cubicBezTo>
                <a:cubicBezTo>
                  <a:pt x="270" y="96"/>
                  <a:pt x="226" y="105"/>
                  <a:pt x="181" y="113"/>
                </a:cubicBezTo>
                <a:cubicBezTo>
                  <a:pt x="146" y="138"/>
                  <a:pt x="112" y="148"/>
                  <a:pt x="85" y="187"/>
                </a:cubicBezTo>
                <a:cubicBezTo>
                  <a:pt x="77" y="198"/>
                  <a:pt x="70" y="210"/>
                  <a:pt x="62" y="221"/>
                </a:cubicBezTo>
                <a:cubicBezTo>
                  <a:pt x="58" y="226"/>
                  <a:pt x="51" y="237"/>
                  <a:pt x="51" y="237"/>
                </a:cubicBezTo>
                <a:cubicBezTo>
                  <a:pt x="43" y="269"/>
                  <a:pt x="33" y="301"/>
                  <a:pt x="23" y="333"/>
                </a:cubicBezTo>
                <a:cubicBezTo>
                  <a:pt x="3" y="465"/>
                  <a:pt x="23" y="317"/>
                  <a:pt x="23" y="633"/>
                </a:cubicBezTo>
                <a:cubicBezTo>
                  <a:pt x="23" y="862"/>
                  <a:pt x="16" y="1083"/>
                  <a:pt x="6" y="1310"/>
                </a:cubicBezTo>
                <a:cubicBezTo>
                  <a:pt x="8" y="1475"/>
                  <a:pt x="0" y="1654"/>
                  <a:pt x="40" y="1819"/>
                </a:cubicBezTo>
                <a:cubicBezTo>
                  <a:pt x="53" y="1873"/>
                  <a:pt x="60" y="1928"/>
                  <a:pt x="73" y="1982"/>
                </a:cubicBezTo>
                <a:cubicBezTo>
                  <a:pt x="74" y="1988"/>
                  <a:pt x="77" y="1993"/>
                  <a:pt x="79" y="1999"/>
                </a:cubicBezTo>
                <a:cubicBezTo>
                  <a:pt x="81" y="2007"/>
                  <a:pt x="83" y="2014"/>
                  <a:pt x="85" y="2022"/>
                </a:cubicBezTo>
                <a:cubicBezTo>
                  <a:pt x="89" y="2039"/>
                  <a:pt x="96" y="2073"/>
                  <a:pt x="96" y="2073"/>
                </a:cubicBezTo>
                <a:cubicBezTo>
                  <a:pt x="102" y="2145"/>
                  <a:pt x="109" y="2214"/>
                  <a:pt x="113" y="2287"/>
                </a:cubicBezTo>
                <a:cubicBezTo>
                  <a:pt x="120" y="2401"/>
                  <a:pt x="107" y="2518"/>
                  <a:pt x="248" y="2525"/>
                </a:cubicBezTo>
                <a:cubicBezTo>
                  <a:pt x="305" y="2528"/>
                  <a:pt x="361" y="2528"/>
                  <a:pt x="418" y="2530"/>
                </a:cubicBezTo>
                <a:cubicBezTo>
                  <a:pt x="599" y="2562"/>
                  <a:pt x="894" y="2544"/>
                  <a:pt x="1062" y="2547"/>
                </a:cubicBezTo>
                <a:cubicBezTo>
                  <a:pt x="1081" y="2549"/>
                  <a:pt x="1099" y="2551"/>
                  <a:pt x="1118" y="2553"/>
                </a:cubicBezTo>
                <a:cubicBezTo>
                  <a:pt x="1129" y="2554"/>
                  <a:pt x="1141" y="2557"/>
                  <a:pt x="1152" y="2558"/>
                </a:cubicBezTo>
                <a:cubicBezTo>
                  <a:pt x="1192" y="2562"/>
                  <a:pt x="1271" y="2570"/>
                  <a:pt x="1271" y="2570"/>
                </a:cubicBezTo>
                <a:cubicBezTo>
                  <a:pt x="1324" y="2568"/>
                  <a:pt x="1376" y="2567"/>
                  <a:pt x="1429" y="2564"/>
                </a:cubicBezTo>
                <a:cubicBezTo>
                  <a:pt x="1452" y="2563"/>
                  <a:pt x="1496" y="2547"/>
                  <a:pt x="1496" y="2547"/>
                </a:cubicBezTo>
                <a:cubicBezTo>
                  <a:pt x="1498" y="2541"/>
                  <a:pt x="1500" y="2536"/>
                  <a:pt x="1502" y="2530"/>
                </a:cubicBezTo>
                <a:cubicBezTo>
                  <a:pt x="1505" y="2522"/>
                  <a:pt x="1510" y="2516"/>
                  <a:pt x="1513" y="2508"/>
                </a:cubicBezTo>
                <a:cubicBezTo>
                  <a:pt x="1518" y="2497"/>
                  <a:pt x="1525" y="2474"/>
                  <a:pt x="1525" y="2474"/>
                </a:cubicBezTo>
                <a:cubicBezTo>
                  <a:pt x="1539" y="2382"/>
                  <a:pt x="1537" y="2287"/>
                  <a:pt x="1513" y="2197"/>
                </a:cubicBezTo>
                <a:cubicBezTo>
                  <a:pt x="1514" y="2153"/>
                  <a:pt x="1505" y="2008"/>
                  <a:pt x="1530" y="1932"/>
                </a:cubicBezTo>
                <a:cubicBezTo>
                  <a:pt x="1536" y="1914"/>
                  <a:pt x="1550" y="1878"/>
                  <a:pt x="1570" y="1869"/>
                </a:cubicBezTo>
                <a:cubicBezTo>
                  <a:pt x="1582" y="1863"/>
                  <a:pt x="1596" y="1862"/>
                  <a:pt x="1609" y="1858"/>
                </a:cubicBezTo>
                <a:cubicBezTo>
                  <a:pt x="1615" y="1856"/>
                  <a:pt x="1626" y="1853"/>
                  <a:pt x="1626" y="1853"/>
                </a:cubicBezTo>
                <a:cubicBezTo>
                  <a:pt x="1943" y="1859"/>
                  <a:pt x="2257" y="1871"/>
                  <a:pt x="2575" y="1875"/>
                </a:cubicBezTo>
                <a:cubicBezTo>
                  <a:pt x="2629" y="1878"/>
                  <a:pt x="2689" y="1890"/>
                  <a:pt x="2744" y="1892"/>
                </a:cubicBezTo>
                <a:cubicBezTo>
                  <a:pt x="2895" y="1897"/>
                  <a:pt x="3196" y="1903"/>
                  <a:pt x="3196" y="1903"/>
                </a:cubicBezTo>
                <a:cubicBezTo>
                  <a:pt x="3310" y="1913"/>
                  <a:pt x="3402" y="1917"/>
                  <a:pt x="3524" y="1920"/>
                </a:cubicBezTo>
                <a:cubicBezTo>
                  <a:pt x="3611" y="1935"/>
                  <a:pt x="3701" y="1946"/>
                  <a:pt x="3789" y="1954"/>
                </a:cubicBezTo>
                <a:cubicBezTo>
                  <a:pt x="3838" y="1945"/>
                  <a:pt x="3870" y="1903"/>
                  <a:pt x="3919" y="1898"/>
                </a:cubicBezTo>
                <a:cubicBezTo>
                  <a:pt x="3999" y="1889"/>
                  <a:pt x="4081" y="1885"/>
                  <a:pt x="4162" y="1881"/>
                </a:cubicBezTo>
                <a:cubicBezTo>
                  <a:pt x="4208" y="1876"/>
                  <a:pt x="4211" y="1871"/>
                  <a:pt x="4247" y="1858"/>
                </a:cubicBezTo>
                <a:cubicBezTo>
                  <a:pt x="4282" y="1803"/>
                  <a:pt x="4303" y="1740"/>
                  <a:pt x="4320" y="1677"/>
                </a:cubicBezTo>
                <a:cubicBezTo>
                  <a:pt x="4332" y="1565"/>
                  <a:pt x="4338" y="1451"/>
                  <a:pt x="4314" y="1339"/>
                </a:cubicBezTo>
                <a:cubicBezTo>
                  <a:pt x="4312" y="1224"/>
                  <a:pt x="4312" y="1109"/>
                  <a:pt x="4309" y="994"/>
                </a:cubicBezTo>
                <a:cubicBezTo>
                  <a:pt x="4309" y="988"/>
                  <a:pt x="4304" y="983"/>
                  <a:pt x="4303" y="977"/>
                </a:cubicBezTo>
                <a:cubicBezTo>
                  <a:pt x="4296" y="902"/>
                  <a:pt x="4301" y="813"/>
                  <a:pt x="4258" y="746"/>
                </a:cubicBezTo>
                <a:cubicBezTo>
                  <a:pt x="4242" y="684"/>
                  <a:pt x="4201" y="626"/>
                  <a:pt x="4179" y="565"/>
                </a:cubicBezTo>
                <a:cubicBezTo>
                  <a:pt x="4156" y="504"/>
                  <a:pt x="4156" y="441"/>
                  <a:pt x="4139" y="379"/>
                </a:cubicBezTo>
                <a:cubicBezTo>
                  <a:pt x="4134" y="331"/>
                  <a:pt x="4134" y="273"/>
                  <a:pt x="4105" y="232"/>
                </a:cubicBezTo>
                <a:cubicBezTo>
                  <a:pt x="4104" y="221"/>
                  <a:pt x="4101" y="137"/>
                  <a:pt x="4094" y="113"/>
                </a:cubicBezTo>
                <a:cubicBezTo>
                  <a:pt x="4079" y="61"/>
                  <a:pt x="4007" y="53"/>
                  <a:pt x="3964" y="45"/>
                </a:cubicBezTo>
                <a:cubicBezTo>
                  <a:pt x="3821" y="48"/>
                  <a:pt x="3687" y="53"/>
                  <a:pt x="3546" y="62"/>
                </a:cubicBezTo>
                <a:cubicBezTo>
                  <a:pt x="3424" y="59"/>
                  <a:pt x="3306" y="51"/>
                  <a:pt x="3185" y="45"/>
                </a:cubicBezTo>
                <a:cubicBezTo>
                  <a:pt x="3102" y="30"/>
                  <a:pt x="3027" y="17"/>
                  <a:pt x="2942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914400"/>
            <a:ext cx="2057400" cy="1066680"/>
          </a:xfrm>
          <a:prstGeom prst="wedgeRoundRectCallout">
            <a:avLst>
              <a:gd name="adj1" fmla="val -42361"/>
              <a:gd name="adj2" fmla="val 87351"/>
              <a:gd name="adj3" fmla="val 1666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サーバ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ユーザ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パスワード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7240" y="5557680"/>
            <a:ext cx="2516040" cy="1197000"/>
          </a:xfrm>
          <a:custGeom>
            <a:avLst/>
            <a:gdLst/>
            <a:ahLst/>
            <a:rect l="l" t="t" r="r" b="b"/>
            <a:pathLst>
              <a:path w="1585" h="754">
                <a:moveTo>
                  <a:pt x="77" y="0"/>
                </a:moveTo>
                <a:cubicBezTo>
                  <a:pt x="0" y="77"/>
                  <a:pt x="58" y="254"/>
                  <a:pt x="60" y="322"/>
                </a:cubicBezTo>
                <a:cubicBezTo>
                  <a:pt x="64" y="440"/>
                  <a:pt x="113" y="593"/>
                  <a:pt x="235" y="638"/>
                </a:cubicBezTo>
                <a:cubicBezTo>
                  <a:pt x="294" y="659"/>
                  <a:pt x="361" y="663"/>
                  <a:pt x="422" y="667"/>
                </a:cubicBezTo>
                <a:cubicBezTo>
                  <a:pt x="718" y="754"/>
                  <a:pt x="1039" y="674"/>
                  <a:pt x="1348" y="672"/>
                </a:cubicBezTo>
                <a:cubicBezTo>
                  <a:pt x="1400" y="664"/>
                  <a:pt x="1445" y="648"/>
                  <a:pt x="1495" y="633"/>
                </a:cubicBezTo>
                <a:cubicBezTo>
                  <a:pt x="1522" y="614"/>
                  <a:pt x="1552" y="603"/>
                  <a:pt x="1568" y="571"/>
                </a:cubicBezTo>
                <a:cubicBezTo>
                  <a:pt x="1577" y="554"/>
                  <a:pt x="1578" y="532"/>
                  <a:pt x="1585" y="514"/>
                </a:cubicBezTo>
                <a:cubicBezTo>
                  <a:pt x="1583" y="439"/>
                  <a:pt x="1584" y="363"/>
                  <a:pt x="1579" y="288"/>
                </a:cubicBezTo>
                <a:cubicBezTo>
                  <a:pt x="1578" y="265"/>
                  <a:pt x="1568" y="252"/>
                  <a:pt x="1562" y="232"/>
                </a:cubicBezTo>
                <a:cubicBezTo>
                  <a:pt x="1548" y="183"/>
                  <a:pt x="1539" y="108"/>
                  <a:pt x="1483" y="91"/>
                </a:cubicBezTo>
                <a:cubicBezTo>
                  <a:pt x="1434" y="56"/>
                  <a:pt x="1372" y="60"/>
                  <a:pt x="1314" y="57"/>
                </a:cubicBezTo>
                <a:cubicBezTo>
                  <a:pt x="1228" y="42"/>
                  <a:pt x="1269" y="47"/>
                  <a:pt x="1190" y="40"/>
                </a:cubicBezTo>
                <a:cubicBezTo>
                  <a:pt x="1081" y="11"/>
                  <a:pt x="958" y="11"/>
                  <a:pt x="845" y="0"/>
                </a:cubicBezTo>
                <a:cubicBezTo>
                  <a:pt x="654" y="6"/>
                  <a:pt x="144" y="61"/>
                  <a:pt x="77" y="0"/>
                </a:cubicBez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3360" y="5791320"/>
            <a:ext cx="1400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コミットのため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業領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0D7-AA2A-492F-ACAD-038663B7AD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21093" r="43303" b="3481"/>
          <a:stretch/>
        </p:blipFill>
        <p:spPr>
          <a:xfrm>
            <a:off x="2057400" y="1836720"/>
            <a:ext cx="4884840" cy="435312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86000" y="4357800"/>
            <a:ext cx="9907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357800"/>
            <a:ext cx="175248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5724360"/>
            <a:ext cx="6858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6240" y="4645440"/>
            <a:ext cx="1247400" cy="100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「リリース済」がチェックされて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かつ「移送依頼番号」に値がある場合にの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プラグイン実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920" y="64184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ボタンを押して、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秒くらい待つ・・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5440" y="1557360"/>
            <a:ext cx="12412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F9E-F4ED-4B82-800E-BC0EE8B9DD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3282" r="63864" b="38281"/>
          <a:stretch/>
        </p:blipFill>
        <p:spPr>
          <a:xfrm>
            <a:off x="152280" y="1905120"/>
            <a:ext cx="3492720" cy="373356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709560" y="2851920"/>
            <a:ext cx="2161800" cy="39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チェンジセットの番号を追記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2840" y="6402240"/>
            <a:ext cx="6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※</a:t>
            </a:r>
            <a:r>
              <a:rPr b="0" lang="zh-CN" sz="1800" spc="-1" strike="noStrike" u="sng">
                <a:solidFill>
                  <a:srgbClr val="40458c"/>
                </a:solidFill>
                <a:uFillTx/>
                <a:latin typeface="Times New Roman"/>
              </a:rPr>
              <a:t>：画面はイメージです。実際のものとは異なる可能性があります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007" t="23438" r="2512" b="4688"/>
          <a:stretch/>
        </p:blipFill>
        <p:spPr>
          <a:xfrm>
            <a:off x="4114800" y="1425600"/>
            <a:ext cx="4952880" cy="474660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371520" y="26478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085840"/>
            <a:ext cx="23619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22440" y="1827720"/>
            <a:ext cx="1704600" cy="703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概要とチケット番号を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コミットログ出力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21932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0" y="4191120"/>
            <a:ext cx="18266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互リンクを実現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457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971080" y="4600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4DF-6DA4-40F4-8259-1029E61B1F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苦労した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ython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みんなの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」で基礎固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で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を制御しようという人が少ないので、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上にも情報が少な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ubversion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API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ドキュメントが少なく、使いにく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 ⇒ 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Google Code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テストケースで使用方法を調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プラグイン作成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参考：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hibuya.trac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プラグインの作り方」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ja-JP" sz="1600" spc="-1" strike="noStrike" u="sng">
                <a:solidFill>
                  <a:srgbClr val="40458c"/>
                </a:solidFill>
                <a:uFillTx/>
                <a:latin typeface="Times New Roman"/>
              </a:rPr>
              <a:t>http://sourceforge.jp/projects/shibuya-trac/wiki/trac%2Fplugindev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27880" y="25146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柴田淳氏 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9C87-B07B-406C-AA04-9C7BBDA977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洗練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バージョン管理対象オブジェクトの対応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画面制御・レイアウトコー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データベーススキー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例外処理の追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様々な環境での動作検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1936800"/>
            <a:ext cx="4447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現状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コンセプトの検証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レベ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C65-02FA-48AF-9E42-B16F60C35A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</a:rPr>
              <a:t>そして何より・・・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5659-0219-4CB0-918C-06076C21A9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Trac &amp; </a:t>
            </a: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自作プラグインを導入する！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2682-B262-49BD-89F3-6EB02014D3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セキュリティに関しても条件厳しい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使ってもらってこその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実際に使わないと便利さが分から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使うにつれてプラグインの改善点も見えてく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使ってもらいたいけど、使うに使えない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堂々巡り状態・・・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86FC-A872-4755-B50B-80ABDECE8B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うまく導入する方法を</a:t>
            </a:r>
            <a:br>
              <a:rPr sz="6600"/>
            </a:b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アドバイス下さい＞＜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0E82-B48F-4537-BA23-D77A65D2A7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の心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こういった場での発表は、初めてできんちょー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どころか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以上かかりそうなので、今回どら娘がこなくてほっと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00B-DB88-4CD5-A166-57E8188CB4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アジェンダ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作成の背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概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今後の課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EC5-6D0A-41E1-A9C5-EF79DDC428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自己紹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256" t="10672" r="6384" b="23168"/>
          <a:stretch/>
        </p:blipFill>
        <p:spPr>
          <a:xfrm>
            <a:off x="3657600" y="111240"/>
            <a:ext cx="5029200" cy="296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id:ikikk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はてな（ブログ：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Talking Nonsto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Gmail, Twitter, Wass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某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Ier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所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客先常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商社向けのシステム開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のアドオン（プラグイン）開発を担当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ikikko"/>
          <p:cNvPicPr/>
          <p:nvPr/>
        </p:nvPicPr>
        <p:blipFill>
          <a:blip r:embed="rId4"/>
          <a:stretch/>
        </p:blipFill>
        <p:spPr>
          <a:xfrm>
            <a:off x="304812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60B2-B78E-4747-AD66-51DD4A837D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メール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」での管理にうんざ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管理用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ファイルが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5~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同じ内容を別々のファイルに転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ファイルを複数立ち上げて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離れた拠点の連絡は、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メールで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を送付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手動でメール送信が無駄な労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どこに最新のファイルがあるのかも不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A1A6-83EF-4F1B-BF2F-0F2D656510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2411280" cy="2048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274840" cy="2309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62320"/>
            <a:ext cx="1973520" cy="892080"/>
          </a:xfrm>
          <a:prstGeom prst="wedgeEllipseCallout">
            <a:avLst>
              <a:gd name="adj1" fmla="val 36402"/>
              <a:gd name="adj2" fmla="val 7099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便利そうだけど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セキュリティは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638680"/>
            <a:ext cx="1931760" cy="1071720"/>
          </a:xfrm>
          <a:prstGeom prst="wedgeEllipseCallout">
            <a:avLst>
              <a:gd name="adj1" fmla="val 30935"/>
              <a:gd name="adj2" fmla="val -68074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上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ソースコードと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連携できる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209680"/>
            <a:ext cx="2768400" cy="1182960"/>
          </a:xfrm>
          <a:prstGeom prst="wedgeEllipseCallout">
            <a:avLst>
              <a:gd name="adj1" fmla="val 6652"/>
              <a:gd name="adj2" fmla="val 65569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SL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通信や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ユーザ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による制御な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一通りのことはできま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5562720"/>
            <a:ext cx="3346560" cy="1195200"/>
          </a:xfrm>
          <a:prstGeom prst="wedgeEllipseCallout">
            <a:avLst>
              <a:gd name="adj1" fmla="val -6166"/>
              <a:gd name="adj2" fmla="val -70583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中をいじってやれ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できると思いますが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標準機能にはないみたいで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0040" y="16002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で解決できるということを啓蒙するために勉強会を開催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F7E-9EAA-4E4F-A3DC-A77836895E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を終えた後の感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4319640" cy="1224000"/>
          </a:xfrm>
          <a:prstGeom prst="cloudCallout">
            <a:avLst>
              <a:gd name="adj1" fmla="val 28796"/>
              <a:gd name="adj2" fmla="val 9967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ソースコードのバージョン管理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連携不可なのは不便だよな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1700280"/>
            <a:ext cx="2087640" cy="1387440"/>
          </a:xfrm>
          <a:prstGeom prst="cloudCallout">
            <a:avLst>
              <a:gd name="adj1" fmla="val -70152"/>
              <a:gd name="adj2" fmla="val 89930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無いなら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ってしま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プラグイン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16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6200" cy="60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319-89CF-4AA2-B89A-C00B6917BA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の概要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- Sap2SvnPlugin -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チケット更新時に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アクセスして情報を取得、その内容を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アクセス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ActiveX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した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RFC(Remote Function Call)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属のモジュール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127-104D-40F2-A41C-639D9819B3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573200"/>
            <a:ext cx="7669440" cy="25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46160" y="1908000"/>
            <a:ext cx="3454560" cy="1919520"/>
            <a:chOff x="1046160" y="1908000"/>
            <a:chExt cx="3454560" cy="19195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24" t="21093" r="37072" b="31253"/>
            <a:stretch/>
          </p:blipFill>
          <p:spPr>
            <a:xfrm>
              <a:off x="1046160" y="1908000"/>
              <a:ext cx="3454560" cy="1919520"/>
            </a:xfrm>
            <a:prstGeom prst="rect">
              <a:avLst/>
            </a:prstGeom>
            <a:ln w="19080">
              <a:solidFill>
                <a:srgbClr val="40458c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2975040" y="3533760"/>
              <a:ext cx="120888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1400" y="3638520"/>
              <a:ext cx="51804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22800" y="1371600"/>
            <a:ext cx="9684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960" y="4960800"/>
            <a:ext cx="2003400" cy="174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759200"/>
            <a:ext cx="16574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10400" y="5295960"/>
            <a:ext cx="911160" cy="122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6160" y="4960800"/>
            <a:ext cx="1587600" cy="174492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1744920"/>
              <a:gd name="textAreaBottom" fmla="*/ 1667520 h 1744920"/>
            </a:gdLst>
            <a:ahLst/>
            <a:rect l="textAreaLeft" t="textAreaTop" r="textAreaRight" b="textAreaBottom"/>
            <a:pathLst>
              <a:path w="21600" h="23740">
                <a:moveTo>
                  <a:pt x="3600" y="0"/>
                </a:moveTo>
                <a:arcTo wR="3600" hR="3600" stAng="16200000" swAng="-5400000"/>
                <a:lnTo>
                  <a:pt x="0" y="20140"/>
                </a:lnTo>
                <a:arcTo wR="3600" hR="3600" stAng="10800000" swAng="-5400000"/>
                <a:lnTo>
                  <a:pt x="18000" y="23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2280" y="4759200"/>
            <a:ext cx="96696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90680" y="5262480"/>
            <a:ext cx="90648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624" t="16405" r="312" b="7811"/>
          <a:stretch/>
        </p:blipFill>
        <p:spPr>
          <a:xfrm>
            <a:off x="4983120" y="1908000"/>
            <a:ext cx="3247920" cy="1925640"/>
          </a:xfrm>
          <a:prstGeom prst="rect">
            <a:avLst/>
          </a:prstGeom>
          <a:ln w="19080">
            <a:solidFill>
              <a:srgbClr val="40458c"/>
            </a:solidFill>
            <a:miter/>
          </a:ln>
        </p:spPr>
      </p:pic>
      <p:cxnSp>
        <p:nvCxnSpPr>
          <p:cNvPr id="254" name=""/>
          <p:cNvCxnSpPr>
            <a:stCxn id="245" idx="1"/>
            <a:endCxn id="252" idx="1"/>
          </p:cNvCxnSpPr>
          <p:nvPr/>
        </p:nvCxnSpPr>
        <p:spPr>
          <a:xfrm flipH="1" flipV="1" rot="10800000">
            <a:off x="1382400" y="3691440"/>
            <a:ext cx="8640" cy="2213640"/>
          </a:xfrm>
          <a:prstGeom prst="curvedConnector5">
            <a:avLst>
              <a:gd name="adj1" fmla="val -2300000"/>
              <a:gd name="adj2" fmla="val 50000"/>
              <a:gd name="adj3" fmla="val -23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2" idx="3"/>
            <a:endCxn id="249" idx="1"/>
          </p:cNvCxnSpPr>
          <p:nvPr/>
        </p:nvCxnSpPr>
        <p:spPr>
          <a:xfrm>
            <a:off x="2296800" y="5905080"/>
            <a:ext cx="4413600" cy="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3"/>
            <a:endCxn id="253" idx="3"/>
          </p:cNvCxnSpPr>
          <p:nvPr/>
        </p:nvCxnSpPr>
        <p:spPr>
          <a:xfrm flipV="1">
            <a:off x="7621200" y="2871360"/>
            <a:ext cx="618120" cy="3039120"/>
          </a:xfrm>
          <a:prstGeom prst="curvedConnector5">
            <a:avLst>
              <a:gd name="adj1" fmla="val 132109"/>
              <a:gd name="adj2" fmla="val 49994"/>
              <a:gd name="adj3" fmla="val 132109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イメージ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000" y="41752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アクセス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1880" y="55468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オブジェクト抽出・コミッ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440" y="42670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：閲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65420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981080"/>
            <a:ext cx="2361960" cy="1067040"/>
          </a:xfrm>
          <a:prstGeom prst="wedgeRoundRectCallout">
            <a:avLst>
              <a:gd name="adj1" fmla="val -48791"/>
              <a:gd name="adj2" fmla="val 83185"/>
              <a:gd name="adj3" fmla="val 16667"/>
            </a:avLst>
          </a:prstGeom>
          <a:solidFill>
            <a:srgbClr val="ffffff">
              <a:alpha val="8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カスタムフィール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リリース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移送依頼番号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50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8B0D-4006-449C-912B-31C77E0D8A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26:13Z</dcterms:created>
  <dc:creator>ikikko-t</dc:creator>
  <dc:description/>
  <dc:language>en-US</dc:language>
  <cp:lastModifiedBy>日立ソフト</cp:lastModifiedBy>
  <dcterms:modified xsi:type="dcterms:W3CDTF">2009-01-24T07:10:57Z</dcterms:modified>
  <cp:revision>237</cp:revision>
  <dc:subject/>
  <dc:title>初めてのプラグイン開発</dc:title>
</cp:coreProperties>
</file>