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65752-9D01-4989-BD77-C194F39D950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BFE56-F792-40EF-B6B5-1E4A154D198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58F8-4C19-4AE5-AF3C-F2F959C70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477B-E03B-473F-BE4E-F3014F6FF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1F92-A782-4D65-8C75-1955C67B3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C19E-DC49-491D-9B0D-336FF83E2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4DAF-A21C-4D7B-8ECB-A7945197E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B85D-8B40-41D8-A4F8-72F6ACBC6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D7F0-926F-4174-9ECB-FC31481D3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5C60-3663-4F43-8A7B-9C00AD1F4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5BD2-176B-4953-A8DF-F99B7803A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4ADB-3B8C-4C1F-B453-6C8F00DB2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C218-D81F-44FA-81D1-6973CA293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FCF3-A194-4786-8EB0-FAED6A4C6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CC85E-D623-4142-A24A-D6619490A4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2-23T10:28:37Z</dcterms:modified>
  <cp:revision>49</cp:revision>
  <dc:subject/>
  <dc:title>スライド 1</dc:title>
</cp:coreProperties>
</file>