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50C-6CE9-40EF-AF4C-45F5FAE2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74E-1071-4509-B39C-970A9170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819-DDB0-45BD-B876-43B8C5E3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D60-5546-418C-A88C-85BD0346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886-759E-4EB6-AE9F-D920FC6B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E17-0F06-4AE4-AE38-5B6D80F6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F9C-B651-4F17-8F87-EF50F876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64A-322E-47D9-AA69-2DD49974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6C4-FFED-48A3-A21F-66A44D8F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D23-44B1-4825-9502-2B774959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8DD-956A-46D0-A7CB-F87D15D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D20-161D-432A-9998-1BD0F581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77B7-866F-40D2-967A-F76D39959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システム構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038480"/>
            <a:ext cx="2904840" cy="833400"/>
          </a:xfrm>
          <a:custGeom>
            <a:avLst/>
            <a:gdLst/>
            <a:ahLst/>
            <a:rect l="l" t="t" r="r" b="b"/>
            <a:pathLst>
              <a:path w="669" h="192">
                <a:moveTo>
                  <a:pt x="7" y="185"/>
                </a:moveTo>
                <a:cubicBezTo>
                  <a:pt x="15" y="192"/>
                  <a:pt x="30" y="192"/>
                  <a:pt x="45" y="192"/>
                </a:cubicBezTo>
                <a:cubicBezTo>
                  <a:pt x="59" y="192"/>
                  <a:pt x="74" y="192"/>
                  <a:pt x="163" y="192"/>
                </a:cubicBezTo>
                <a:cubicBezTo>
                  <a:pt x="253" y="192"/>
                  <a:pt x="416" y="192"/>
                  <a:pt x="505" y="192"/>
                </a:cubicBezTo>
                <a:cubicBezTo>
                  <a:pt x="594" y="192"/>
                  <a:pt x="609" y="192"/>
                  <a:pt x="624" y="192"/>
                </a:cubicBezTo>
                <a:cubicBezTo>
                  <a:pt x="639" y="192"/>
                  <a:pt x="654" y="192"/>
                  <a:pt x="661" y="185"/>
                </a:cubicBezTo>
                <a:cubicBezTo>
                  <a:pt x="669" y="177"/>
                  <a:pt x="669" y="162"/>
                  <a:pt x="669" y="147"/>
                </a:cubicBezTo>
                <a:cubicBezTo>
                  <a:pt x="669" y="132"/>
                  <a:pt x="669" y="117"/>
                  <a:pt x="669" y="108"/>
                </a:cubicBezTo>
                <a:cubicBezTo>
                  <a:pt x="669" y="98"/>
                  <a:pt x="669" y="94"/>
                  <a:pt x="669" y="84"/>
                </a:cubicBezTo>
                <a:cubicBezTo>
                  <a:pt x="669" y="75"/>
                  <a:pt x="669" y="60"/>
                  <a:pt x="669" y="45"/>
                </a:cubicBezTo>
                <a:cubicBezTo>
                  <a:pt x="669" y="30"/>
                  <a:pt x="669" y="15"/>
                  <a:pt x="661" y="7"/>
                </a:cubicBezTo>
                <a:cubicBezTo>
                  <a:pt x="654" y="0"/>
                  <a:pt x="639" y="0"/>
                  <a:pt x="624" y="0"/>
                </a:cubicBezTo>
                <a:cubicBezTo>
                  <a:pt x="609" y="0"/>
                  <a:pt x="594" y="0"/>
                  <a:pt x="505" y="0"/>
                </a:cubicBezTo>
                <a:cubicBezTo>
                  <a:pt x="416" y="0"/>
                  <a:pt x="253" y="0"/>
                  <a:pt x="163" y="0"/>
                </a:cubicBezTo>
                <a:cubicBezTo>
                  <a:pt x="74" y="0"/>
                  <a:pt x="59" y="0"/>
                  <a:pt x="45" y="0"/>
                </a:cubicBezTo>
                <a:cubicBezTo>
                  <a:pt x="30" y="0"/>
                  <a:pt x="15" y="0"/>
                  <a:pt x="7" y="7"/>
                </a:cubicBezTo>
                <a:cubicBezTo>
                  <a:pt x="0" y="15"/>
                  <a:pt x="0" y="30"/>
                  <a:pt x="0" y="45"/>
                </a:cubicBezTo>
                <a:cubicBezTo>
                  <a:pt x="0" y="60"/>
                  <a:pt x="0" y="75"/>
                  <a:pt x="0" y="84"/>
                </a:cubicBezTo>
                <a:cubicBezTo>
                  <a:pt x="0" y="94"/>
                  <a:pt x="0" y="98"/>
                  <a:pt x="0" y="108"/>
                </a:cubicBezTo>
                <a:cubicBezTo>
                  <a:pt x="0" y="117"/>
                  <a:pt x="0" y="132"/>
                  <a:pt x="0" y="147"/>
                </a:cubicBezTo>
                <a:cubicBezTo>
                  <a:pt x="0" y="162"/>
                  <a:pt x="0" y="177"/>
                  <a:pt x="7" y="185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4038480"/>
            <a:ext cx="2904840" cy="833400"/>
          </a:xfrm>
          <a:custGeom>
            <a:avLst/>
            <a:gdLst/>
            <a:ahLst/>
            <a:rect l="l" t="t" r="r" b="b"/>
            <a:pathLst>
              <a:path w="669" h="192">
                <a:moveTo>
                  <a:pt x="7" y="185"/>
                </a:moveTo>
                <a:cubicBezTo>
                  <a:pt x="15" y="192"/>
                  <a:pt x="30" y="192"/>
                  <a:pt x="45" y="192"/>
                </a:cubicBezTo>
                <a:cubicBezTo>
                  <a:pt x="59" y="192"/>
                  <a:pt x="74" y="192"/>
                  <a:pt x="163" y="192"/>
                </a:cubicBezTo>
                <a:cubicBezTo>
                  <a:pt x="253" y="192"/>
                  <a:pt x="416" y="192"/>
                  <a:pt x="505" y="192"/>
                </a:cubicBezTo>
                <a:cubicBezTo>
                  <a:pt x="594" y="192"/>
                  <a:pt x="609" y="192"/>
                  <a:pt x="624" y="192"/>
                </a:cubicBezTo>
                <a:cubicBezTo>
                  <a:pt x="639" y="192"/>
                  <a:pt x="654" y="192"/>
                  <a:pt x="661" y="185"/>
                </a:cubicBezTo>
                <a:cubicBezTo>
                  <a:pt x="669" y="177"/>
                  <a:pt x="669" y="162"/>
                  <a:pt x="669" y="147"/>
                </a:cubicBezTo>
                <a:cubicBezTo>
                  <a:pt x="669" y="132"/>
                  <a:pt x="669" y="117"/>
                  <a:pt x="669" y="108"/>
                </a:cubicBezTo>
                <a:cubicBezTo>
                  <a:pt x="669" y="98"/>
                  <a:pt x="669" y="94"/>
                  <a:pt x="669" y="84"/>
                </a:cubicBezTo>
                <a:cubicBezTo>
                  <a:pt x="669" y="75"/>
                  <a:pt x="669" y="60"/>
                  <a:pt x="669" y="45"/>
                </a:cubicBezTo>
                <a:cubicBezTo>
                  <a:pt x="669" y="30"/>
                  <a:pt x="669" y="15"/>
                  <a:pt x="661" y="7"/>
                </a:cubicBezTo>
                <a:cubicBezTo>
                  <a:pt x="654" y="0"/>
                  <a:pt x="639" y="0"/>
                  <a:pt x="624" y="0"/>
                </a:cubicBezTo>
                <a:cubicBezTo>
                  <a:pt x="609" y="0"/>
                  <a:pt x="594" y="0"/>
                  <a:pt x="505" y="0"/>
                </a:cubicBezTo>
                <a:cubicBezTo>
                  <a:pt x="416" y="0"/>
                  <a:pt x="253" y="0"/>
                  <a:pt x="163" y="0"/>
                </a:cubicBezTo>
                <a:cubicBezTo>
                  <a:pt x="74" y="0"/>
                  <a:pt x="59" y="0"/>
                  <a:pt x="45" y="0"/>
                </a:cubicBezTo>
                <a:cubicBezTo>
                  <a:pt x="30" y="0"/>
                  <a:pt x="15" y="0"/>
                  <a:pt x="7" y="7"/>
                </a:cubicBezTo>
                <a:cubicBezTo>
                  <a:pt x="0" y="15"/>
                  <a:pt x="0" y="30"/>
                  <a:pt x="0" y="45"/>
                </a:cubicBezTo>
                <a:cubicBezTo>
                  <a:pt x="0" y="60"/>
                  <a:pt x="0" y="75"/>
                  <a:pt x="0" y="84"/>
                </a:cubicBezTo>
                <a:cubicBezTo>
                  <a:pt x="0" y="94"/>
                  <a:pt x="0" y="98"/>
                  <a:pt x="0" y="108"/>
                </a:cubicBezTo>
                <a:cubicBezTo>
                  <a:pt x="0" y="117"/>
                  <a:pt x="0" y="132"/>
                  <a:pt x="0" y="147"/>
                </a:cubicBezTo>
                <a:cubicBezTo>
                  <a:pt x="0" y="162"/>
                  <a:pt x="0" y="177"/>
                  <a:pt x="7" y="185"/>
                </a:cubicBez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97480" y="4241880"/>
            <a:ext cx="1306800" cy="23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7080" y="4119480"/>
            <a:ext cx="178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今日 会議 に　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94800" y="4389480"/>
            <a:ext cx="15696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7080" y="514980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9720" y="4011480"/>
            <a:ext cx="1228680" cy="525600"/>
          </a:xfrm>
          <a:custGeom>
            <a:avLst/>
            <a:gdLst/>
            <a:ahLst/>
            <a:rect l="l" t="t" r="r" b="b"/>
            <a:pathLst>
              <a:path w="774" h="331">
                <a:moveTo>
                  <a:pt x="0" y="192"/>
                </a:moveTo>
                <a:lnTo>
                  <a:pt x="16" y="148"/>
                </a:lnTo>
                <a:lnTo>
                  <a:pt x="47" y="222"/>
                </a:lnTo>
                <a:lnTo>
                  <a:pt x="74" y="74"/>
                </a:lnTo>
                <a:lnTo>
                  <a:pt x="79" y="301"/>
                </a:lnTo>
                <a:lnTo>
                  <a:pt x="126" y="30"/>
                </a:lnTo>
                <a:lnTo>
                  <a:pt x="131" y="287"/>
                </a:lnTo>
                <a:lnTo>
                  <a:pt x="153" y="126"/>
                </a:lnTo>
                <a:lnTo>
                  <a:pt x="153" y="208"/>
                </a:lnTo>
                <a:lnTo>
                  <a:pt x="178" y="178"/>
                </a:lnTo>
                <a:lnTo>
                  <a:pt x="205" y="197"/>
                </a:lnTo>
                <a:lnTo>
                  <a:pt x="222" y="184"/>
                </a:lnTo>
                <a:lnTo>
                  <a:pt x="249" y="205"/>
                </a:lnTo>
                <a:lnTo>
                  <a:pt x="271" y="178"/>
                </a:lnTo>
                <a:lnTo>
                  <a:pt x="293" y="200"/>
                </a:lnTo>
                <a:lnTo>
                  <a:pt x="301" y="164"/>
                </a:lnTo>
                <a:lnTo>
                  <a:pt x="298" y="244"/>
                </a:lnTo>
                <a:lnTo>
                  <a:pt x="320" y="112"/>
                </a:lnTo>
                <a:lnTo>
                  <a:pt x="350" y="214"/>
                </a:lnTo>
                <a:lnTo>
                  <a:pt x="353" y="69"/>
                </a:lnTo>
                <a:lnTo>
                  <a:pt x="350" y="200"/>
                </a:lnTo>
                <a:lnTo>
                  <a:pt x="380" y="47"/>
                </a:lnTo>
                <a:lnTo>
                  <a:pt x="372" y="252"/>
                </a:lnTo>
                <a:lnTo>
                  <a:pt x="416" y="25"/>
                </a:lnTo>
                <a:lnTo>
                  <a:pt x="429" y="331"/>
                </a:lnTo>
                <a:lnTo>
                  <a:pt x="460" y="0"/>
                </a:lnTo>
                <a:lnTo>
                  <a:pt x="446" y="244"/>
                </a:lnTo>
                <a:lnTo>
                  <a:pt x="476" y="11"/>
                </a:lnTo>
                <a:lnTo>
                  <a:pt x="468" y="293"/>
                </a:lnTo>
                <a:lnTo>
                  <a:pt x="517" y="96"/>
                </a:lnTo>
                <a:lnTo>
                  <a:pt x="517" y="252"/>
                </a:lnTo>
                <a:lnTo>
                  <a:pt x="547" y="186"/>
                </a:lnTo>
                <a:lnTo>
                  <a:pt x="550" y="244"/>
                </a:lnTo>
                <a:lnTo>
                  <a:pt x="583" y="153"/>
                </a:lnTo>
                <a:lnTo>
                  <a:pt x="594" y="200"/>
                </a:lnTo>
                <a:lnTo>
                  <a:pt x="613" y="170"/>
                </a:lnTo>
                <a:lnTo>
                  <a:pt x="615" y="178"/>
                </a:lnTo>
                <a:lnTo>
                  <a:pt x="635" y="25"/>
                </a:lnTo>
                <a:lnTo>
                  <a:pt x="637" y="241"/>
                </a:lnTo>
                <a:lnTo>
                  <a:pt x="681" y="156"/>
                </a:lnTo>
                <a:lnTo>
                  <a:pt x="692" y="186"/>
                </a:lnTo>
                <a:lnTo>
                  <a:pt x="695" y="192"/>
                </a:lnTo>
                <a:lnTo>
                  <a:pt x="752" y="186"/>
                </a:lnTo>
                <a:lnTo>
                  <a:pt x="747" y="236"/>
                </a:lnTo>
                <a:lnTo>
                  <a:pt x="774" y="186"/>
                </a:lnTo>
                <a:lnTo>
                  <a:pt x="774" y="186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9720" y="4011480"/>
            <a:ext cx="1228680" cy="525600"/>
          </a:xfrm>
          <a:custGeom>
            <a:avLst/>
            <a:gdLst/>
            <a:ahLst/>
            <a:rect l="l" t="t" r="r" b="b"/>
            <a:pathLst>
              <a:path w="774" h="331">
                <a:moveTo>
                  <a:pt x="0" y="192"/>
                </a:moveTo>
                <a:lnTo>
                  <a:pt x="16" y="148"/>
                </a:lnTo>
                <a:lnTo>
                  <a:pt x="47" y="222"/>
                </a:lnTo>
                <a:lnTo>
                  <a:pt x="74" y="74"/>
                </a:lnTo>
                <a:lnTo>
                  <a:pt x="79" y="301"/>
                </a:lnTo>
                <a:lnTo>
                  <a:pt x="126" y="30"/>
                </a:lnTo>
                <a:lnTo>
                  <a:pt x="131" y="287"/>
                </a:lnTo>
                <a:lnTo>
                  <a:pt x="153" y="126"/>
                </a:lnTo>
                <a:lnTo>
                  <a:pt x="153" y="208"/>
                </a:lnTo>
                <a:lnTo>
                  <a:pt x="178" y="178"/>
                </a:lnTo>
                <a:lnTo>
                  <a:pt x="205" y="197"/>
                </a:lnTo>
                <a:lnTo>
                  <a:pt x="222" y="184"/>
                </a:lnTo>
                <a:lnTo>
                  <a:pt x="249" y="205"/>
                </a:lnTo>
                <a:lnTo>
                  <a:pt x="271" y="178"/>
                </a:lnTo>
                <a:lnTo>
                  <a:pt x="293" y="200"/>
                </a:lnTo>
                <a:lnTo>
                  <a:pt x="301" y="164"/>
                </a:lnTo>
                <a:lnTo>
                  <a:pt x="298" y="244"/>
                </a:lnTo>
                <a:lnTo>
                  <a:pt x="320" y="112"/>
                </a:lnTo>
                <a:lnTo>
                  <a:pt x="350" y="214"/>
                </a:lnTo>
                <a:lnTo>
                  <a:pt x="353" y="69"/>
                </a:lnTo>
                <a:lnTo>
                  <a:pt x="350" y="200"/>
                </a:lnTo>
                <a:lnTo>
                  <a:pt x="380" y="47"/>
                </a:lnTo>
                <a:lnTo>
                  <a:pt x="372" y="252"/>
                </a:lnTo>
                <a:lnTo>
                  <a:pt x="416" y="25"/>
                </a:lnTo>
                <a:lnTo>
                  <a:pt x="429" y="331"/>
                </a:lnTo>
                <a:lnTo>
                  <a:pt x="460" y="0"/>
                </a:lnTo>
                <a:lnTo>
                  <a:pt x="446" y="244"/>
                </a:lnTo>
                <a:lnTo>
                  <a:pt x="476" y="11"/>
                </a:lnTo>
                <a:lnTo>
                  <a:pt x="468" y="293"/>
                </a:lnTo>
                <a:lnTo>
                  <a:pt x="517" y="96"/>
                </a:lnTo>
                <a:lnTo>
                  <a:pt x="517" y="252"/>
                </a:lnTo>
                <a:lnTo>
                  <a:pt x="547" y="186"/>
                </a:lnTo>
                <a:lnTo>
                  <a:pt x="550" y="244"/>
                </a:lnTo>
                <a:lnTo>
                  <a:pt x="583" y="153"/>
                </a:lnTo>
                <a:lnTo>
                  <a:pt x="594" y="200"/>
                </a:lnTo>
                <a:lnTo>
                  <a:pt x="613" y="170"/>
                </a:lnTo>
                <a:lnTo>
                  <a:pt x="615" y="178"/>
                </a:lnTo>
                <a:lnTo>
                  <a:pt x="635" y="25"/>
                </a:lnTo>
                <a:lnTo>
                  <a:pt x="637" y="241"/>
                </a:lnTo>
                <a:lnTo>
                  <a:pt x="681" y="156"/>
                </a:lnTo>
                <a:lnTo>
                  <a:pt x="692" y="186"/>
                </a:lnTo>
                <a:lnTo>
                  <a:pt x="695" y="192"/>
                </a:lnTo>
                <a:lnTo>
                  <a:pt x="752" y="186"/>
                </a:lnTo>
                <a:lnTo>
                  <a:pt x="747" y="236"/>
                </a:lnTo>
                <a:lnTo>
                  <a:pt x="774" y="186"/>
                </a:lnTo>
                <a:lnTo>
                  <a:pt x="774" y="186"/>
                </a:ln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9160" y="4316400"/>
            <a:ext cx="1514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23640" y="457668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yriad Roman"/>
              </a:rPr>
              <a:t>認識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49160" y="1557360"/>
            <a:ext cx="3539160" cy="731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タスク文法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voca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ファイル、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grammar</a:t>
            </a:r>
            <a:r>
              <a:rPr b="0" lang="ja-JP" sz="2400" spc="-1" strike="noStrike">
                <a:solidFill>
                  <a:srgbClr val="000000"/>
                </a:solidFill>
                <a:latin typeface="Myriad Roman"/>
              </a:rPr>
              <a:t>ファイ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21160" y="3070080"/>
            <a:ext cx="841680" cy="2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74960" y="5262480"/>
            <a:ext cx="2743200" cy="685800"/>
            <a:chOff x="2874960" y="5262480"/>
            <a:chExt cx="2743200" cy="685800"/>
          </a:xfrm>
        </p:grpSpPr>
        <p:sp>
          <p:nvSpPr>
            <p:cNvPr id="57" name=""/>
            <p:cNvSpPr/>
            <p:nvPr/>
          </p:nvSpPr>
          <p:spPr>
            <a:xfrm>
              <a:off x="2874960" y="5262480"/>
              <a:ext cx="2743200" cy="685800"/>
            </a:xfrm>
            <a:custGeom>
              <a:avLst/>
              <a:gdLst/>
              <a:ahLst/>
              <a:rect l="l" t="t" r="r" b="b"/>
              <a:pathLst>
                <a:path w="1304" h="263">
                  <a:moveTo>
                    <a:pt x="175" y="88"/>
                  </a:move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5" y="88"/>
                  </a:lnTo>
                  <a:moveTo>
                    <a:pt x="0" y="263"/>
                  </a:moveTo>
                  <a:lnTo>
                    <a:pt x="0" y="0"/>
                  </a:lnTo>
                  <a:lnTo>
                    <a:pt x="1304" y="0"/>
                  </a:lnTo>
                  <a:lnTo>
                    <a:pt x="1304" y="263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15840" y="533880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Myriad Roman"/>
                </a:rPr>
                <a:t>音響モデ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87400" y="4719600"/>
            <a:ext cx="135576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2960" y="419580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676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力音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440" y="434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0440" y="4348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2160" y="22906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60960" y="22906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246560" y="4881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74320" y="2349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85264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識用辞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285264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探索アルゴリズ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4960" y="3728880"/>
            <a:ext cx="54648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入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音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3500280"/>
            <a:ext cx="183996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パス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時間同期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ビーム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48200" y="3500280"/>
            <a:ext cx="1855800" cy="109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パス</a:t>
            </a:r>
            <a:br>
              <a:rPr sz="2200"/>
            </a:b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逆向き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t-first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85560" y="3805200"/>
            <a:ext cx="7293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文候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8360" y="2565360"/>
            <a:ext cx="18846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カテゴリ対制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4110120"/>
            <a:ext cx="73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110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04000" y="4110120"/>
            <a:ext cx="587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2060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実行時抽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03640" y="465264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96000" y="465264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997360"/>
            <a:ext cx="0" cy="50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2421000"/>
            <a:ext cx="0" cy="1079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3640" y="1989000"/>
            <a:ext cx="2016000" cy="576360"/>
          </a:xfrm>
          <a:custGeom>
            <a:avLst/>
            <a:gdLst/>
            <a:ahLst/>
            <a:rect l="l" t="t" r="r" b="b"/>
            <a:pathLst>
              <a:path w="953" h="363">
                <a:moveTo>
                  <a:pt x="953" y="0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5373720"/>
            <a:ext cx="2520720" cy="790560"/>
          </a:xfrm>
          <a:prstGeom prst="parallelogram">
            <a:avLst>
              <a:gd name="adj" fmla="val 79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認識用辞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0" y="5013000"/>
            <a:ext cx="0" cy="36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013360"/>
            <a:ext cx="25905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1628640"/>
            <a:ext cx="2521080" cy="790560"/>
          </a:xfrm>
          <a:prstGeom prst="parallelogram">
            <a:avLst>
              <a:gd name="adj" fmla="val 797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A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16:37Z</dcterms:created>
  <dc:creator>LEE Akinobu</dc:creator>
  <dc:description/>
  <dc:language>en-US</dc:language>
  <cp:lastModifiedBy>LEE Akinobu</cp:lastModifiedBy>
  <dcterms:modified xsi:type="dcterms:W3CDTF">2001-08-25T13:14:42Z</dcterms:modified>
  <cp:revision>4</cp:revision>
  <dc:subject/>
  <dc:title>スライド 1</dc:title>
</cp:coreProperties>
</file>