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928-E03B-44C8-B223-10D7CDA2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7F2B-05A9-4EFD-9FB1-BBEB5612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686-1156-4E49-9E4E-013B8E3C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4D5-C68F-4307-853D-317AE45A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5C6-AAA2-48FF-80F8-1BA01C47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F25E-E090-4079-9B8E-626FE548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613-F9FB-4D47-9AD8-3C236087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0F4-0B33-432D-80EA-D2985995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567-238B-4CD9-AB4D-C961E4BD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CF2-983A-497C-970E-9ED4DAFF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177-97A0-45C2-939F-AC84F7D0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D35-E836-417F-A1E1-1FBC15CD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978C-B5DB-460E-9A9A-F6684A744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3880" y="71280"/>
            <a:ext cx="7896240" cy="671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044720"/>
            <a:ext cx="6480000" cy="49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360"/>
            <a:ext cx="1439640" cy="49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539720"/>
            <a:ext cx="270036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7000" y="1539720"/>
            <a:ext cx="364464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654360"/>
            <a:ext cx="6480000" cy="2970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97720" y="1852560"/>
            <a:ext cx="719280" cy="58572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97720" y="2484360"/>
            <a:ext cx="719280" cy="495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480" y="511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640" y="104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4800" y="15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12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59240" y="1593720"/>
            <a:ext cx="31176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240" y="177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240" y="24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1:23:30Z</dcterms:created>
  <dc:creator>Toru Furukawa</dc:creator>
  <dc:description/>
  <dc:language>en-US</dc:language>
  <cp:lastModifiedBy>Toru Furukawa</cp:lastModifiedBy>
  <dcterms:modified xsi:type="dcterms:W3CDTF">2007-05-26T11:49:05Z</dcterms:modified>
  <cp:revision>2</cp:revision>
  <dc:subject/>
  <dc:title>スライド 1</dc:title>
</cp:coreProperties>
</file>