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88188" cy="10209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65E-437B-4503-A355-648B4766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C91-96AA-4C0E-A42E-11B34931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F84-7DEF-478E-89BB-C036D50B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DDB-E8AE-4FEB-9BD7-F727C180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9A88-66B4-4996-A928-22E87F56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3307-F5D4-4BD4-B507-1E36A950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229-2451-4370-B949-AE7C573C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517-0105-45D1-AAD1-A645B762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FD35-4183-48FB-86F8-8324DDBB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180-A919-491B-B4F8-87AF3A9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715A-D8E1-4F26-8B74-2DB94125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2E90-83B7-49AC-AE8A-0A3B6D54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761A-ECFE-485E-9A6B-C4647FD02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773360"/>
            <a:ext cx="7632720" cy="417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2492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6920" y="328464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4005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465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522936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34000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84720" y="177336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700360" y="1341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69120" y="725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うそうそ帳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53720" y="2811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9/12/2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作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88120" y="6242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うまく出来るかしら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1:29:08Z</dcterms:created>
  <dc:creator>株式会社ＮＴＴデータビジネスブレインズ</dc:creator>
  <dc:description/>
  <dc:language>en-US</dc:language>
  <cp:lastModifiedBy>株式会社ＮＴＴデータビジネスブレインズ</cp:lastModifiedBy>
  <dcterms:modified xsi:type="dcterms:W3CDTF">2009-12-22T11:30:08Z</dcterms:modified>
  <cp:revision>2</cp:revision>
  <dc:subject/>
  <dc:title>スライド 1</dc:title>
</cp:coreProperties>
</file>