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3D589-503B-4010-AF33-DE893A39752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1466-E7FF-458E-9816-07ACFDF4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8076-BF04-4B98-9F09-18E739C1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40CB-5922-4871-B50B-A9A5B0C9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14E5-ADE6-408F-A600-FE79F1AE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A0C9-B8EE-402F-9562-7E25436E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CAFA-DF4F-48FE-A5D8-F10667E9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DB7E-115B-44AC-84B9-54A8FD88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9E84-76EF-4C0B-B0DD-510D9CAE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2C3D-3DAA-48C5-9635-F2E35F05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3ADA-8DFF-407D-91AD-6A983CDC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72AE-8638-49AB-9916-94E1EE0E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53F5-D299-4D2E-853F-E0221017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BEC5-227B-4017-9F98-2257062E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18C1-CED8-4123-A513-819EDDE4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D1DB-8724-4D5F-B6DA-E5F4D845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E40C-D4E8-4F0D-A770-0BC1B61E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CA70-5A8C-4C1A-92B5-26C2C634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F36F-CE95-4A7F-92FF-CDDE8542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9C6F-208F-442F-8E8F-97C5BE7D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6D98-2DA8-4257-923E-3D4D937D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26A5-D47A-42D6-8A28-F1622B70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288C-0516-4016-8F8B-75EC2326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0ECE-D8FE-43EA-B448-DF06B3DB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99DB-963C-4F41-B33E-0E57FA12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2A49D-4E7A-4DCE-858D-DA98133EDDE2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BC536A0-EDDB-4B81-8CEB-FDB6F006046F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40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クリーンショッ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7.01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D9F8-619A-4E7F-853F-022DDC866C2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474-612A-4ABC-B232-FC1E0804300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B.NE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11280" y="19479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C6DA-1963-44DC-8FDF-EAFB13F7E666}" type="slidenum">
              <a:t>5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kiIga</cp:lastModifiedBy>
  <dcterms:modified xsi:type="dcterms:W3CDTF">2007-01-15T09:00:58Z</dcterms:modified>
  <cp:revision>318</cp:revision>
  <dc:subject/>
  <dc:title>blanco Framework ご紹介</dc:title>
</cp:coreProperties>
</file>