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2D9A4-2825-4F40-96A7-02355B684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B95FA-A4CA-4DFC-A3CC-D68AB1885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43171-2116-4503-BB6F-3476A57B8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394CC-201A-4EAC-827D-7C824E1E7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789FF-FE3D-4E58-8E22-F073D08CE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EEB25-9B0D-4EAB-B06A-709D8E17E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485D4-3D63-4AE1-BB75-D166694A3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4D8F4-EE5E-4551-8390-8F7F8719A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D84DA-076B-46CD-8D6C-190E726E8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3F88C-54BD-473D-9566-E6DEF0633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B1C84-55FA-44FA-BA71-1FF7B07E7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AB681-B999-4309-8ED9-F1C72E6DE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36CC0-478D-441E-ACA2-446BC0CBA2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486560" y="3681360"/>
            <a:ext cx="649440" cy="647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XM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486560" y="2852640"/>
            <a:ext cx="649440" cy="647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ソース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コード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76360" y="1773360"/>
            <a:ext cx="1692000" cy="504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1628640"/>
            <a:ext cx="3241440" cy="302436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64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050920" y="3139920"/>
            <a:ext cx="935280" cy="576360"/>
          </a:xfrm>
          <a:prstGeom prst="rightArrow">
            <a:avLst>
              <a:gd name="adj1" fmla="val 50000"/>
              <a:gd name="adj2" fmla="val 40568"/>
            </a:avLst>
          </a:prstGeom>
          <a:solidFill>
            <a:srgbClr val="c0c0c0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125800" y="3284640"/>
            <a:ext cx="71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TBP丸ｺﾞｼｯｸR"/>
              </a:rPr>
              <a:t>読み込み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332000" y="242100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408720" y="3141720"/>
            <a:ext cx="934920" cy="576360"/>
          </a:xfrm>
          <a:prstGeom prst="rightArrow">
            <a:avLst>
              <a:gd name="adj1" fmla="val 50000"/>
              <a:gd name="adj2" fmla="val 40553"/>
            </a:avLst>
          </a:prstGeom>
          <a:solidFill>
            <a:srgbClr val="c0c0c0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81800" y="3284640"/>
            <a:ext cx="719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TBP丸ｺﾞｼｯｸR"/>
              </a:rPr>
              <a:t>書き出し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264360" y="4905360"/>
            <a:ext cx="25192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・すぐに使えるソースコード</a:t>
            </a:r>
            <a:br>
              <a:rPr sz="1400"/>
            </a:br>
            <a:r>
              <a:rPr b="0" lang="zh-CN" sz="14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・実行時ライブラリ不要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440000" y="2529000"/>
            <a:ext cx="50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TBP丸ｺﾞｼｯｸR"/>
              </a:rPr>
              <a:t>記入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16360" y="4941720"/>
            <a:ext cx="180036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容易なインストール</a:t>
            </a:r>
            <a:br>
              <a:rPr sz="1400"/>
            </a:br>
            <a:r>
              <a:rPr b="0" lang="zh-CN" sz="14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および実行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380360" y="1160640"/>
            <a:ext cx="1150920" cy="1079280"/>
          </a:xfrm>
          <a:prstGeom prst="wedgeRectCallout">
            <a:avLst>
              <a:gd name="adj1" fmla="val -18138"/>
              <a:gd name="adj2" fmla="val 87648"/>
            </a:avLst>
          </a:prstGeom>
          <a:solidFill>
            <a:srgbClr val="ffffff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S UI Gothic"/>
                <a:ea typeface="MS UI Gothic"/>
              </a:rPr>
              <a:t>Jav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S UI Gothic"/>
                <a:ea typeface="MS UI Gothic"/>
              </a:rPr>
              <a:t>C#.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S UI Gothic"/>
                <a:ea typeface="MS UI Gothic"/>
              </a:rPr>
              <a:t>JavaScri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S UI Gothic"/>
                <a:ea typeface="MS UI Gothic"/>
              </a:rPr>
              <a:t>VB.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S UI Gothic"/>
                <a:ea typeface="MS UI Gothic"/>
              </a:rPr>
              <a:t>PH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20720" y="4976640"/>
            <a:ext cx="208764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表計算ソフトを使って</a:t>
            </a:r>
            <a:br>
              <a:rPr sz="1400"/>
            </a:br>
            <a:r>
              <a:rPr b="0" lang="zh-CN" sz="14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記入するだけ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55640" y="498600"/>
            <a:ext cx="54720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 Black"/>
                <a:ea typeface="TBP丸ｺﾞｼｯｸR"/>
              </a:rPr>
              <a:t>blanco Framework</a:t>
            </a:r>
            <a:r>
              <a:rPr b="0" lang="ja-JP" sz="2800" spc="-1" strike="noStrike">
                <a:solidFill>
                  <a:srgbClr val="000000"/>
                </a:solidFill>
                <a:latin typeface="TBP丸ｺﾞｼｯｸR"/>
                <a:ea typeface="TBP丸ｺﾞｼｯｸR"/>
              </a:rPr>
              <a:t> </a:t>
            </a:r>
            <a:r>
              <a:rPr b="0" lang="ja-JP" sz="2800" spc="-1" strike="noStrike">
                <a:solidFill>
                  <a:srgbClr val="000000"/>
                </a:solidFill>
                <a:latin typeface="TBP丸ｺﾞｼｯｸR"/>
                <a:ea typeface="TBP丸ｺﾞｼｯｸR"/>
              </a:rPr>
              <a:t>動作原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512640"/>
            <a:ext cx="179280" cy="35892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55640" y="1951200"/>
            <a:ext cx="1295280" cy="14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Century Gothic"/>
              </a:rPr>
              <a:t>Excel / OpenOff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564000" y="3860640"/>
            <a:ext cx="2232000" cy="505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564000" y="2563920"/>
            <a:ext cx="2232000" cy="504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708360" y="4003560"/>
            <a:ext cx="1944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entury Gothic"/>
              </a:rPr>
              <a:t>Java</a:t>
            </a:r>
            <a:r>
              <a:rPr b="1" lang="zh-CN" sz="1300" spc="-1" strike="noStrike">
                <a:solidFill>
                  <a:srgbClr val="000000"/>
                </a:solidFill>
                <a:latin typeface="Century Gothic"/>
              </a:rPr>
              <a:t>実行環境 </a:t>
            </a:r>
            <a:r>
              <a:rPr b="1" lang="en-US" sz="1300" spc="-1" strike="noStrike">
                <a:solidFill>
                  <a:srgbClr val="000000"/>
                </a:solidFill>
                <a:latin typeface="Century Gothic"/>
              </a:rPr>
              <a:t>1.4.2</a:t>
            </a:r>
            <a:r>
              <a:rPr b="1" lang="zh-CN" sz="1300" spc="-1" strike="noStrike">
                <a:solidFill>
                  <a:srgbClr val="000000"/>
                </a:solidFill>
                <a:latin typeface="Century Gothic"/>
              </a:rPr>
              <a:t>以降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708360" y="2706840"/>
            <a:ext cx="1944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Century Gothic"/>
              </a:rPr>
              <a:t>JExcelApi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564000" y="1916280"/>
            <a:ext cx="2232000" cy="504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08360" y="2058840"/>
            <a:ext cx="1944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Century Gothic"/>
              </a:rPr>
              <a:t>blanco</a:t>
            </a:r>
            <a:r>
              <a:rPr b="1" lang="ja-JP" sz="1300" spc="-1" strike="noStrike">
                <a:solidFill>
                  <a:srgbClr val="000000"/>
                </a:solidFill>
                <a:latin typeface="Century Gothic"/>
              </a:rPr>
              <a:t>＊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274920" y="3211560"/>
            <a:ext cx="1368360" cy="504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714920" y="3211560"/>
            <a:ext cx="1368360" cy="504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419640" y="3354480"/>
            <a:ext cx="1079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entury Gothic"/>
              </a:rPr>
              <a:t>Apache An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859280" y="3354480"/>
            <a:ext cx="1079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entury Gothic"/>
              </a:rPr>
              <a:t>Eclips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55640" y="3068640"/>
            <a:ext cx="1152360" cy="720720"/>
          </a:xfrm>
          <a:prstGeom prst="flowChartDocument">
            <a:avLst/>
          </a:prstGeom>
          <a:solidFill>
            <a:srgbClr val="c3ffe7">
              <a:alpha val="60000"/>
            </a:srgbClr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定義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（</a:t>
            </a:r>
            <a:r>
              <a:rPr b="0" lang="en-US" sz="9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XLS</a:t>
            </a:r>
            <a:r>
              <a:rPr b="0" lang="zh-CN" sz="9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ファイル）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2693D-07B9-41A7-B98F-0D6DB6BA6BB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4T07:32:30Z</dcterms:created>
  <dc:creator/>
  <dc:description/>
  <dc:language>en-US</dc:language>
  <cp:lastModifiedBy>ｎｂｂ</cp:lastModifiedBy>
  <dcterms:modified xsi:type="dcterms:W3CDTF">2007-03-16T02:15:57Z</dcterms:modified>
  <cp:revision>219</cp:revision>
  <dc:subject/>
  <dc:title>blanco Framework　システム構成</dc:title>
</cp:coreProperties>
</file>