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0DD10-7B5C-450E-BF44-DC3C90B88C0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2B8-BD51-4782-8F4D-79DF00BC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A727-D2AD-44B3-BB18-1E483F16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BF38-61EF-4EB6-8E31-CBE6751A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F40-4522-4C4D-9241-78119601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9C56-DFB8-47E2-A377-C725796A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6EAB-F85B-4747-B649-59A6B20E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2839-8DD9-4E67-B6E2-4696BE90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51C8-F218-427C-8424-9C210057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999C-DEC2-4B6E-8FDA-E9CCDDB4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432A-1E9E-490D-96C3-A2D78B47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6D56-44E9-4C1A-BBE9-CB19D1C3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51B-5419-4766-AC94-179CDA14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515E-6C56-44FE-8C25-274B64ED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1289-AD84-4961-8263-B9B20CE1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CE56-D352-4BCB-ADC6-A0A714C5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E5FA-3C49-401F-8C42-46BA3977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B1C5-A40E-49E2-A958-F1166BFB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504-1D4F-4B19-B2CD-C30EC875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137-09AD-4063-8A7D-FAD7995B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E81-5FAC-437E-808A-6B8EB512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01BA-88EE-48EC-983E-D4D73873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112-FC4A-4ABF-BFCA-A2D02D1F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EBA1-C1D1-49C4-9D50-6246D0E1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48CC-23F4-4C16-9C15-41E15964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7AD23-C760-493C-8CE0-43CAC91C1ACA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8BED57-69C7-4EED-A78F-B855FCAF05A1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054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OF 2006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ju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西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UNIX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研究会 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816D-7BAA-464F-9165-5566E03A9B8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設計理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よりどこ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風味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レームワー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が欲し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84760" y="144360"/>
            <a:ext cx="47196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特に意識している「定理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スモール・イズ・ビューティフル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小さいものは美し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一つのプログラムには一つのことをうまくやらせ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早く試作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効率より移植性を優先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フトウェアを梃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て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して使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過度の対話的インタフェースを避け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すべてのプログラムをフィルタとして設計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1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モール・イズ・ビューティフル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小さいものは美しい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シンプ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オブジェクト指向を使わな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すぐに使うことができるよう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 , tail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コマンドなどを参考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自動生成されたソースコードの実行時ライブラリを不要に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2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一つのプログラムには一つのことをうまくやらせ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機能を減ら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l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を見ただけで仕様が連想できるよう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各プロダクトは互いに疎結合に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3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できるだけ早く試作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にかく試作してみ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4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効率より移植性を優先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複数プログラミング言語のソースコード自動生成を実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最初は リファレンス実装を実現してい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6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フトウェアを梃子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てこ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して使う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ユーザが指定する必要のある項目を極力減ら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梃子の原理により、必要な入力項目を自動収集してしま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blancoDb: JDBC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ライバ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文を試し打ちすることにより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文のメタ情報をデータベースから取得する。検索結果の列名や型情報をメタ情報から取得することにより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Objec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やマッピングのようなことも自動収集で済ませてしまう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8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過度の対話的インタフェースを避け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ache Ant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または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プラグインによる「寡黙な」インタフェー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小さなプロダクトの集合体による開発フレームワー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9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すべてのプログラムをフィルタとして設計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ィルタ処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バッチ処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して実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表計算形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*.xls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に変換するフィルタ処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: 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からソースコードを自動生成するフィルタ処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D7B6-255B-40D9-AA8B-8DCCBEB42EB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「さらなる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10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UNIX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考え方」か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部分の総和は全体よりも大き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パーセントの解を目指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劣るほうが優れてい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具体的な 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ロダクト群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-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マッピングという考え方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ava / C#.NET / JavaScript / VB.NET / PHP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244-26F5-4784-AC69-D113EDA2D91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983-7F04-4931-ACEA-A4C0BE011E5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8000" y="35002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51280" y="3357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149720"/>
            <a:ext cx="799308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rc 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編集不要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ﾄﾘｯｸ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ce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 Anywhe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5298-13EE-4F87-85EA-592FABDE9694}" type="slidenum">
              <a:t>73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6-11-15T08:50:39Z</dcterms:modified>
  <cp:revision>465</cp:revision>
  <dc:subject/>
  <dc:title>blanco Framework ご紹介</dc:title>
</cp:coreProperties>
</file>