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05849"/>
        <c:axId val="62826562"/>
      </c:barChart>
      <c:catAx>
        <c:axId val="55105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26562"/>
        <c:crosses val="autoZero"/>
        <c:auto val="1"/>
        <c:lblAlgn val="ctr"/>
        <c:lblOffset val="100"/>
        <c:noMultiLvlLbl val="0"/>
      </c:catAx>
      <c:valAx>
        <c:axId val="62826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05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F68-9144-4A37-820A-797E4F58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9D6-49D3-433B-BC9C-25B0ABBC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2F5-B835-4EFC-866E-F39F3AEC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4EC-D40C-42C1-9695-7BEDA6C2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CC6-F9C2-4420-963C-7DF29E08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2EB-7FB8-492E-A6ED-053F2EA6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B4B-8657-43F4-B122-F5C0DF2B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4E4-9C95-4883-8648-F6CF71F9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0DA-A871-4C27-848C-2909EBF6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86E-956A-4767-9598-BA550FC3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923-34A6-40C1-B801-E6C0F80E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7FD-881A-49A6-A14D-AEC21E60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8ACDD-5311-4A5E-A12E-A9A8EE0BD6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