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50070"/>
        <c:axId val="8243713"/>
      </c:barChart>
      <c:catAx>
        <c:axId val="77250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3713"/>
        <c:crosses val="autoZero"/>
        <c:auto val="1"/>
        <c:lblAlgn val="ctr"/>
        <c:lblOffset val="100"/>
        <c:noMultiLvlLbl val="0"/>
      </c:catAx>
      <c:valAx>
        <c:axId val="8243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50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B4F-A874-455F-9C71-9BC7BF10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7704-B27F-466A-A1C4-A6C45195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64F-DCE4-4E1F-B2D2-3759501F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927-57AD-4B1B-A37C-03461C31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3A5-AE2C-4F48-955D-1B54861E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7D0-0547-4B7B-B133-0038834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691-9523-4B6B-B4B5-C0B7EA7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A340-A723-41AD-B037-79670A5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238-0223-44E6-92E0-045C3CF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78A-4E96-4A23-877A-D37F50CA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83A-F67E-4C25-A9ED-1D6A925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A13-5E4C-4822-B35B-2750C64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967E6-833E-493C-B153-778BB432ED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