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9884"/>
        <c:axId val="13987582"/>
      </c:barChart>
      <c:catAx>
        <c:axId val="171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7582"/>
        <c:crosses val="autoZero"/>
        <c:auto val="1"/>
        <c:lblAlgn val="ctr"/>
        <c:lblOffset val="100"/>
        <c:noMultiLvlLbl val="0"/>
      </c:catAx>
      <c:valAx>
        <c:axId val="13987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29D-81EF-4B8D-BF53-0FA6BBE5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FB0-BC1C-4B3C-82DE-72F0D24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C50-7605-4C6D-B8FA-2A6F3145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425-FEF0-440A-A686-B6897972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045-8330-4626-8875-89A5862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095-888D-401B-B03F-A75CD2C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DAF-D747-4EDE-9439-2AB5B0E9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9E0-ED4F-463E-8950-FF1C5294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245-00B6-4A3A-AF11-C5048BA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851-A0E4-454D-87EF-9553510F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1BD-417E-48AC-B952-DF1D8D3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868-7528-4E61-8995-54CC1DB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5CFF-737B-442B-A6BA-96D6BFBAE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