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54425"/>
        <c:axId val="20841393"/>
      </c:barChart>
      <c:catAx>
        <c:axId val="85654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41393"/>
        <c:crosses val="autoZero"/>
        <c:auto val="1"/>
        <c:lblAlgn val="ctr"/>
        <c:lblOffset val="100"/>
        <c:noMultiLvlLbl val="0"/>
      </c:catAx>
      <c:valAx>
        <c:axId val="20841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54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B88-CCE1-4B5C-8C0F-D49543CF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2CE-492E-4564-8EB1-3397918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C1A-FC68-4702-8CC2-4C5F7917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62F-9622-4962-AB63-7EB5055F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717-FDB3-4D89-9853-A341D23C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D5F-0C5C-4025-8DAD-45202407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D9C-F558-4AAE-8C47-2DFFE129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96B-1149-485B-B41F-6B64F0C2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638-493E-494A-A83E-9587E475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713-E480-449B-A3AF-E1622D66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438-4C2B-496F-B8A6-393E892F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426-9A02-4D14-BA81-AC30F34D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A1AEC-341B-4C85-B759-E6675BD7B4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