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06166"/>
        <c:axId val="21264717"/>
      </c:barChart>
      <c:catAx>
        <c:axId val="78506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64717"/>
        <c:crosses val="autoZero"/>
        <c:auto val="1"/>
        <c:lblAlgn val="ctr"/>
        <c:lblOffset val="100"/>
        <c:noMultiLvlLbl val="0"/>
      </c:catAx>
      <c:valAx>
        <c:axId val="21264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06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30F-F29B-4604-B690-C0D88AFC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731-04F9-44F9-B546-DEB7DF56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E3B-1C45-40B5-9E92-A11F15E5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D23-184C-41C2-9FB1-5B8459BB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A21-78A8-4065-BA45-A2BC84A9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A51-C6E0-4A60-956D-3CE5140C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4EC-6831-4ED5-96DE-06587F5E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3F3-6A9F-498D-BB8C-A5162D09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62E-8B0E-4715-93C6-BEE5E760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705-8A72-400E-9A8E-D4D211FC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24A-D22E-4D20-87CD-FF985196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32BE-C791-45DC-8E15-24465E3D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AF0AE-3B59-4022-9899-1763B8F0F4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