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50903"/>
        <c:axId val="15494210"/>
      </c:barChart>
      <c:catAx>
        <c:axId val="84050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94210"/>
        <c:crosses val="autoZero"/>
        <c:auto val="1"/>
        <c:lblAlgn val="ctr"/>
        <c:lblOffset val="100"/>
        <c:noMultiLvlLbl val="0"/>
      </c:catAx>
      <c:valAx>
        <c:axId val="15494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0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E66-38F5-4732-9837-09693CA4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24F-2F03-4BF6-90D2-1B3151BD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B7C-97E1-4E1B-B911-44558C04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219-DD03-49FF-83DF-752F8738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93C-2939-47CF-92B6-04CBDFD6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C34-C351-4C0E-9D47-765EABC2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E80-E99B-45DE-84F6-09AEAC23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2E1-4E7B-4C1A-AF09-DE97382F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5D5-15E4-4D2F-A83D-E20EA302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DA7-2A61-4738-B96A-871266B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4A1-AEDA-4235-8A6A-A5ACF39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9BF-9BAF-47F1-9CEB-972CC427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E9F71-CBD2-4C7C-8928-E1E9D6FAA0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