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14039"/>
        <c:axId val="18424274"/>
      </c:barChart>
      <c:catAx>
        <c:axId val="14214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24274"/>
        <c:crosses val="autoZero"/>
        <c:auto val="1"/>
        <c:lblAlgn val="ctr"/>
        <c:lblOffset val="100"/>
        <c:noMultiLvlLbl val="0"/>
      </c:catAx>
      <c:valAx>
        <c:axId val="18424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14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3B5-7204-4A68-B8DC-5D177F3D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1A3-DD36-4E5B-8598-386E56AB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4AD-86E6-4D1B-88C9-62708119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9D2-7A8E-49EB-A17C-3B3F0761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6C0-F711-4AFF-9494-6270453F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B38A-CB85-4624-A78D-CEF30AC4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946-122A-4C7C-B04A-C3FCE218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DBE-6FFA-4ED1-8E62-9E4C55FC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6D4-0C81-4ECE-A025-1BD925A3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BCE-EC9D-4009-B109-FA549E3D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3CE-9927-48A2-9881-618E7BF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36B-4918-4D2E-B577-2ACB4D3C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F4BE9-074F-4764-87AD-8CEB9C24F0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