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994851"/>
        <c:axId val="51912519"/>
      </c:barChart>
      <c:catAx>
        <c:axId val="749948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12519"/>
        <c:crosses val="autoZero"/>
        <c:auto val="1"/>
        <c:lblAlgn val="ctr"/>
        <c:lblOffset val="100"/>
        <c:noMultiLvlLbl val="0"/>
      </c:catAx>
      <c:valAx>
        <c:axId val="519125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948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1C71-2C3C-45F3-AB5B-66124B590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9BA9-AF26-430A-AAC6-1157A2C9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EF96-0C24-4655-AD91-0BA3559B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F050-CDD9-4EC4-836E-CC0B5F62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CF6-2365-4E33-9683-5ABF5AC98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5CED-31B9-46C2-A144-194FDCFC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9BB-4B60-4C4F-862B-FBE46707C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1DE0-1387-4D4C-8081-C1091762A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EBDF-8A97-48F1-91A8-3625A38E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624D-5F7C-448C-83AC-A580BD460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8A97-C569-4AC3-9F8F-7297017A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3919-8F6C-486A-AE0D-A179251D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87FAD-C9FB-4DB2-8527-5D72C5B038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