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11264"/>
        <c:axId val="36068847"/>
      </c:barChart>
      <c:catAx>
        <c:axId val="74111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68847"/>
        <c:crosses val="autoZero"/>
        <c:auto val="1"/>
        <c:lblAlgn val="ctr"/>
        <c:lblOffset val="100"/>
        <c:noMultiLvlLbl val="0"/>
      </c:catAx>
      <c:valAx>
        <c:axId val="36068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1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9C5-73C0-402E-8B22-126B9CB1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F98-0A57-4B70-9E70-0BBC019D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4FB-4F47-40C1-B6F9-677FD6A2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C5A-BB48-413C-9E50-71BD75D1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F72-6C4F-4485-B68E-E0D18B62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59A-09D5-44A4-AA56-F8249F4F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910-7020-4AFF-B841-D80323A7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29D-E9A5-44F8-BCA2-3AFD107C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A34-D6D6-4456-9B98-072EEAED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505-0C58-4C1B-A5C1-7C5A807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B36-53BA-4900-B201-90CF2B1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7F2-3C0F-4659-988B-F90959E6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FE1F3-F84D-4681-B662-FF7E446E98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