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002910"/>
        <c:axId val="2718357"/>
      </c:barChart>
      <c:catAx>
        <c:axId val="980029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18357"/>
        <c:crosses val="autoZero"/>
        <c:auto val="1"/>
        <c:lblAlgn val="ctr"/>
        <c:lblOffset val="100"/>
        <c:noMultiLvlLbl val="0"/>
      </c:catAx>
      <c:valAx>
        <c:axId val="27183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0029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083C-C03A-4F21-B696-23F5C9D65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5473-C298-4EDB-90DB-3FC09D8BF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5781-C548-40C2-9ED2-55164211E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05ED-E1A1-42B8-925E-B2CDEB9FA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AC08-B582-4D32-8CB4-D92DC7D4F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BAC0-2C19-4347-BA0C-3E77D375C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6445-0032-43F0-AC10-2233C1A7F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715D-9EBA-47E4-9DB0-E4B7A6126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E2CB-9A76-4368-B2A3-CC37A1533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FE31-A239-45C3-8002-D22D5D8C7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F27A-C638-4299-A36A-E509974E5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72B5-0A33-4B30-8D09-FECD10D6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9692B3-3D77-4890-A952-C0F4D1D5137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