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21418"/>
        <c:axId val="15105497"/>
      </c:barChart>
      <c:catAx>
        <c:axId val="64221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05497"/>
        <c:crosses val="autoZero"/>
        <c:auto val="1"/>
        <c:lblAlgn val="ctr"/>
        <c:lblOffset val="100"/>
        <c:noMultiLvlLbl val="0"/>
      </c:catAx>
      <c:valAx>
        <c:axId val="15105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21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BEE-2857-4AB9-B90A-621F4505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1DA-7207-42C6-A47E-97DFFD58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DAD-8CF2-445F-BBE9-DADFF035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D60-E9E5-4F19-95A5-47CBE9C4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149-6E03-4863-960B-11BB018F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5C0-81D7-427F-AF86-1BD7759D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2D6-48DD-4CD4-AC79-765DBD85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B6D-52E3-406D-B9C2-D73CCF9F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18A-961E-4C6C-9C68-E7FC9001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508-D461-4E6A-9579-B24C88A6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D75-030F-48EF-AD10-A0B31E2E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93B-0A00-4753-9A12-885F2125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EE27B-EA6C-4128-A08E-FA5E1785AC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