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10061"/>
        <c:axId val="27527044"/>
      </c:barChart>
      <c:catAx>
        <c:axId val="2671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27044"/>
        <c:crosses val="autoZero"/>
        <c:auto val="1"/>
        <c:lblAlgn val="ctr"/>
        <c:lblOffset val="100"/>
        <c:noMultiLvlLbl val="0"/>
      </c:catAx>
      <c:valAx>
        <c:axId val="27527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1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B96-78D1-48F0-82DD-265D1C96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DBC-331E-437A-977A-B0513D39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232-598F-4BC5-B6A8-1C410FCC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4BE-198D-49C4-BB41-40E2C537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A2F-BE71-44D8-890E-9A9966E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494-EB43-479B-A128-C91972CA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167-0BBB-4478-B3B3-47233994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95C-8E2B-4F42-9D33-F6C01BF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12D-AB27-4CD3-933A-B84CE82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8A1-5EAA-4FB8-9E15-A54564A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801-3B35-4306-8981-EB6A87D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BB5-4DA3-4F71-B5F1-701A8A4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5DBC8-7FAC-404F-A469-0895B96F3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