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68293"/>
        <c:axId val="72681503"/>
      </c:barChart>
      <c:catAx>
        <c:axId val="93668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81503"/>
        <c:crosses val="autoZero"/>
        <c:auto val="1"/>
        <c:lblAlgn val="ctr"/>
        <c:lblOffset val="100"/>
        <c:noMultiLvlLbl val="0"/>
      </c:catAx>
      <c:valAx>
        <c:axId val="72681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68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A0B-E558-42E7-AE8C-78ED0C36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5AD-CC78-480F-913F-7C2822DE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2C2-AE24-4AD3-BF89-476CC297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5B0-5715-4906-B4EB-80FC05BF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5F1-064B-459E-8486-171E548C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452-6D85-49C4-B6C1-A268229D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8D0-CA02-481B-BB83-9DF3F02B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10C-0719-4624-BE03-C5CF7D68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51D-D3DE-4050-805B-59A35CB0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FFB-68D4-49C9-90D8-15840BB7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427-A258-43CD-A651-8456A637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B24-407D-4C6B-B4A2-BB342DF7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ECB2D-FC33-41B7-ACB8-9C19EDA2AA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