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58244"/>
        <c:axId val="66420871"/>
      </c:barChart>
      <c:catAx>
        <c:axId val="94558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20871"/>
        <c:crosses val="autoZero"/>
        <c:auto val="1"/>
        <c:lblAlgn val="ctr"/>
        <c:lblOffset val="100"/>
        <c:noMultiLvlLbl val="0"/>
      </c:catAx>
      <c:valAx>
        <c:axId val="66420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8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A86-F5B7-4A46-A5F1-F9D8B33C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78D-4973-4576-83FC-60258D11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BE3-6562-472C-A97C-F38B0C9F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73C-7095-47A1-92E6-D8290B19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113-8686-494B-954A-4C53776E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22E-08B2-4F14-95B3-2E9E2D89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BB6-91A3-453C-BE9B-2B8A15A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E3A-D123-40F7-8BA4-65DDAC75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671-489E-4DCE-B8C8-2A8CF665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7A2-B61F-4FB4-B5C2-ED7223F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061-1975-449D-A9A6-FD91A536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099-6D77-4C06-B412-9150826D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CBDA9-B2F0-466E-926F-0A927F078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