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781027"/>
        <c:axId val="657003"/>
      </c:barChart>
      <c:catAx>
        <c:axId val="267810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003"/>
        <c:crosses val="autoZero"/>
        <c:auto val="1"/>
        <c:lblAlgn val="ctr"/>
        <c:lblOffset val="100"/>
        <c:noMultiLvlLbl val="0"/>
      </c:catAx>
      <c:valAx>
        <c:axId val="6570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810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38D1-3218-473B-96B1-FEDE25895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6149-89E2-4B88-87AC-9D26DF68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16C4-E9D2-4975-A5F2-5153AD596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64BC-814E-430D-8FD1-5B10E4632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4B37-4E05-4BD8-AAAA-6F238D64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D524-1B05-4854-8225-4005845B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6117-6568-4E3D-B2E1-4D74094E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E786-CBAF-4EBB-8E7F-62F0CA6D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55BF-0EFA-4AAA-9921-00FA292F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776A-C51B-4B42-9E08-402D6B9A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ADEA-D650-4704-BF29-860ECB6E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A6B5-1AC3-4DE9-AEA2-1696479E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91F5E-8DCD-48C1-961E-E97B649C60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