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31154"/>
        <c:axId val="77541168"/>
      </c:barChart>
      <c:catAx>
        <c:axId val="44631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41168"/>
        <c:crosses val="autoZero"/>
        <c:auto val="1"/>
        <c:lblAlgn val="ctr"/>
        <c:lblOffset val="100"/>
        <c:noMultiLvlLbl val="0"/>
      </c:catAx>
      <c:valAx>
        <c:axId val="77541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31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47E-7F53-40E8-8759-0A1A9BFD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5CE-6D88-45FF-8B18-5E9776C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E76-12DE-4B89-BDF2-300AE897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7A3-8FDD-493D-A557-B64CB006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BA2-FDAB-4E53-B999-7A6BBD56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0DE-A0F7-4A37-A35D-79E7937F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E7E-87E6-4546-8F00-E7563F3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791-F062-49D7-8636-3E468C8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8D9-8C96-4BA6-8330-208EA5EA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A1D-BE5A-489D-8AAF-5DF2E65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9FA-842C-4ACF-8692-F935F48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C83-032B-41BB-B983-7C38EEFA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6E17D-C554-48BA-9DE2-9BA3EB7AA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