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54817"/>
        <c:axId val="78992707"/>
      </c:barChart>
      <c:catAx>
        <c:axId val="78054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2707"/>
        <c:crosses val="autoZero"/>
        <c:auto val="1"/>
        <c:lblAlgn val="ctr"/>
        <c:lblOffset val="100"/>
        <c:noMultiLvlLbl val="0"/>
      </c:catAx>
      <c:valAx>
        <c:axId val="78992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54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B5D-95E5-4491-950C-9FDD0954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7B7-CD0F-4088-9CE5-6B81D041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854-486E-4776-8E01-5232F1CE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057-3DE9-493F-98BA-B65D7DB5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442-66BB-4F6A-BCA3-0F59DBF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230-58DA-42C7-83E1-AD38B17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DFB-F1E6-497F-A5E5-B5DECB8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02C-D362-4C61-ADB4-B71D824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D0B-F87B-454C-8EC5-9A5B4502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5A3-1710-4A0D-93DC-6F2F604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B3E-F0D5-425C-B7C2-75CBE53C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D3C-A57C-4CE3-A1BB-B1881F3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64CBA-4762-4D51-90DF-45DB729D34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